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F3D3-3020-4217-8137-EA3E67941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ase of multi-participant events, the simulation software for each student would have to implement lobbying capabilities (the capability to insure that all participants are ready and start at the sa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unctions such and scheduling and finding other participants are not done while the simulator would even be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point is subtle:  The Current ADL standard allows sequencing to be specified independently of the content.  This powerful mechanism facilitates content reuse and allows the implicit pedagogical content embodied in the sequencing (such as the interdependencies among learning goals) to be expressed in a system independent way.  If the simulators mast take over experiential learning management, then each one would have to interpret the SCROM sequencing information and this information would have to be passed to the simulator someh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course some of the above information could be passed back between the LMS and the simulation through the SCO. But this is unnatural for information about multiple objectives which usually involves information outside and one SCO and it begs the whole question of which LMS to report what to when there are multiple participants (each with their own SC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ring didactic learning students tend to accomplish learning goals sequentially, in an order completely determined by the training system. In experiential training students tend to work toward many goals simultaneously and there own choices continually impact which goals they are being exposed to at any one moment.  In some cases student might even make choices that would cause them to miss being exposed to some goals all together during certain experiences. An experiential LMS must be able to cope with these contingencies whiel still providing information to the experience generator about what the student knows and needs to kn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lementing simulators as SCO’s may work well for “mini-simulations”, which tend to illustrate a single topic or point, but will cause tension for medium or large simulations which may involve multiple goals, participants and/or ses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ide) Typically, sharable objects (across simulations) might be graphical models, textures, maps or behavior scripts. They are not traditional SCO’s because they do not have objectives and they do not encapsulate a segment of user the experi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troduce wto term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ential Management System (EMS) is our term for a new server side ADL component which handles learning management for experiential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ence generator” is the simulation component that creates an experience for a particular learner.  These components would interact if there are multiple participants but we make no assertions about whether they are light weight or heavy weight; HLA based or not; or peers with each other or all clients to some central game or simul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how an RTE and an Experiential Manager could be integrated using a web services based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SCORM RTE and DARWARS are servers. This approach allows these two servers to act as peers using a web services (e.g. SOAP) interface. The RTE and DARWARS servers handle authentication of the user “behind the scenes”. The user (at the browser) is seamlessly able to access the services of both the RTE and DAR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dditional issues to solve in this integration, including definition of users and objectives. For a first pass, we make the simplifying assumption that the users and objectives are shared across both servers (I.e. a common set of users and objectives are defined in both the SCORM and DARWARS syst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BF79AF-F543-448E-9CAD-A4DD2706A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29B432-0F81-4FA9-9432-6DB78598EB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C3D8AA-61C0-4C34-95EC-7D6901A9EF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65E723-D71A-405C-82FA-CA7A27B31D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FC45B8-FCA1-47A8-8CD2-7BC4DEA0D3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8C7EE5-7F6C-452F-9D53-6557F549CD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12266F-198E-4876-A7F3-DA8290E362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92EA15-BF23-4372-9211-72421E1665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38876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424DFE-530F-4404-BEB1-657E4B0E3D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A4ECA-19C1-413D-B0AB-2E9D9C7B95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B2B151-8C16-4697-9CD6-C69F28D52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B6468-3DED-4155-80A5-C25584365D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0" y="914400"/>
            <a:ext cx="9144000" cy="0"/>
          </a:xfrm>
          <a:prstGeom prst="line">
            <a:avLst/>
          </a:prstGeom>
          <a:ln w="38160">
            <a:solidFill>
              <a:srgbClr val="9b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ftr" idx="1"/>
          </p:nvPr>
        </p:nvSpPr>
        <p:spPr>
          <a:xfrm>
            <a:off x="304560" y="6248520"/>
            <a:ext cx="1981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753F-EC86-4CDF-AB28-2825CFD1B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1486080" cy="2146320"/>
          </a:xfrm>
          <a:prstGeom prst="rect">
            <a:avLst/>
          </a:prstGeom>
          <a:ln w="0">
            <a:noFill/>
          </a:ln>
        </p:spPr>
      </p:pic>
      <p:pic>
        <p:nvPicPr>
          <p:cNvPr id="6" name="" descr=""/>
          <p:cNvPicPr/>
          <p:nvPr/>
        </p:nvPicPr>
        <p:blipFill>
          <a:blip r:embed="rId3"/>
          <a:stretch/>
        </p:blipFill>
        <p:spPr>
          <a:xfrm>
            <a:off x="76320" y="130320"/>
            <a:ext cx="761760" cy="47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A View From a SCORM Immigrant </a:t>
            </a:r>
            <a:br>
              <a:rPr sz="3600"/>
            </a:br>
            <a:endParaRPr b="0"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ebruary 2-3, 2006</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2" name="" descr=""/>
          <p:cNvPicPr/>
          <p:nvPr/>
        </p:nvPicPr>
        <p:blipFill>
          <a:blip r:embed="rId1"/>
          <a:stretch/>
        </p:blipFill>
        <p:spPr>
          <a:xfrm>
            <a:off x="0" y="0"/>
            <a:ext cx="3111480" cy="4343400"/>
          </a:xfrm>
          <a:prstGeom prst="rect">
            <a:avLst/>
          </a:prstGeom>
          <a:ln w="0">
            <a:noFill/>
          </a:ln>
        </p:spPr>
      </p:pic>
      <p:pic>
        <p:nvPicPr>
          <p:cNvPr id="53" name="" descr=""/>
          <p:cNvPicPr/>
          <p:nvPr/>
        </p:nvPicPr>
        <p:blipFill>
          <a:blip r:embed="rId2"/>
          <a:stretch/>
        </p:blipFill>
        <p:spPr>
          <a:xfrm>
            <a:off x="7391520" y="5867280"/>
            <a:ext cx="1143000" cy="720720"/>
          </a:xfrm>
          <a:prstGeom prst="rect">
            <a:avLst/>
          </a:prstGeom>
          <a:ln w="0">
            <a:noFill/>
          </a:ln>
        </p:spPr>
      </p:pic>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4504932E-B0ED-4FD3-93C1-4E7A6A1421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a:t>
            </a:r>
            <a:endParaRPr b="0" lang="en-US" sz="3600" spc="-1" strike="noStrike">
              <a:solidFill>
                <a:srgbClr val="000000"/>
              </a:solidFill>
              <a:latin typeface="Arial"/>
            </a:endParaRPr>
          </a:p>
        </p:txBody>
      </p:sp>
      <p:sp>
        <p:nvSpPr>
          <p:cNvPr id="9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nding the LMS Mission to cover experiential training my best be accomplished by the introduction of a new Experience Management System component.</a:t>
            </a:r>
            <a:endParaRPr b="0" lang="en-US" sz="26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ply implementing Experience generators as SCOs may lead to impoverished Learning Management capabilities for experiential training.</a:t>
            </a:r>
            <a:endParaRPr b="0" lang="en-US" sz="26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RWARS Core is an example EM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63745F5B-84B9-47D4-95A7-D1A59D12399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 Conundrum</a:t>
            </a:r>
            <a:endParaRPr b="0" lang="en-US" sz="3600" spc="-1" strike="noStrike">
              <a:solidFill>
                <a:srgbClr val="000000"/>
              </a:solidFill>
              <a:latin typeface="Arial"/>
            </a:endParaRPr>
          </a:p>
        </p:txBody>
      </p:sp>
      <p:sp>
        <p:nvSpPr>
          <p:cNvPr id="5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xperiential training requires fundamentally new Learning Management functionality.</a:t>
            </a:r>
            <a:endParaRPr b="0" lang="en-US" sz="26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ient software beyond browser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ltiple participants</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oup performan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ltiple, simultaneously active learning goals</a:t>
            </a:r>
            <a:endParaRPr b="0" lang="en-US" sz="24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 SCORM LMS is well defined and covered by moderately mature standards.</a:t>
            </a:r>
            <a:endParaRPr b="0" lang="en-US" sz="2600" spc="-1" strike="noStrike">
              <a:solidFill>
                <a:srgbClr val="000000"/>
              </a:solidFill>
              <a:latin typeface="Arial"/>
            </a:endParaRPr>
          </a:p>
          <a:p>
            <a:pPr lvl="4" marL="20160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ow can ADL technology be extended to cover experiential training without a radical increase in the complexity of the standard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C51B6564-63F3-4EAC-A682-C27E3705DE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5104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atic Candidate Solutions</a:t>
            </a:r>
            <a:endParaRPr b="0" lang="en-US" sz="3600" spc="-1" strike="noStrike">
              <a:solidFill>
                <a:srgbClr val="000000"/>
              </a:solidFill>
              <a:latin typeface="Arial"/>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uggest that either (or both) of the following  approaches have serious shortcomings:</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experiential LMS functionality in the simul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 the simulator as a SCO</a:t>
            </a:r>
            <a:endParaRPr b="0" lang="en-US" sz="24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examine each of these option in the next two slid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A5064C84-AFC5-4194-A570-5993DB7386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381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support Experiential Learning</a:t>
            </a:r>
            <a:br>
              <a:rPr sz="2800"/>
            </a:br>
            <a:r>
              <a:rPr b="0" lang="en-US" sz="2800" spc="-1" strike="noStrike">
                <a:solidFill>
                  <a:srgbClr val="000000"/>
                </a:solidFill>
                <a:latin typeface="Arial"/>
              </a:rPr>
              <a:t>Management in the Simulator</a:t>
            </a:r>
            <a:endParaRPr b="0" lang="en-US" sz="2800" spc="-1" strike="noStrike">
              <a:solidFill>
                <a:srgbClr val="000000"/>
              </a:solidFill>
              <a:latin typeface="Arial"/>
            </a:endParaRPr>
          </a:p>
        </p:txBody>
      </p:sp>
      <p:sp>
        <p:nvSpPr>
          <p:cNvPr id="5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if “lobbying” could be handled by all of the simulation components, many other experiential LMS functions have a radically different lifecycle from that of the simulator. (I. e. functions like event management must be conducted when the simulator is not running).</a:t>
            </a:r>
            <a:endParaRPr b="0" lang="en-US" sz="2600" spc="-1" strike="noStrike">
              <a:solidFill>
                <a:srgbClr val="000000"/>
              </a:solidFill>
              <a:latin typeface="Arial"/>
            </a:endParaRPr>
          </a:p>
          <a:p>
            <a:pPr lvl="4" marL="189252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imulator would need the capability to translate ADL sequencing information (which would have to be passed to the simulator somehow) into its own multiple goals.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F08186CA-0B61-4E6C-97E1-BB7025D23E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Implement the Simulator as a SCO Creates a Bottleneck</a:t>
            </a:r>
            <a:endParaRPr b="0" lang="en-US" sz="2800" spc="-1" strike="noStrike">
              <a:solidFill>
                <a:srgbClr val="000000"/>
              </a:solidFill>
              <a:latin typeface="Arial"/>
            </a:endParaRPr>
          </a:p>
        </p:txBody>
      </p:sp>
      <p:sp>
        <p:nvSpPr>
          <p:cNvPr id="61"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gets stuck on the LMS side:</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the coordination of goals — sequencing</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gets stuck on the experiential side</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 information (who, what, whe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rrative gist of what occurr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ments which form the connection between the event and its After Action Review</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makes little sense to have an LMS so intimately involved with student experience in didactic mode and so little involved in experiential mo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ide) There are reusable objects across experiential systems but they are not SCORM SCOs (they tend to be objects which can be part of virtual realitie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54092439-74EB-4A51-8B0B-27020748C4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Workable Alternative</a:t>
            </a:r>
            <a:endParaRPr b="0" lang="en-US" sz="3600" spc="-1" strike="noStrike">
              <a:solidFill>
                <a:srgbClr val="000000"/>
              </a:solidFill>
              <a:latin typeface="Arial"/>
            </a:endParaRPr>
          </a:p>
        </p:txBody>
      </p:sp>
      <p:sp>
        <p:nvSpPr>
          <p:cNvPr id="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an Experience Management System (EMS) component that can work with an LMS (as a peer). This component would:</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 event scheduling</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the experience generators (simulator components) coordinate their activity</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te between the LMS and the experience generators about pedagogical information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lobbing functions for all learners</a:t>
            </a:r>
            <a:endParaRPr b="0" lang="en-US" sz="2000" spc="-1" strike="noStrike">
              <a:solidFill>
                <a:srgbClr val="000000"/>
              </a:solidFill>
              <a:latin typeface="Arial"/>
            </a:endParaRPr>
          </a:p>
          <a:p>
            <a:pPr lvl="4" marL="201600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tures of the EMS approach:</a:t>
            </a:r>
            <a:endParaRPr b="0" lang="en-US" sz="22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 impact on existing SCORM standard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rotocol for LMS/EMS interaction</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web services</a:t>
            </a:r>
            <a:endParaRPr b="0" lang="en-US" sz="18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for EMS/experience generator interaction</a:t>
            </a:r>
            <a:endParaRPr b="0" lang="en-US" sz="20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start/stop/checkpoint</a:t>
            </a:r>
            <a:endParaRPr b="0" lang="en-US" sz="1600" spc="-1" strike="noStrike">
              <a:solidFill>
                <a:srgbClr val="000000"/>
              </a:solidFill>
              <a:latin typeface="Arial"/>
            </a:endParaRPr>
          </a:p>
          <a:p>
            <a:pPr lvl="2" marL="1119960" indent="-2239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event/After Action Review coordination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0EFF8FC6-C5AF-4715-AC8B-329DDBFA6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ing the DARWARS Core </a:t>
            </a:r>
            <a:br>
              <a:rPr sz="2800"/>
            </a:br>
            <a:r>
              <a:rPr b="0" lang="en-US" sz="2800" spc="-1" strike="noStrike">
                <a:solidFill>
                  <a:srgbClr val="000000"/>
                </a:solidFill>
                <a:latin typeface="Arial"/>
              </a:rPr>
              <a:t>to be an example EMS</a:t>
            </a:r>
            <a:endParaRPr b="0" lang="en-US" sz="2800" spc="-1" strike="noStrike">
              <a:solidFill>
                <a:srgbClr val="000000"/>
              </a:solidFill>
              <a:latin typeface="Arial"/>
            </a:endParaRPr>
          </a:p>
        </p:txBody>
      </p:sp>
      <p:sp>
        <p:nvSpPr>
          <p:cNvPr id="6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re software system developed for the DARPA DARWARS program could serve (with modifications) as an example </a:t>
            </a:r>
            <a:r>
              <a:rPr b="0" i="1" lang="en-US" sz="2600" spc="-1" strike="noStrike">
                <a:solidFill>
                  <a:srgbClr val="000000"/>
                </a:solidFill>
                <a:latin typeface="Arial"/>
              </a:rPr>
              <a:t>Experience Management System</a:t>
            </a:r>
            <a:r>
              <a:rPr b="0" lang="en-US" sz="2600" spc="-1" strike="noStrike">
                <a:solidFill>
                  <a:srgbClr val="000000"/>
                </a:solidFill>
                <a:latin typeface="Arial"/>
              </a:rPr>
              <a:t>.</a:t>
            </a:r>
            <a:endParaRPr b="0" lang="en-US" sz="26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re currently handles event scheduling, lobbying and many pedagogical functions relating to objectives and measurements.</a:t>
            </a:r>
            <a:endParaRPr b="0" lang="en-US" sz="26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imple web services based interface between a SCORM RTE and the core would be easy to produc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CAD53FF2-8742-4328-968C-A0B6351DD1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85760" y="4869000"/>
            <a:ext cx="1692360" cy="1189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d new scormtype for DARWA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cify DARWARS server URL; define SCORM objective that matches DARWARS objective</a:t>
            </a:r>
            <a:endParaRPr b="0" lang="en-US" sz="1200" spc="-1" strike="noStrike">
              <a:solidFill>
                <a:srgbClr val="000000"/>
              </a:solidFill>
              <a:latin typeface="Times New Roman"/>
            </a:endParaRPr>
          </a:p>
        </p:txBody>
      </p:sp>
      <p:pic>
        <p:nvPicPr>
          <p:cNvPr id="67" name="" descr=""/>
          <p:cNvPicPr/>
          <p:nvPr/>
        </p:nvPicPr>
        <p:blipFill>
          <a:blip r:embed="rId1"/>
          <a:stretch/>
        </p:blipFill>
        <p:spPr>
          <a:xfrm>
            <a:off x="6611760" y="4164120"/>
            <a:ext cx="1346400" cy="1038240"/>
          </a:xfrm>
          <a:prstGeom prst="rect">
            <a:avLst/>
          </a:prstGeom>
          <a:ln w="0">
            <a:noFill/>
          </a:ln>
          <a:effectLst>
            <a:outerShdw dist="76367" dir="2700000" blurRad="0" rotWithShape="0">
              <a:srgbClr val="808080"/>
            </a:outerShdw>
          </a:effectLst>
        </p:spPr>
      </p:pic>
      <p:sp>
        <p:nvSpPr>
          <p:cNvPr id="68" name=""/>
          <p:cNvSpPr/>
          <p:nvPr/>
        </p:nvSpPr>
        <p:spPr>
          <a:xfrm>
            <a:off x="488880" y="4724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68120" y="4295880"/>
            <a:ext cx="1316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Import Cour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ifest, html, etc.)</a:t>
            </a:r>
            <a:endParaRPr b="0" lang="en-US" sz="1200" spc="-1" strike="noStrike">
              <a:solidFill>
                <a:srgbClr val="000000"/>
              </a:solidFill>
              <a:latin typeface="Times New Roman"/>
            </a:endParaRPr>
          </a:p>
        </p:txBody>
      </p:sp>
      <p:sp>
        <p:nvSpPr>
          <p:cNvPr id="70" name=""/>
          <p:cNvSpPr/>
          <p:nvPr/>
        </p:nvSpPr>
        <p:spPr>
          <a:xfrm flipH="1" flipV="1">
            <a:off x="1244160" y="2100240"/>
            <a:ext cx="965160" cy="247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90480" y="308124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Store URLs  (of html files)</a:t>
            </a:r>
            <a:endParaRPr b="0" lang="en-US" sz="1200" spc="-1" strike="noStrike">
              <a:solidFill>
                <a:srgbClr val="000000"/>
              </a:solidFill>
              <a:latin typeface="Times New Roman"/>
            </a:endParaRPr>
          </a:p>
        </p:txBody>
      </p:sp>
      <p:sp>
        <p:nvSpPr>
          <p:cNvPr id="72" name=""/>
          <p:cNvSpPr/>
          <p:nvPr/>
        </p:nvSpPr>
        <p:spPr>
          <a:xfrm>
            <a:off x="2463840" y="308124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tore course fi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tml &amp; resources)</a:t>
            </a:r>
            <a:endParaRPr b="0" lang="en-US" sz="1200" spc="-1" strike="noStrike">
              <a:solidFill>
                <a:srgbClr val="000000"/>
              </a:solidFill>
              <a:latin typeface="Times New Roman"/>
            </a:endParaRPr>
          </a:p>
        </p:txBody>
      </p:sp>
      <p:sp>
        <p:nvSpPr>
          <p:cNvPr id="73" name=""/>
          <p:cNvSpPr/>
          <p:nvPr/>
        </p:nvSpPr>
        <p:spPr>
          <a:xfrm flipV="1">
            <a:off x="2286000" y="2100240"/>
            <a:ext cx="320760" cy="247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2851200" y="46483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994120" y="4367160"/>
            <a:ext cx="2889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Course request, “Next” button, menu selection</a:t>
            </a:r>
            <a:endParaRPr b="0" lang="en-US" sz="1200" spc="-1" strike="noStrike">
              <a:solidFill>
                <a:srgbClr val="000000"/>
              </a:solidFill>
              <a:latin typeface="Times New Roman"/>
            </a:endParaRPr>
          </a:p>
        </p:txBody>
      </p:sp>
      <p:sp>
        <p:nvSpPr>
          <p:cNvPr id="76" name=""/>
          <p:cNvSpPr/>
          <p:nvPr/>
        </p:nvSpPr>
        <p:spPr>
          <a:xfrm>
            <a:off x="2993400" y="4792680"/>
            <a:ext cx="2050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 Sequencer component of 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termines which page to deli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etches URL from DB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nds it to the Browser</a:t>
            </a:r>
            <a:endParaRPr b="0" lang="en-US" sz="1200" spc="-1" strike="noStrike">
              <a:solidFill>
                <a:srgbClr val="000000"/>
              </a:solidFill>
              <a:latin typeface="Times New Roman"/>
            </a:endParaRPr>
          </a:p>
        </p:txBody>
      </p:sp>
      <p:sp>
        <p:nvSpPr>
          <p:cNvPr id="77" name=""/>
          <p:cNvSpPr/>
          <p:nvPr/>
        </p:nvSpPr>
        <p:spPr>
          <a:xfrm>
            <a:off x="2851200" y="4800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094440" y="5218200"/>
            <a:ext cx="2489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Displays page from RTE, and returns results to RTE (for interactive pages)</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685440" y="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View of Part of the SCORM RTE</a:t>
            </a:r>
            <a:endParaRPr b="0" lang="en-US" sz="2800" spc="-1" strike="noStrike">
              <a:solidFill>
                <a:srgbClr val="000000"/>
              </a:solidFill>
              <a:latin typeface="Arial"/>
            </a:endParaRPr>
          </a:p>
        </p:txBody>
      </p:sp>
      <p:sp>
        <p:nvSpPr>
          <p:cNvPr id="80" name=""/>
          <p:cNvSpPr/>
          <p:nvPr/>
        </p:nvSpPr>
        <p:spPr>
          <a:xfrm>
            <a:off x="1981080" y="1562040"/>
            <a:ext cx="1219320" cy="533520"/>
          </a:xfrm>
          <a:prstGeom prst="can">
            <a:avLst>
              <a:gd name="adj" fmla="val 28870"/>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urse files</a:t>
            </a:r>
            <a:endParaRPr b="0" lang="en-US" sz="2000" spc="-1" strike="noStrike">
              <a:solidFill>
                <a:srgbClr val="000000"/>
              </a:solidFill>
              <a:latin typeface="Times New Roman"/>
            </a:endParaRPr>
          </a:p>
        </p:txBody>
      </p:sp>
      <p:sp>
        <p:nvSpPr>
          <p:cNvPr id="81" name=""/>
          <p:cNvSpPr/>
          <p:nvPr/>
        </p:nvSpPr>
        <p:spPr>
          <a:xfrm>
            <a:off x="533520" y="1554120"/>
            <a:ext cx="1143000" cy="547560"/>
          </a:xfrm>
          <a:prstGeom prst="flowChartMagneticDisk">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RLs</a:t>
            </a:r>
            <a:endParaRPr b="0" lang="en-US" sz="2000" spc="-1" strike="noStrike">
              <a:solidFill>
                <a:srgbClr val="000000"/>
              </a:solidFill>
              <a:latin typeface="Times New Roman"/>
            </a:endParaRPr>
          </a:p>
        </p:txBody>
      </p:sp>
      <p:sp>
        <p:nvSpPr>
          <p:cNvPr id="82" name=""/>
          <p:cNvSpPr/>
          <p:nvPr/>
        </p:nvSpPr>
        <p:spPr>
          <a:xfrm>
            <a:off x="1708200" y="4267080"/>
            <a:ext cx="1143000" cy="83844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TE</a:t>
            </a:r>
            <a:endParaRPr b="0" lang="en-US" sz="2400" spc="-1" strike="noStrike">
              <a:solidFill>
                <a:srgbClr val="000000"/>
              </a:solidFill>
              <a:latin typeface="Times New Roman"/>
            </a:endParaRPr>
          </a:p>
        </p:txBody>
      </p:sp>
      <p:sp>
        <p:nvSpPr>
          <p:cNvPr id="83" name=""/>
          <p:cNvSpPr/>
          <p:nvPr/>
        </p:nvSpPr>
        <p:spPr>
          <a:xfrm>
            <a:off x="5631840" y="1428840"/>
            <a:ext cx="2963520" cy="459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d SOAP method to create authentication tok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d alternative login using authentication token</a:t>
            </a:r>
            <a:endParaRPr b="0" lang="en-US" sz="1200" spc="-1" strike="noStrike">
              <a:solidFill>
                <a:srgbClr val="000000"/>
              </a:solidFill>
              <a:latin typeface="Times New Roman"/>
            </a:endParaRPr>
          </a:p>
        </p:txBody>
      </p:sp>
      <p:sp>
        <p:nvSpPr>
          <p:cNvPr id="84" name=""/>
          <p:cNvSpPr/>
          <p:nvPr/>
        </p:nvSpPr>
        <p:spPr>
          <a:xfrm>
            <a:off x="2995560" y="5675400"/>
            <a:ext cx="268308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C. Pass DARWARS URL with authentication token and training event id to Browser</a:t>
            </a:r>
            <a:endParaRPr b="0" lang="en-US" sz="1200" spc="-1" strike="noStrike">
              <a:solidFill>
                <a:srgbClr val="000000"/>
              </a:solidFill>
              <a:latin typeface="Times New Roman"/>
            </a:endParaRPr>
          </a:p>
        </p:txBody>
      </p:sp>
      <p:sp>
        <p:nvSpPr>
          <p:cNvPr id="85" name=""/>
          <p:cNvSpPr/>
          <p:nvPr/>
        </p:nvSpPr>
        <p:spPr>
          <a:xfrm>
            <a:off x="7410600" y="2938320"/>
            <a:ext cx="1616040" cy="1006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A. URL with authentication token and training event 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RWARS returns lobby page</a:t>
            </a:r>
            <a:endParaRPr b="0" lang="en-US" sz="1200" spc="-1" strike="noStrike">
              <a:solidFill>
                <a:srgbClr val="000000"/>
              </a:solidFill>
              <a:latin typeface="Times New Roman"/>
            </a:endParaRPr>
          </a:p>
        </p:txBody>
      </p:sp>
      <p:grpSp>
        <p:nvGrpSpPr>
          <p:cNvPr id="86" name=""/>
          <p:cNvGrpSpPr/>
          <p:nvPr/>
        </p:nvGrpSpPr>
        <p:grpSpPr>
          <a:xfrm>
            <a:off x="1874880" y="965160"/>
            <a:ext cx="6192720" cy="3825720"/>
            <a:chOff x="1874880" y="965160"/>
            <a:chExt cx="6192720" cy="3825720"/>
          </a:xfrm>
        </p:grpSpPr>
        <p:sp>
          <p:nvSpPr>
            <p:cNvPr id="87" name=""/>
            <p:cNvSpPr/>
            <p:nvPr/>
          </p:nvSpPr>
          <p:spPr>
            <a:xfrm>
              <a:off x="1874880" y="965160"/>
              <a:ext cx="5819400" cy="398880"/>
            </a:xfrm>
            <a:prstGeom prst="rect">
              <a:avLst/>
            </a:prstGeom>
            <a:noFill/>
            <a:ln w="19080">
              <a:solidFill>
                <a:srgbClr val="ffcc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for DARWARS Integration</a:t>
              </a:r>
              <a:endParaRPr b="0" lang="en-US" sz="2000" spc="-1" strike="noStrike">
                <a:solidFill>
                  <a:srgbClr val="000000"/>
                </a:solidFill>
                <a:latin typeface="Times New Roman"/>
              </a:endParaRPr>
            </a:p>
          </p:txBody>
        </p:sp>
        <p:sp>
          <p:nvSpPr>
            <p:cNvPr id="88" name=""/>
            <p:cNvSpPr/>
            <p:nvPr/>
          </p:nvSpPr>
          <p:spPr>
            <a:xfrm flipV="1">
              <a:off x="2666880" y="2476440"/>
              <a:ext cx="3775320" cy="179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7288200" y="266652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467400" y="1905120"/>
              <a:ext cx="1600200" cy="761760"/>
            </a:xfrm>
            <a:prstGeom prst="roundRect">
              <a:avLst>
                <a:gd name="adj" fmla="val 16667"/>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RWA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 EMS)</a:t>
              </a:r>
              <a:endParaRPr b="0" lang="en-US" sz="2400" spc="-1" strike="noStrike">
                <a:solidFill>
                  <a:srgbClr val="000000"/>
                </a:solidFill>
                <a:latin typeface="Times New Roman"/>
              </a:endParaRPr>
            </a:p>
          </p:txBody>
        </p:sp>
        <p:sp>
          <p:nvSpPr>
            <p:cNvPr id="91" name=""/>
            <p:cNvSpPr/>
            <p:nvPr/>
          </p:nvSpPr>
          <p:spPr>
            <a:xfrm>
              <a:off x="2452680" y="3754440"/>
              <a:ext cx="985680" cy="1036440"/>
            </a:xfrm>
            <a:prstGeom prst="ellipse">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Services</a:t>
              </a:r>
              <a:endParaRPr b="0" lang="en-US" sz="1400" spc="-1" strike="noStrike">
                <a:solidFill>
                  <a:srgbClr val="000000"/>
                </a:solidFill>
                <a:latin typeface="Times New Roman"/>
              </a:endParaRPr>
            </a:p>
          </p:txBody>
        </p:sp>
      </p:grpSp>
      <p:pic>
        <p:nvPicPr>
          <p:cNvPr id="92" name="" descr=""/>
          <p:cNvPicPr/>
          <p:nvPr/>
        </p:nvPicPr>
        <p:blipFill>
          <a:blip r:embed="rId2"/>
          <a:stretch/>
        </p:blipFill>
        <p:spPr>
          <a:xfrm>
            <a:off x="6593040" y="4176720"/>
            <a:ext cx="1371600" cy="1009800"/>
          </a:xfrm>
          <a:prstGeom prst="rect">
            <a:avLst/>
          </a:prstGeom>
          <a:ln w="0">
            <a:noFill/>
          </a:ln>
          <a:effectLst>
            <a:outerShdw dist="76367" dir="2700000" blurRad="0" rotWithShape="0">
              <a:srgbClr val="808080"/>
            </a:outerShdw>
          </a:effectLst>
        </p:spPr>
      </p:pic>
      <p:sp>
        <p:nvSpPr>
          <p:cNvPr id="93" name=""/>
          <p:cNvSpPr/>
          <p:nvPr/>
        </p:nvSpPr>
        <p:spPr>
          <a:xfrm>
            <a:off x="4038480" y="3276720"/>
            <a:ext cx="298764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B. Invoke SOAP method with SCORM username and password to get DARWARS authentication token for SCORM user</a:t>
            </a:r>
            <a:endParaRPr b="0" lang="en-US" sz="1200" spc="-1" strike="noStrike">
              <a:solidFill>
                <a:srgbClr val="000000"/>
              </a:solidFill>
              <a:latin typeface="Times New Roman"/>
            </a:endParaRPr>
          </a:p>
        </p:txBody>
      </p:sp>
      <p:sp>
        <p:nvSpPr>
          <p:cNvPr id="94" name=""/>
          <p:cNvSpPr/>
          <p:nvPr/>
        </p:nvSpPr>
        <p:spPr>
          <a:xfrm>
            <a:off x="3844800" y="2405160"/>
            <a:ext cx="211644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A. If scormtype=“DARWA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un DARWARS tool to login as instructor and create training event</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2006 BBN Technologies</a:t>
            </a:r>
          </a:p>
        </p:txBody>
      </p:sp>
      <p:sp>
        <p:nvSpPr>
          <p:cNvPr id="4" name="PlaceHolder 3"/>
          <p:cNvSpPr>
            <a:spLocks noGrp="1"/>
          </p:cNvSpPr>
          <p:nvPr>
            <p:ph type="sldNum" idx="2"/>
          </p:nvPr>
        </p:nvSpPr>
        <p:spPr/>
        <p:txBody>
          <a:bodyPr/>
          <a:p>
            <a:fld id="{1659B62C-7429-4B2D-8DA8-602C607A513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5"/>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0"/>
            <a:ext cx="8153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uidelines for the Experience Management System </a:t>
            </a:r>
            <a:br>
              <a:rPr sz="2400"/>
            </a:br>
            <a:r>
              <a:rPr b="0" lang="en-US" sz="2400" spc="-1" strike="noStrike">
                <a:solidFill>
                  <a:srgbClr val="000000"/>
                </a:solidFill>
                <a:latin typeface="Arial"/>
                <a:ea typeface="Times New Roman"/>
              </a:rPr>
              <a:t>and EMS/LMS Interac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MS should handle the multi-participant, multi-goal, multi-session aspects of experiential training.</a:t>
            </a:r>
            <a:endParaRPr b="0" lang="en-US" sz="26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teraction should be rich enough so that pedagogical control remains with the EMS and the LMS rather than being delegated to the experience generator.</a:t>
            </a:r>
            <a:endParaRPr b="0" lang="en-US" sz="26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non-browser mechanism needs to exist for the EMS to interact with the LMS. We suggest web servic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 2006 BBN Technologies</a:t>
            </a:r>
          </a:p>
        </p:txBody>
      </p:sp>
      <p:sp>
        <p:nvSpPr>
          <p:cNvPr id="5" name="PlaceHolder 4"/>
          <p:cNvSpPr>
            <a:spLocks noGrp="1"/>
          </p:cNvSpPr>
          <p:nvPr>
            <p:ph type="sldNum" idx="2"/>
          </p:nvPr>
        </p:nvSpPr>
        <p:spPr/>
        <p:txBody>
          <a:bodyPr/>
          <a:p>
            <a:fld id="{C154343A-BE7B-4D15-84A3-E4EEDA8993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5T21:54:23Z</dcterms:created>
  <dc:creator>William Ferguson</dc:creator>
  <dc:description/>
  <dc:language>en-US</dc:language>
  <cp:lastModifiedBy>William Ferguson</cp:lastModifiedBy>
  <dcterms:modified xsi:type="dcterms:W3CDTF">2006-02-03T16:02:06Z</dcterms:modified>
  <cp:revision>44</cp:revision>
  <dc:subject/>
  <dc:title>A view from an immigrant to the ADL world </dc:title>
</cp:coreProperties>
</file>