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E347-BE18-4364-A87A-017CD00FD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we know (items on sli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M was originally developed to address individual training interoperability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from known requirements, then how do we focus the problem domain? What should be the prio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OC DL XXI: has requirements for SCORM conformant web-based tr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S: has requirements for embedded individual and collective training that supports live, virtual and constructive environments; also has requirements for SCORM comformant courseware. Whether these two will be integrated is still up for grabs- it will be determined during the task analysis/media analysis phase, over next several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ich parts of the problem domain should be addressed in this standards eff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477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38280" y="75960"/>
            <a:ext cx="6477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8280" y="-1440"/>
            <a:ext cx="6477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685800" y="6858000"/>
            <a:ext cx="84582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0" r="92504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543440" y="632448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7f0"/>
                </a:solidFill>
                <a:latin typeface="Futura Lt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7f0"/>
                </a:solidFill>
                <a:latin typeface="Futura Lt BT"/>
              </a:rPr>
              <a:t>&lt;footer&gt;</a:t>
            </a:r>
            <a:r>
              <a:rPr b="0" lang="en-US" sz="1000" spc="-1" strike="noStrike">
                <a:solidFill>
                  <a:srgbClr val="f8f7f0"/>
                </a:solidFill>
                <a:latin typeface="Futura Lt BT"/>
              </a:rPr>
              <a:t>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9800" y="838080"/>
            <a:ext cx="8404200" cy="0"/>
          </a:xfrm>
          <a:prstGeom prst="line">
            <a:avLst/>
          </a:prstGeom>
          <a:ln w="76320">
            <a:solidFill>
              <a:srgbClr val="4557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-4680"/>
            <a:ext cx="114300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629400"/>
            <a:ext cx="8458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92504" b="0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61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9618d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3353040" cy="183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ointadlcolab.org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dlnet.org/help/acronyms.cfm?termId=3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31392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Joint Advanced Distributed Learning (ADL) Co-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410080"/>
            <a:ext cx="38322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Susan Mars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Chris B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susan.marshall1@us.army.m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66"/>
                </a:solidFill>
                <a:latin typeface="Arial"/>
              </a:rPr>
              <a:t>cbray@jointadlcola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ointadlcolab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4720" y="5410080"/>
            <a:ext cx="4862160" cy="1243080"/>
            <a:chOff x="774720" y="5410080"/>
            <a:chExt cx="4862160" cy="124308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774720" y="5410080"/>
              <a:ext cx="1636920" cy="12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437920" y="5413680"/>
              <a:ext cx="1636920" cy="12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4092480" y="5416200"/>
              <a:ext cx="1544400" cy="123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1981080" y="1371600"/>
            <a:ext cx="51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resen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Interface Standar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-3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ri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D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itiative goal: Integrate simulations into the workflow of distributed learning and reduce barriers to effective implementation in support of learning and performance enhanc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M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imple and complex simulations for train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s used in both single student and multi-student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use c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OC DL X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Combat System (F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spects of the problem domain should be the prior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barriers to using simulation in a distributed enviro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imulation best for practice, or also assess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multi-student vs individual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best collect and analyze data for meaningful, adaptive web-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CORM data model sufficient to describe meaningful student inter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759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SCORM content, and add simulation(s); or start with the simulation, and  make it SCORM conform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integrating simulations with an LMS, vs. with cont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6" name=""/>
          <p:cNvCxnSpPr/>
          <p:nvPr/>
        </p:nvCxnSpPr>
        <p:spPr>
          <a:xfrm flipH="1" flipV="1" rot="5400000">
            <a:off x="5668920" y="4026960"/>
            <a:ext cx="702360" cy="457920"/>
          </a:xfrm>
          <a:prstGeom prst="bentConnector3">
            <a:avLst>
              <a:gd name="adj1" fmla="val -15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" name=""/>
          <p:cNvGrpSpPr/>
          <p:nvPr/>
        </p:nvGrpSpPr>
        <p:grpSpPr>
          <a:xfrm>
            <a:off x="6048360" y="2152800"/>
            <a:ext cx="2682720" cy="1752480"/>
            <a:chOff x="6048360" y="2152800"/>
            <a:chExt cx="2682720" cy="1752480"/>
          </a:xfrm>
        </p:grpSpPr>
        <p:sp>
          <p:nvSpPr>
            <p:cNvPr id="108" name=""/>
            <p:cNvSpPr/>
            <p:nvPr/>
          </p:nvSpPr>
          <p:spPr>
            <a:xfrm>
              <a:off x="6048360" y="2152800"/>
              <a:ext cx="2682720" cy="1752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72120" y="2152800"/>
              <a:ext cx="2643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earning Management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4360" y="228600"/>
            <a:ext cx="71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DL 2012 Integrated Prototype Architecture (IPA) – Basel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609480"/>
            <a:ext cx="8458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062680" y="5834160"/>
            <a:ext cx="523800" cy="473040"/>
            <a:chOff x="5062680" y="5834160"/>
            <a:chExt cx="523800" cy="473040"/>
          </a:xfrm>
        </p:grpSpPr>
        <p:sp>
          <p:nvSpPr>
            <p:cNvPr id="113" name=""/>
            <p:cNvSpPr/>
            <p:nvPr/>
          </p:nvSpPr>
          <p:spPr>
            <a:xfrm>
              <a:off x="5062680" y="5834160"/>
              <a:ext cx="523800" cy="4730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6880" y="5991480"/>
              <a:ext cx="45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TP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24680" y="2457360"/>
            <a:ext cx="2520720" cy="1371600"/>
            <a:chOff x="6124680" y="2457360"/>
            <a:chExt cx="2520720" cy="1371600"/>
          </a:xfrm>
        </p:grpSpPr>
        <p:sp>
          <p:nvSpPr>
            <p:cNvPr id="116" name=""/>
            <p:cNvSpPr/>
            <p:nvPr/>
          </p:nvSpPr>
          <p:spPr>
            <a:xfrm>
              <a:off x="6429240" y="2457360"/>
              <a:ext cx="2216160" cy="1371600"/>
            </a:xfrm>
            <a:prstGeom prst="rect">
              <a:avLst/>
            </a:prstGeom>
            <a:gradFill rotWithShape="0">
              <a:gsLst>
                <a:gs pos="0">
                  <a:srgbClr val="e1ffff"/>
                </a:gs>
                <a:gs pos="100000">
                  <a:srgbClr val="bde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5591160" y="2990880"/>
              <a:ext cx="1371600" cy="3045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4faf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ORM Cour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966000" y="4816440"/>
            <a:ext cx="1143000" cy="304920"/>
          </a:xfrm>
          <a:prstGeom prst="rect">
            <a:avLst/>
          </a:prstGeom>
          <a:gradFill rotWithShape="0">
            <a:gsLst>
              <a:gs pos="0">
                <a:srgbClr val="a7ffff"/>
              </a:gs>
              <a:gs pos="50000">
                <a:srgbClr val="ffffff"/>
              </a:gs>
              <a:gs pos="100000">
                <a:srgbClr val="a7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b Brow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20" idx="0"/>
            <a:endCxn id="118" idx="2"/>
          </p:cNvCxnSpPr>
          <p:nvPr/>
        </p:nvCxnSpPr>
        <p:spPr>
          <a:xfrm flipV="1">
            <a:off x="7536960" y="512100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1" name=""/>
          <p:cNvGrpSpPr/>
          <p:nvPr/>
        </p:nvGrpSpPr>
        <p:grpSpPr>
          <a:xfrm>
            <a:off x="7346880" y="5353200"/>
            <a:ext cx="893520" cy="533160"/>
            <a:chOff x="7346880" y="5353200"/>
            <a:chExt cx="89352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7346880" y="5353200"/>
              <a:ext cx="381240" cy="533160"/>
              <a:chOff x="7346880" y="5353200"/>
              <a:chExt cx="381240" cy="533160"/>
            </a:xfrm>
          </p:grpSpPr>
          <p:sp>
            <p:nvSpPr>
              <p:cNvPr id="120" name=""/>
              <p:cNvSpPr/>
              <p:nvPr/>
            </p:nvSpPr>
            <p:spPr>
              <a:xfrm>
                <a:off x="7346880" y="535320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483680" y="544824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4" name=""/>
              <p:cNvCxnSpPr>
                <a:stCxn id="123" idx="4"/>
              </p:cNvCxnSpPr>
              <p:nvPr/>
            </p:nvCxnSpPr>
            <p:spPr>
              <a:xfrm>
                <a:off x="7538760" y="555768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125" name=""/>
              <p:cNvGrpSpPr/>
              <p:nvPr/>
            </p:nvGrpSpPr>
            <p:grpSpPr>
              <a:xfrm>
                <a:off x="7461360" y="5638680"/>
                <a:ext cx="152280" cy="152280"/>
                <a:chOff x="7461360" y="5638680"/>
                <a:chExt cx="152280" cy="152280"/>
              </a:xfrm>
            </p:grpSpPr>
            <p:cxnSp>
              <p:nvCxnSpPr>
                <p:cNvPr id="126" name=""/>
                <p:cNvCxnSpPr/>
                <p:nvPr/>
              </p:nvCxnSpPr>
              <p:spPr>
                <a:xfrm>
                  <a:off x="7537320" y="571464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7" name=""/>
                <p:cNvCxnSpPr/>
                <p:nvPr/>
              </p:nvCxnSpPr>
              <p:spPr>
                <a:xfrm flipH="1">
                  <a:off x="7461360" y="571464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28" name=""/>
                <p:cNvSpPr/>
                <p:nvPr/>
              </p:nvSpPr>
              <p:spPr>
                <a:xfrm>
                  <a:off x="7461360" y="5638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7710840" y="5514840"/>
              <a:ext cx="52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161040" y="4816440"/>
            <a:ext cx="609480" cy="3049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b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76760" y="4435560"/>
            <a:ext cx="1295280" cy="10666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ing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ordin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179320" y="3602880"/>
            <a:ext cx="111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e Data </a:t>
            </a:r>
            <a:r>
              <a:rPr b="0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18000" y="3105000"/>
            <a:ext cx="622440" cy="1330920"/>
            <a:chOff x="5418000" y="3105000"/>
            <a:chExt cx="622440" cy="1330920"/>
          </a:xfrm>
        </p:grpSpPr>
        <p:sp>
          <p:nvSpPr>
            <p:cNvPr id="134" name=""/>
            <p:cNvSpPr/>
            <p:nvPr/>
          </p:nvSpPr>
          <p:spPr>
            <a:xfrm flipH="1" rot="5400000">
              <a:off x="5032440" y="3602880"/>
              <a:ext cx="98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&amp; LSF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3 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V="1" rot="10800000">
              <a:off x="5628600" y="3104640"/>
              <a:ext cx="411840" cy="1331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136" name=""/>
          <p:cNvCxnSpPr>
            <a:stCxn id="131" idx="2"/>
            <a:endCxn id="113" idx="1"/>
          </p:cNvCxnSpPr>
          <p:nvPr/>
        </p:nvCxnSpPr>
        <p:spPr>
          <a:xfrm>
            <a:off x="5324040" y="5502240"/>
            <a:ext cx="1080" cy="33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6040440" y="306720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734880" y="3620880"/>
            <a:ext cx="802440" cy="1195560"/>
            <a:chOff x="6734880" y="3620880"/>
            <a:chExt cx="802440" cy="1195560"/>
          </a:xfrm>
        </p:grpSpPr>
        <p:cxnSp>
          <p:nvCxnSpPr>
            <p:cNvPr id="139" name=""/>
            <p:cNvCxnSpPr>
              <a:stCxn id="118" idx="0"/>
              <a:endCxn id="140" idx="2"/>
            </p:cNvCxnSpPr>
            <p:nvPr/>
          </p:nvCxnSpPr>
          <p:spPr>
            <a:xfrm flipV="1" rot="16200000">
              <a:off x="6538320" y="3817440"/>
              <a:ext cx="1195920" cy="802440"/>
            </a:xfrm>
            <a:prstGeom prst="bentConnector3">
              <a:avLst>
                <a:gd name="adj1" fmla="val 5004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18" idx="0"/>
              <a:endCxn id="142" idx="2"/>
            </p:cNvCxnSpPr>
            <p:nvPr/>
          </p:nvCxnSpPr>
          <p:spPr>
            <a:xfrm flipV="1" rot="16200000">
              <a:off x="6806160" y="4084920"/>
              <a:ext cx="1195920" cy="267120"/>
            </a:xfrm>
            <a:prstGeom prst="bentConnector3">
              <a:avLst>
                <a:gd name="adj1" fmla="val 5004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43" name=""/>
          <p:cNvCxnSpPr>
            <a:stCxn id="118" idx="0"/>
            <a:endCxn id="144" idx="2"/>
          </p:cNvCxnSpPr>
          <p:nvPr/>
        </p:nvCxnSpPr>
        <p:spPr>
          <a:xfrm flipH="1" flipV="1" rot="5400000">
            <a:off x="7073640" y="4084200"/>
            <a:ext cx="1195920" cy="269280"/>
          </a:xfrm>
          <a:prstGeom prst="bentConnector3">
            <a:avLst>
              <a:gd name="adj1" fmla="val 5004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45" name=""/>
          <p:cNvGrpSpPr/>
          <p:nvPr/>
        </p:nvGrpSpPr>
        <p:grpSpPr>
          <a:xfrm>
            <a:off x="4319280" y="4446360"/>
            <a:ext cx="357480" cy="1051920"/>
            <a:chOff x="4319280" y="4446360"/>
            <a:chExt cx="357480" cy="1051920"/>
          </a:xfrm>
        </p:grpSpPr>
        <p:cxnSp>
          <p:nvCxnSpPr>
            <p:cNvPr id="146" name=""/>
            <p:cNvCxnSpPr>
              <a:stCxn id="131" idx="1"/>
              <a:endCxn id="147" idx="3"/>
            </p:cNvCxnSpPr>
            <p:nvPr/>
          </p:nvCxnSpPr>
          <p:spPr>
            <a:xfrm rot="10800000">
              <a:off x="4318920" y="4446000"/>
              <a:ext cx="357840" cy="522720"/>
            </a:xfrm>
            <a:prstGeom prst="bentConnector3">
              <a:avLst>
                <a:gd name="adj1" fmla="val 497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31" idx="1"/>
              <a:endCxn id="149" idx="3"/>
            </p:cNvCxnSpPr>
            <p:nvPr/>
          </p:nvCxnSpPr>
          <p:spPr>
            <a:xfrm flipV="1" rot="10800000">
              <a:off x="4318920" y="4967640"/>
              <a:ext cx="357840" cy="180360"/>
            </a:xfrm>
            <a:prstGeom prst="bentConnector3">
              <a:avLst>
                <a:gd name="adj1" fmla="val 497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1" idx="1"/>
              <a:endCxn id="151" idx="3"/>
            </p:cNvCxnSpPr>
            <p:nvPr/>
          </p:nvCxnSpPr>
          <p:spPr>
            <a:xfrm flipV="1" rot="10800000">
              <a:off x="4318920" y="4967640"/>
              <a:ext cx="357840" cy="531000"/>
            </a:xfrm>
            <a:prstGeom prst="bentConnector3">
              <a:avLst>
                <a:gd name="adj1" fmla="val 497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31" idx="1"/>
              <a:endCxn id="153" idx="3"/>
            </p:cNvCxnSpPr>
            <p:nvPr/>
          </p:nvCxnSpPr>
          <p:spPr>
            <a:xfrm rot="10800000">
              <a:off x="4318920" y="4796640"/>
              <a:ext cx="357840" cy="172080"/>
            </a:xfrm>
            <a:prstGeom prst="bentConnector3">
              <a:avLst>
                <a:gd name="adj1" fmla="val 4974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54" name=""/>
          <p:cNvSpPr/>
          <p:nvPr/>
        </p:nvSpPr>
        <p:spPr>
          <a:xfrm>
            <a:off x="6581880" y="432756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Learning 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12120" y="432576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e Training Ev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971320" y="4968360"/>
            <a:ext cx="1375200" cy="918720"/>
            <a:chOff x="5971320" y="4968360"/>
            <a:chExt cx="1375200" cy="918720"/>
          </a:xfrm>
        </p:grpSpPr>
        <p:cxnSp>
          <p:nvCxnSpPr>
            <p:cNvPr id="157" name=""/>
            <p:cNvCxnSpPr>
              <a:stCxn id="130" idx="1"/>
              <a:endCxn id="131" idx="3"/>
            </p:cNvCxnSpPr>
            <p:nvPr/>
          </p:nvCxnSpPr>
          <p:spPr>
            <a:xfrm flipH="1">
              <a:off x="5971320" y="4968360"/>
              <a:ext cx="189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/>
            <p:nvPr/>
          </p:nvCxnSpPr>
          <p:spPr>
            <a:xfrm flipH="1">
              <a:off x="6769800" y="4968360"/>
              <a:ext cx="19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/>
            <p:nvPr/>
          </p:nvCxnSpPr>
          <p:spPr>
            <a:xfrm rot="10800000">
              <a:off x="6465240" y="5120640"/>
              <a:ext cx="881640" cy="498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0" name=""/>
            <p:cNvSpPr/>
            <p:nvPr/>
          </p:nvSpPr>
          <p:spPr>
            <a:xfrm>
              <a:off x="6056280" y="554976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tend Training Ev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591160" y="443556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24360" y="1085040"/>
            <a:ext cx="414000" cy="3426480"/>
            <a:chOff x="4824360" y="1085040"/>
            <a:chExt cx="414000" cy="3426480"/>
          </a:xfrm>
        </p:grpSpPr>
        <p:cxnSp>
          <p:nvCxnSpPr>
            <p:cNvPr id="163" name=""/>
            <p:cNvCxnSpPr>
              <a:stCxn id="164" idx="0"/>
              <a:endCxn id="165" idx="4"/>
            </p:cNvCxnSpPr>
            <p:nvPr/>
          </p:nvCxnSpPr>
          <p:spPr>
            <a:xfrm flipV="1">
              <a:off x="5028840" y="1085040"/>
              <a:ext cx="1080" cy="335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4" name=""/>
            <p:cNvSpPr/>
            <p:nvPr/>
          </p:nvSpPr>
          <p:spPr>
            <a:xfrm>
              <a:off x="4991040" y="4435560"/>
              <a:ext cx="7632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4350960" y="3521520"/>
              <a:ext cx="1162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arner Profiles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4667400" y="3507840"/>
              <a:ext cx="92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e Data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956280" y="2585880"/>
            <a:ext cx="1143000" cy="3049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8" idx="2"/>
            <a:endCxn id="140" idx="0"/>
          </p:cNvCxnSpPr>
          <p:nvPr/>
        </p:nvCxnSpPr>
        <p:spPr>
          <a:xfrm rot="5400000">
            <a:off x="6890400" y="2734920"/>
            <a:ext cx="481680" cy="793080"/>
          </a:xfrm>
          <a:prstGeom prst="bentConnector3">
            <a:avLst>
              <a:gd name="adj1" fmla="val 4981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8" idx="2"/>
            <a:endCxn id="142" idx="0"/>
          </p:cNvCxnSpPr>
          <p:nvPr/>
        </p:nvCxnSpPr>
        <p:spPr>
          <a:xfrm rot="5400000">
            <a:off x="7158240" y="3002760"/>
            <a:ext cx="481680" cy="257760"/>
          </a:xfrm>
          <a:prstGeom prst="bentConnector3">
            <a:avLst>
              <a:gd name="adj1" fmla="val 4981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71" name=""/>
          <p:cNvGrpSpPr/>
          <p:nvPr/>
        </p:nvGrpSpPr>
        <p:grpSpPr>
          <a:xfrm>
            <a:off x="7527960" y="2890800"/>
            <a:ext cx="814680" cy="1925640"/>
            <a:chOff x="7527960" y="2890800"/>
            <a:chExt cx="814680" cy="1925640"/>
          </a:xfrm>
        </p:grpSpPr>
        <p:cxnSp>
          <p:nvCxnSpPr>
            <p:cNvPr id="172" name=""/>
            <p:cNvCxnSpPr>
              <a:stCxn id="118" idx="0"/>
              <a:endCxn id="173" idx="2"/>
            </p:cNvCxnSpPr>
            <p:nvPr/>
          </p:nvCxnSpPr>
          <p:spPr>
            <a:xfrm flipH="1" flipV="1" rot="5400000">
              <a:off x="7341840" y="3816000"/>
              <a:ext cx="1195920" cy="805680"/>
            </a:xfrm>
            <a:prstGeom prst="bentConnector3">
              <a:avLst>
                <a:gd name="adj1" fmla="val 5004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8" idx="2"/>
              <a:endCxn id="173" idx="0"/>
            </p:cNvCxnSpPr>
            <p:nvPr/>
          </p:nvCxnSpPr>
          <p:spPr>
            <a:xfrm flipH="1" rot="16200000">
              <a:off x="7694640" y="2723760"/>
              <a:ext cx="481680" cy="815040"/>
            </a:xfrm>
            <a:prstGeom prst="bentConnector3">
              <a:avLst>
                <a:gd name="adj1" fmla="val 4981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175" name=""/>
          <p:cNvCxnSpPr>
            <a:stCxn id="168" idx="2"/>
            <a:endCxn id="144" idx="0"/>
          </p:cNvCxnSpPr>
          <p:nvPr/>
        </p:nvCxnSpPr>
        <p:spPr>
          <a:xfrm flipH="1" rot="16200000">
            <a:off x="7426440" y="2992320"/>
            <a:ext cx="481680" cy="278280"/>
          </a:xfrm>
          <a:prstGeom prst="bentConnector3">
            <a:avLst>
              <a:gd name="adj1" fmla="val 4981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7034040" y="3371760"/>
            <a:ext cx="471600" cy="249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9360" y="3371760"/>
            <a:ext cx="471240" cy="249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F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05760" y="3371760"/>
            <a:ext cx="471600" cy="249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99080" y="3371760"/>
            <a:ext cx="471600" cy="249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76760" y="781200"/>
            <a:ext cx="3048120" cy="3045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Learner Profile (L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/SSP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100980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180200" y="1085400"/>
            <a:ext cx="416160" cy="1067400"/>
            <a:chOff x="7180200" y="1085400"/>
            <a:chExt cx="416160" cy="1067400"/>
          </a:xfrm>
        </p:grpSpPr>
        <p:sp>
          <p:nvSpPr>
            <p:cNvPr id="178" name=""/>
            <p:cNvSpPr/>
            <p:nvPr/>
          </p:nvSpPr>
          <p:spPr>
            <a:xfrm rot="5400000">
              <a:off x="6987240" y="1512000"/>
              <a:ext cx="601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P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7025400" y="1521720"/>
              <a:ext cx="925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te Data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08" idx="0"/>
              <a:endCxn id="181" idx="4"/>
            </p:cNvCxnSpPr>
            <p:nvPr/>
          </p:nvCxnSpPr>
          <p:spPr>
            <a:xfrm flipV="1">
              <a:off x="7389360" y="1085400"/>
              <a:ext cx="1080" cy="10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81" name=""/>
          <p:cNvSpPr/>
          <p:nvPr/>
        </p:nvSpPr>
        <p:spPr>
          <a:xfrm>
            <a:off x="7351560" y="100980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867280" y="6248520"/>
            <a:ext cx="3124080" cy="369000"/>
            <a:chOff x="5867280" y="6248520"/>
            <a:chExt cx="3124080" cy="369000"/>
          </a:xfrm>
        </p:grpSpPr>
        <p:sp>
          <p:nvSpPr>
            <p:cNvPr id="183" name=""/>
            <p:cNvSpPr/>
            <p:nvPr/>
          </p:nvSpPr>
          <p:spPr>
            <a:xfrm>
              <a:off x="5867280" y="6248520"/>
              <a:ext cx="16761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spcAft>
                  <a:spcPts val="249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arner 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spcAft>
                  <a:spcPts val="249"/>
                </a:spcAft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ared State Persiste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4840" y="6248520"/>
              <a:ext cx="16765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spcAft>
                  <a:spcPts val="249"/>
                </a:spcAft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weight Scenario Forma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>
                <a:spcAft>
                  <a:spcPts val="249"/>
                </a:spcAft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cal Training Packa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33360" y="733320"/>
            <a:ext cx="5765760" cy="5686560"/>
            <a:chOff x="333360" y="733320"/>
            <a:chExt cx="5765760" cy="5686560"/>
          </a:xfrm>
        </p:grpSpPr>
        <p:sp>
          <p:nvSpPr>
            <p:cNvPr id="186" name=""/>
            <p:cNvSpPr/>
            <p:nvPr/>
          </p:nvSpPr>
          <p:spPr>
            <a:xfrm>
              <a:off x="3867120" y="1238400"/>
              <a:ext cx="0" cy="518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5320" y="733320"/>
              <a:ext cx="914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nchronize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610080" y="1199520"/>
              <a:ext cx="489600" cy="977400"/>
              <a:chOff x="3610080" y="1199520"/>
              <a:chExt cx="489600" cy="977400"/>
            </a:xfrm>
          </p:grpSpPr>
          <p:sp>
            <p:nvSpPr>
              <p:cNvPr id="189" name=""/>
              <p:cNvSpPr/>
              <p:nvPr/>
            </p:nvSpPr>
            <p:spPr>
              <a:xfrm flipV="1" rot="5400000">
                <a:off x="3487680" y="1564560"/>
                <a:ext cx="97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un - 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 rot="5400000">
                <a:off x="3249720" y="1566720"/>
                <a:ext cx="966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ign - Tim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24480" y="5938920"/>
              <a:ext cx="604800" cy="304560"/>
            </a:xfrm>
            <a:custGeom>
              <a:avLst/>
              <a:gdLst>
                <a:gd name="textAreaLeft" fmla="*/ 85680 w 604800"/>
                <a:gd name="textAreaRight" fmla="*/ 519120 w 604800"/>
                <a:gd name="textAreaTop" fmla="*/ 72720 h 304560"/>
                <a:gd name="textAreaBottom" fmla="*/ 2318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175"/>
                  </a:moveTo>
                  <a:lnTo>
                    <a:pt x="15704" y="5175"/>
                  </a:lnTo>
                  <a:lnTo>
                    <a:pt x="15704" y="0"/>
                  </a:lnTo>
                  <a:lnTo>
                    <a:pt x="21600" y="10800"/>
                  </a:lnTo>
                  <a:lnTo>
                    <a:pt x="15704" y="21600"/>
                  </a:lnTo>
                  <a:lnTo>
                    <a:pt x="15704" y="16425"/>
                  </a:lnTo>
                  <a:lnTo>
                    <a:pt x="0" y="16425"/>
                  </a:lnTo>
                  <a:lnTo>
                    <a:pt x="3071" y="10800"/>
                  </a:lnTo>
                  <a:lnTo>
                    <a:pt x="0" y="5175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8720" y="5048280"/>
              <a:ext cx="457200" cy="533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"/>
            <p:cNvCxnSpPr>
              <a:stCxn id="192" idx="0"/>
              <a:endCxn id="194" idx="3"/>
            </p:cNvCxnSpPr>
            <p:nvPr/>
          </p:nvCxnSpPr>
          <p:spPr>
            <a:xfrm flipV="1">
              <a:off x="1956960" y="4763880"/>
              <a:ext cx="2520" cy="284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1730520" y="2502000"/>
              <a:ext cx="4572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768320" y="1776240"/>
              <a:ext cx="381240" cy="533160"/>
              <a:chOff x="1768320" y="1776240"/>
              <a:chExt cx="381240" cy="533160"/>
            </a:xfrm>
          </p:grpSpPr>
          <p:sp>
            <p:nvSpPr>
              <p:cNvPr id="197" name=""/>
              <p:cNvSpPr/>
              <p:nvPr/>
            </p:nvSpPr>
            <p:spPr>
              <a:xfrm>
                <a:off x="1768320" y="177624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05120" y="187128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99" name=""/>
              <p:cNvCxnSpPr>
                <a:stCxn id="198" idx="4"/>
              </p:cNvCxnSpPr>
              <p:nvPr/>
            </p:nvCxnSpPr>
            <p:spPr>
              <a:xfrm>
                <a:off x="1960200" y="198072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0" name=""/>
              <p:cNvGrpSpPr/>
              <p:nvPr/>
            </p:nvGrpSpPr>
            <p:grpSpPr>
              <a:xfrm>
                <a:off x="1882800" y="2061720"/>
                <a:ext cx="152280" cy="152280"/>
                <a:chOff x="1882800" y="2061720"/>
                <a:chExt cx="152280" cy="152280"/>
              </a:xfrm>
            </p:grpSpPr>
            <p:cxnSp>
              <p:nvCxnSpPr>
                <p:cNvPr id="201" name=""/>
                <p:cNvCxnSpPr/>
                <p:nvPr/>
              </p:nvCxnSpPr>
              <p:spPr>
                <a:xfrm>
                  <a:off x="195876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02" name=""/>
                <p:cNvCxnSpPr/>
                <p:nvPr/>
              </p:nvCxnSpPr>
              <p:spPr>
                <a:xfrm flipH="1">
                  <a:off x="188280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03" name=""/>
                <p:cNvSpPr/>
                <p:nvPr/>
              </p:nvSpPr>
              <p:spPr>
                <a:xfrm>
                  <a:off x="1882800" y="2061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04" name=""/>
            <p:cNvCxnSpPr>
              <a:stCxn id="197" idx="4"/>
              <a:endCxn id="195" idx="0"/>
            </p:cNvCxnSpPr>
            <p:nvPr/>
          </p:nvCxnSpPr>
          <p:spPr>
            <a:xfrm>
              <a:off x="1958760" y="2309760"/>
              <a:ext cx="1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5" idx="2"/>
              <a:endCxn id="206" idx="1"/>
            </p:cNvCxnSpPr>
            <p:nvPr/>
          </p:nvCxnSpPr>
          <p:spPr>
            <a:xfrm>
              <a:off x="1958760" y="3034800"/>
              <a:ext cx="108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6" name=""/>
            <p:cNvSpPr/>
            <p:nvPr/>
          </p:nvSpPr>
          <p:spPr>
            <a:xfrm>
              <a:off x="1806480" y="3279600"/>
              <a:ext cx="304920" cy="381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20960" y="38736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0960" y="41022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6" idx="3"/>
              <a:endCxn id="207" idx="0"/>
            </p:cNvCxnSpPr>
            <p:nvPr/>
          </p:nvCxnSpPr>
          <p:spPr>
            <a:xfrm>
              <a:off x="1958760" y="366048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4" idx="1"/>
              <a:endCxn id="208" idx="4"/>
            </p:cNvCxnSpPr>
            <p:nvPr/>
          </p:nvCxnSpPr>
          <p:spPr>
            <a:xfrm flipV="1">
              <a:off x="1958760" y="4177440"/>
              <a:ext cx="1080" cy="205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2708280" y="5048280"/>
              <a:ext cx="457200" cy="533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1800" y="2502000"/>
              <a:ext cx="4572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739960" y="1776240"/>
              <a:ext cx="381240" cy="533160"/>
              <a:chOff x="2739960" y="1776240"/>
              <a:chExt cx="381240" cy="533160"/>
            </a:xfrm>
          </p:grpSpPr>
          <p:sp>
            <p:nvSpPr>
              <p:cNvPr id="214" name=""/>
              <p:cNvSpPr/>
              <p:nvPr/>
            </p:nvSpPr>
            <p:spPr>
              <a:xfrm>
                <a:off x="2739960" y="177624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76760" y="187128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"/>
              <p:cNvCxnSpPr>
                <a:stCxn id="215" idx="4"/>
              </p:cNvCxnSpPr>
              <p:nvPr/>
            </p:nvCxnSpPr>
            <p:spPr>
              <a:xfrm>
                <a:off x="2931840" y="198072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17" name=""/>
              <p:cNvGrpSpPr/>
              <p:nvPr/>
            </p:nvGrpSpPr>
            <p:grpSpPr>
              <a:xfrm>
                <a:off x="2854440" y="2061720"/>
                <a:ext cx="152280" cy="152280"/>
                <a:chOff x="2854440" y="2061720"/>
                <a:chExt cx="152280" cy="152280"/>
              </a:xfrm>
            </p:grpSpPr>
            <p:cxnSp>
              <p:nvCxnSpPr>
                <p:cNvPr id="218" name=""/>
                <p:cNvCxnSpPr/>
                <p:nvPr/>
              </p:nvCxnSpPr>
              <p:spPr>
                <a:xfrm>
                  <a:off x="293040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19" name=""/>
                <p:cNvCxnSpPr/>
                <p:nvPr/>
              </p:nvCxnSpPr>
              <p:spPr>
                <a:xfrm flipH="1">
                  <a:off x="285444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20" name=""/>
                <p:cNvSpPr/>
                <p:nvPr/>
              </p:nvSpPr>
              <p:spPr>
                <a:xfrm>
                  <a:off x="2854440" y="2061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21" name=""/>
            <p:cNvCxnSpPr>
              <a:stCxn id="214" idx="4"/>
              <a:endCxn id="212" idx="0"/>
            </p:cNvCxnSpPr>
            <p:nvPr/>
          </p:nvCxnSpPr>
          <p:spPr>
            <a:xfrm>
              <a:off x="2930040" y="2309760"/>
              <a:ext cx="1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2" idx="2"/>
              <a:endCxn id="223" idx="1"/>
            </p:cNvCxnSpPr>
            <p:nvPr/>
          </p:nvCxnSpPr>
          <p:spPr>
            <a:xfrm>
              <a:off x="2930040" y="3034800"/>
              <a:ext cx="1080" cy="24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2778120" y="3279600"/>
              <a:ext cx="304920" cy="381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92600" y="38736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23" idx="3"/>
              <a:endCxn id="224" idx="0"/>
            </p:cNvCxnSpPr>
            <p:nvPr/>
          </p:nvCxnSpPr>
          <p:spPr>
            <a:xfrm>
              <a:off x="2930040" y="3660480"/>
              <a:ext cx="1080" cy="21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27" idx="4"/>
              <a:endCxn id="228" idx="0"/>
            </p:cNvCxnSpPr>
            <p:nvPr/>
          </p:nvCxnSpPr>
          <p:spPr>
            <a:xfrm>
              <a:off x="2445840" y="2309760"/>
              <a:ext cx="10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1806480" y="4383000"/>
              <a:ext cx="304920" cy="381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04920" y="4471920"/>
              <a:ext cx="1027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SF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17600" y="5048280"/>
              <a:ext cx="457200" cy="5335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17600" y="2502000"/>
              <a:ext cx="4572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36360" y="1311120"/>
              <a:ext cx="1220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ructional Desig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nt Creato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gram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255760" y="1776240"/>
              <a:ext cx="381240" cy="533160"/>
              <a:chOff x="2255760" y="1776240"/>
              <a:chExt cx="381240" cy="533160"/>
            </a:xfrm>
          </p:grpSpPr>
          <p:sp>
            <p:nvSpPr>
              <p:cNvPr id="227" name=""/>
              <p:cNvSpPr/>
              <p:nvPr/>
            </p:nvSpPr>
            <p:spPr>
              <a:xfrm>
                <a:off x="2255760" y="177624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92560" y="187128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"/>
              <p:cNvCxnSpPr>
                <a:stCxn id="233" idx="4"/>
              </p:cNvCxnSpPr>
              <p:nvPr/>
            </p:nvCxnSpPr>
            <p:spPr>
              <a:xfrm>
                <a:off x="2447640" y="198072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35" name=""/>
              <p:cNvGrpSpPr/>
              <p:nvPr/>
            </p:nvGrpSpPr>
            <p:grpSpPr>
              <a:xfrm>
                <a:off x="2370240" y="2061720"/>
                <a:ext cx="152280" cy="152280"/>
                <a:chOff x="2370240" y="2061720"/>
                <a:chExt cx="152280" cy="152280"/>
              </a:xfrm>
            </p:grpSpPr>
            <p:cxnSp>
              <p:nvCxnSpPr>
                <p:cNvPr id="236" name=""/>
                <p:cNvCxnSpPr/>
                <p:nvPr/>
              </p:nvCxnSpPr>
              <p:spPr>
                <a:xfrm>
                  <a:off x="244620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7" name=""/>
                <p:cNvCxnSpPr/>
                <p:nvPr/>
              </p:nvCxnSpPr>
              <p:spPr>
                <a:xfrm flipH="1">
                  <a:off x="2370240" y="213768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38" name=""/>
                <p:cNvSpPr/>
                <p:nvPr/>
              </p:nvSpPr>
              <p:spPr>
                <a:xfrm>
                  <a:off x="2370240" y="2061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851120" y="3875040"/>
              <a:ext cx="1218960" cy="3049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L Regist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7560" y="3301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8920" y="5938920"/>
              <a:ext cx="1977840" cy="304560"/>
            </a:xfrm>
            <a:custGeom>
              <a:avLst/>
              <a:gdLst>
                <a:gd name="textAreaLeft" fmla="*/ 83160 w 1977840"/>
                <a:gd name="textAreaRight" fmla="*/ 1894680 w 1977840"/>
                <a:gd name="textAreaTop" fmla="*/ 71280 h 304560"/>
                <a:gd name="textAreaBottom" fmla="*/ 2332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063"/>
                  </a:moveTo>
                  <a:lnTo>
                    <a:pt x="19884" y="5063"/>
                  </a:lnTo>
                  <a:lnTo>
                    <a:pt x="19884" y="0"/>
                  </a:lnTo>
                  <a:lnTo>
                    <a:pt x="21600" y="10800"/>
                  </a:lnTo>
                  <a:lnTo>
                    <a:pt x="19884" y="21600"/>
                  </a:lnTo>
                  <a:lnTo>
                    <a:pt x="19884" y="16537"/>
                  </a:lnTo>
                  <a:lnTo>
                    <a:pt x="0" y="16537"/>
                  </a:lnTo>
                  <a:lnTo>
                    <a:pt x="912" y="10800"/>
                  </a:lnTo>
                  <a:lnTo>
                    <a:pt x="0" y="5063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reate Local Training Packag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056600" y="5896080"/>
              <a:ext cx="1219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licy Mak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eld Instructo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"/>
            <p:cNvCxnSpPr>
              <a:stCxn id="244" idx="0"/>
              <a:endCxn id="230" idx="2"/>
            </p:cNvCxnSpPr>
            <p:nvPr/>
          </p:nvCxnSpPr>
          <p:spPr>
            <a:xfrm flipV="1">
              <a:off x="2445840" y="5581080"/>
              <a:ext cx="1080" cy="2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45" name=""/>
            <p:cNvGrpSpPr/>
            <p:nvPr/>
          </p:nvGrpSpPr>
          <p:grpSpPr>
            <a:xfrm>
              <a:off x="2255760" y="5802480"/>
              <a:ext cx="381240" cy="533160"/>
              <a:chOff x="2255760" y="5802480"/>
              <a:chExt cx="381240" cy="533160"/>
            </a:xfrm>
          </p:grpSpPr>
          <p:sp>
            <p:nvSpPr>
              <p:cNvPr id="244" name=""/>
              <p:cNvSpPr/>
              <p:nvPr/>
            </p:nvSpPr>
            <p:spPr>
              <a:xfrm>
                <a:off x="2255760" y="580248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92560" y="589752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7" name=""/>
              <p:cNvCxnSpPr>
                <a:stCxn id="246" idx="4"/>
              </p:cNvCxnSpPr>
              <p:nvPr/>
            </p:nvCxnSpPr>
            <p:spPr>
              <a:xfrm>
                <a:off x="2447640" y="600696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48" name=""/>
              <p:cNvGrpSpPr/>
              <p:nvPr/>
            </p:nvGrpSpPr>
            <p:grpSpPr>
              <a:xfrm>
                <a:off x="2370240" y="6087960"/>
                <a:ext cx="152280" cy="152280"/>
                <a:chOff x="2370240" y="6087960"/>
                <a:chExt cx="152280" cy="152280"/>
              </a:xfrm>
            </p:grpSpPr>
            <p:cxnSp>
              <p:nvCxnSpPr>
                <p:cNvPr id="249" name=""/>
                <p:cNvCxnSpPr/>
                <p:nvPr/>
              </p:nvCxnSpPr>
              <p:spPr>
                <a:xfrm>
                  <a:off x="2446200" y="616392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0" name=""/>
                <p:cNvCxnSpPr/>
                <p:nvPr/>
              </p:nvCxnSpPr>
              <p:spPr>
                <a:xfrm flipH="1">
                  <a:off x="2370240" y="616392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51" name=""/>
                <p:cNvSpPr/>
                <p:nvPr/>
              </p:nvSpPr>
              <p:spPr>
                <a:xfrm>
                  <a:off x="2370240" y="6087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"/>
            <p:cNvSpPr/>
            <p:nvPr/>
          </p:nvSpPr>
          <p:spPr>
            <a:xfrm>
              <a:off x="1819440" y="5127480"/>
              <a:ext cx="1266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pid Scenar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velopment Too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19440" y="2581200"/>
              <a:ext cx="1266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apid Cont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velopment Tool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3360" y="781200"/>
              <a:ext cx="2943360" cy="3045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R and Competency Management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5" name=""/>
            <p:cNvCxnSpPr>
              <a:stCxn id="256" idx="3"/>
              <a:endCxn id="239" idx="1"/>
            </p:cNvCxnSpPr>
            <p:nvPr/>
          </p:nvCxnSpPr>
          <p:spPr>
            <a:xfrm>
              <a:off x="1476000" y="4026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7" name=""/>
            <p:cNvSpPr/>
            <p:nvPr/>
          </p:nvSpPr>
          <p:spPr>
            <a:xfrm>
              <a:off x="866880" y="1009800"/>
              <a:ext cx="75960" cy="75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"/>
            <p:cNvCxnSpPr>
              <a:stCxn id="256" idx="0"/>
              <a:endCxn id="257" idx="4"/>
            </p:cNvCxnSpPr>
            <p:nvPr/>
          </p:nvCxnSpPr>
          <p:spPr>
            <a:xfrm flipV="1">
              <a:off x="904680" y="1085400"/>
              <a:ext cx="1080" cy="2728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176" idx="1"/>
              <a:endCxn id="254" idx="3"/>
            </p:cNvCxnSpPr>
            <p:nvPr/>
          </p:nvCxnSpPr>
          <p:spPr>
            <a:xfrm flipH="1">
              <a:off x="3276360" y="933120"/>
              <a:ext cx="140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6" name=""/>
            <p:cNvSpPr/>
            <p:nvPr/>
          </p:nvSpPr>
          <p:spPr>
            <a:xfrm>
              <a:off x="333360" y="3813120"/>
              <a:ext cx="1143000" cy="4287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sion Essenti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ask Lis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76480" y="3805200"/>
              <a:ext cx="75960" cy="76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76480" y="4165560"/>
              <a:ext cx="75960" cy="76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14240" y="5802480"/>
              <a:ext cx="381240" cy="533160"/>
              <a:chOff x="714240" y="5802480"/>
              <a:chExt cx="381240" cy="533160"/>
            </a:xfrm>
          </p:grpSpPr>
          <p:sp>
            <p:nvSpPr>
              <p:cNvPr id="263" name=""/>
              <p:cNvSpPr/>
              <p:nvPr/>
            </p:nvSpPr>
            <p:spPr>
              <a:xfrm>
                <a:off x="714240" y="5802480"/>
                <a:ext cx="381240" cy="533160"/>
              </a:xfrm>
              <a:prstGeom prst="ellipse">
                <a:avLst/>
              </a:prstGeom>
              <a:solidFill>
                <a:srgbClr val="fafaf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51040" y="5897520"/>
                <a:ext cx="109440" cy="109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5" name=""/>
              <p:cNvCxnSpPr>
                <a:stCxn id="264" idx="4"/>
              </p:cNvCxnSpPr>
              <p:nvPr/>
            </p:nvCxnSpPr>
            <p:spPr>
              <a:xfrm>
                <a:off x="906120" y="6006960"/>
                <a:ext cx="108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66" name=""/>
              <p:cNvGrpSpPr/>
              <p:nvPr/>
            </p:nvGrpSpPr>
            <p:grpSpPr>
              <a:xfrm>
                <a:off x="828720" y="6087960"/>
                <a:ext cx="152280" cy="152280"/>
                <a:chOff x="828720" y="6087960"/>
                <a:chExt cx="152280" cy="152280"/>
              </a:xfrm>
            </p:grpSpPr>
            <p:cxnSp>
              <p:nvCxnSpPr>
                <p:cNvPr id="267" name=""/>
                <p:cNvCxnSpPr/>
                <p:nvPr/>
              </p:nvCxnSpPr>
              <p:spPr>
                <a:xfrm>
                  <a:off x="904680" y="616392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8" name=""/>
                <p:cNvCxnSpPr/>
                <p:nvPr/>
              </p:nvCxnSpPr>
              <p:spPr>
                <a:xfrm flipH="1">
                  <a:off x="828720" y="6163920"/>
                  <a:ext cx="76680" cy="76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9" name=""/>
                <p:cNvSpPr/>
                <p:nvPr/>
              </p:nvSpPr>
              <p:spPr>
                <a:xfrm>
                  <a:off x="828720" y="6087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70" name=""/>
            <p:cNvCxnSpPr>
              <a:stCxn id="263" idx="0"/>
              <a:endCxn id="256" idx="2"/>
            </p:cNvCxnSpPr>
            <p:nvPr/>
          </p:nvCxnSpPr>
          <p:spPr>
            <a:xfrm flipV="1">
              <a:off x="904680" y="4241160"/>
              <a:ext cx="1080" cy="156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1" idx="4"/>
              <a:endCxn id="192" idx="1"/>
            </p:cNvCxnSpPr>
            <p:nvPr/>
          </p:nvCxnSpPr>
          <p:spPr>
            <a:xfrm flipH="1" rot="16200000">
              <a:off x="934200" y="4520520"/>
              <a:ext cx="1073520" cy="51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0" idx="0"/>
              <a:endCxn id="195" idx="1"/>
            </p:cNvCxnSpPr>
            <p:nvPr/>
          </p:nvCxnSpPr>
          <p:spPr>
            <a:xfrm flipH="1" flipV="1" rot="5400000">
              <a:off x="954000" y="3028320"/>
              <a:ext cx="1037160" cy="516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5357880" y="2616120"/>
              <a:ext cx="741240" cy="304920"/>
            </a:xfrm>
            <a:custGeom>
              <a:avLst/>
              <a:gdLst>
                <a:gd name="textAreaLeft" fmla="*/ 86760 w 741240"/>
                <a:gd name="textAreaRight" fmla="*/ 654480 w 741240"/>
                <a:gd name="textAreaTop" fmla="*/ 73080 h 304920"/>
                <a:gd name="textAreaBottom" fmla="*/ 2318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175"/>
                  </a:moveTo>
                  <a:lnTo>
                    <a:pt x="16743" y="5175"/>
                  </a:lnTo>
                  <a:lnTo>
                    <a:pt x="16743" y="0"/>
                  </a:lnTo>
                  <a:lnTo>
                    <a:pt x="21600" y="10800"/>
                  </a:lnTo>
                  <a:lnTo>
                    <a:pt x="16743" y="21600"/>
                  </a:lnTo>
                  <a:lnTo>
                    <a:pt x="16743" y="16425"/>
                  </a:lnTo>
                  <a:lnTo>
                    <a:pt x="0" y="16425"/>
                  </a:lnTo>
                  <a:lnTo>
                    <a:pt x="2530" y="10800"/>
                  </a:lnTo>
                  <a:lnTo>
                    <a:pt x="0" y="5175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2960" y="2617920"/>
              <a:ext cx="2361960" cy="304560"/>
            </a:xfrm>
            <a:custGeom>
              <a:avLst/>
              <a:gdLst>
                <a:gd name="textAreaLeft" fmla="*/ 91080 w 2361960"/>
                <a:gd name="textAreaRight" fmla="*/ 2270880 w 2361960"/>
                <a:gd name="textAreaTop" fmla="*/ 69840 h 304560"/>
                <a:gd name="textAreaBottom" fmla="*/ 2347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950"/>
                  </a:moveTo>
                  <a:lnTo>
                    <a:pt x="20061" y="4950"/>
                  </a:lnTo>
                  <a:lnTo>
                    <a:pt x="20061" y="0"/>
                  </a:lnTo>
                  <a:lnTo>
                    <a:pt x="21600" y="10800"/>
                  </a:lnTo>
                  <a:lnTo>
                    <a:pt x="20061" y="21600"/>
                  </a:lnTo>
                  <a:lnTo>
                    <a:pt x="20061" y="16650"/>
                  </a:lnTo>
                  <a:lnTo>
                    <a:pt x="0" y="16650"/>
                  </a:lnTo>
                  <a:lnTo>
                    <a:pt x="834" y="10800"/>
                  </a:lnTo>
                  <a:lnTo>
                    <a:pt x="0" y="495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ploy Rapid-Developed Courseware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405240" y="4305240"/>
            <a:ext cx="914400" cy="1333080"/>
            <a:chOff x="3405240" y="4305240"/>
            <a:chExt cx="914400" cy="1333080"/>
          </a:xfrm>
        </p:grpSpPr>
        <p:sp>
          <p:nvSpPr>
            <p:cNvPr id="149" name=""/>
            <p:cNvSpPr/>
            <p:nvPr/>
          </p:nvSpPr>
          <p:spPr>
            <a:xfrm>
              <a:off x="3405240" y="5006880"/>
              <a:ext cx="914400" cy="2808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ive Ev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05240" y="4305240"/>
              <a:ext cx="914400" cy="2804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05240" y="5357880"/>
              <a:ext cx="914400" cy="2804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5240" y="4655880"/>
              <a:ext cx="914400" cy="2808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fffff"/>
                </a:gs>
                <a:gs pos="100000">
                  <a:srgbClr val="cc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83808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2:52:00Z</dcterms:created>
  <dc:creator>Peggy Lewis</dc:creator>
  <dc:description/>
  <dc:language>en-US</dc:language>
  <cp:lastModifiedBy>Chris Bray</cp:lastModifiedBy>
  <dcterms:modified xsi:type="dcterms:W3CDTF">2006-02-01T14:35:09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