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AA5-529E-4D7E-84EC-8497F4F7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F07-D468-45DB-B518-EC69545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FAF-7A23-489D-A98D-635A59B7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FEB-0D4B-4A33-8878-E5211AA9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E7C-26F7-498F-B94F-B3EA6DE4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238-12B7-4613-9319-07D7A833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72A-489E-458B-96DB-862D3D9F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8AF-BCB6-400B-8B8B-93D482C3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7DC-C1F8-4091-AEA6-569A111F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6D5-1BFE-429D-81CD-F0FB2FD2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806-131F-4A21-A65D-92E37EE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D67-9E33-49EF-8943-78DE7B0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E21-9BEF-4510-8810-D599A2130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Interop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CC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C/LTSC/S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6 Feb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110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876920" y="3505320"/>
            <a:ext cx="1541520" cy="799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05520" y="2133720"/>
            <a:ext cx="1108080" cy="1371600"/>
            <a:chOff x="5105520" y="2133720"/>
            <a:chExt cx="1108080" cy="1371600"/>
          </a:xfrm>
        </p:grpSpPr>
        <p:sp>
          <p:nvSpPr>
            <p:cNvPr id="114" name=""/>
            <p:cNvSpPr/>
            <p:nvPr/>
          </p:nvSpPr>
          <p:spPr>
            <a:xfrm>
              <a:off x="51055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-me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428640" y="1828800"/>
            <a:ext cx="1676880" cy="1295280"/>
            <a:chOff x="3428640" y="1828800"/>
            <a:chExt cx="1676880" cy="1295280"/>
          </a:xfrm>
        </p:grpSpPr>
        <p:sp>
          <p:nvSpPr>
            <p:cNvPr id="117" name=""/>
            <p:cNvSpPr/>
            <p:nvPr/>
          </p:nvSpPr>
          <p:spPr>
            <a:xfrm>
              <a:off x="3733920" y="182880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42864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0060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952880" y="4266720"/>
            <a:ext cx="1287720" cy="2250000"/>
            <a:chOff x="4952880" y="4266720"/>
            <a:chExt cx="1287720" cy="2250000"/>
          </a:xfrm>
        </p:grpSpPr>
        <p:sp>
          <p:nvSpPr>
            <p:cNvPr id="121" name=""/>
            <p:cNvSpPr/>
            <p:nvPr/>
          </p:nvSpPr>
          <p:spPr>
            <a:xfrm>
              <a:off x="4952880" y="4724280"/>
              <a:ext cx="1287720" cy="17924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638680" y="426672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418440" y="1752480"/>
            <a:ext cx="2222280" cy="2136600"/>
            <a:chOff x="6418440" y="1752480"/>
            <a:chExt cx="2222280" cy="2136600"/>
          </a:xfrm>
        </p:grpSpPr>
        <p:sp>
          <p:nvSpPr>
            <p:cNvPr id="124" name=""/>
            <p:cNvSpPr/>
            <p:nvPr/>
          </p:nvSpPr>
          <p:spPr>
            <a:xfrm>
              <a:off x="6781680" y="1752480"/>
              <a:ext cx="1859040" cy="1257480"/>
            </a:xfrm>
            <a:prstGeom prst="hexagon">
              <a:avLst>
                <a:gd name="adj" fmla="val 36960"/>
                <a:gd name="vf" fmla="val 11547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418440" y="2971440"/>
              <a:ext cx="1277640" cy="9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122560" y="5362560"/>
            <a:ext cx="15746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95480" y="3889440"/>
            <a:ext cx="1946520" cy="1496880"/>
            <a:chOff x="2895480" y="3889440"/>
            <a:chExt cx="1946520" cy="1496880"/>
          </a:xfrm>
        </p:grpSpPr>
        <p:sp>
          <p:nvSpPr>
            <p:cNvPr id="128" name=""/>
            <p:cNvSpPr/>
            <p:nvPr/>
          </p:nvSpPr>
          <p:spPr>
            <a:xfrm>
              <a:off x="3841920" y="388944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457200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3520" y="5410080"/>
            <a:ext cx="1600200" cy="812880"/>
            <a:chOff x="533520" y="5410080"/>
            <a:chExt cx="1600200" cy="812880"/>
          </a:xfrm>
        </p:grpSpPr>
        <p:sp>
          <p:nvSpPr>
            <p:cNvPr id="131" name=""/>
            <p:cNvSpPr/>
            <p:nvPr/>
          </p:nvSpPr>
          <p:spPr>
            <a:xfrm>
              <a:off x="533520" y="5410080"/>
              <a:ext cx="1108080" cy="812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0200" y="5791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33520" y="3276720"/>
            <a:ext cx="1066680" cy="2133360"/>
            <a:chOff x="533520" y="3276720"/>
            <a:chExt cx="1066680" cy="2133360"/>
          </a:xfrm>
        </p:grpSpPr>
        <p:sp>
          <p:nvSpPr>
            <p:cNvPr id="134" name=""/>
            <p:cNvSpPr/>
            <p:nvPr/>
          </p:nvSpPr>
          <p:spPr>
            <a:xfrm>
              <a:off x="533520" y="327672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6680" y="4572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733920" y="571500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447920" y="28954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71800" y="3962520"/>
            <a:ext cx="1828800" cy="1371600"/>
            <a:chOff x="2971800" y="3962520"/>
            <a:chExt cx="1828800" cy="1371600"/>
          </a:xfrm>
        </p:grpSpPr>
        <p:sp>
          <p:nvSpPr>
            <p:cNvPr id="139" name=""/>
            <p:cNvSpPr/>
            <p:nvPr/>
          </p:nvSpPr>
          <p:spPr>
            <a:xfrm>
              <a:off x="2971800" y="4572000"/>
              <a:ext cx="762120" cy="7621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39625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895480" y="3886200"/>
            <a:ext cx="1946520" cy="1496880"/>
            <a:chOff x="2895480" y="3886200"/>
            <a:chExt cx="1946520" cy="1496880"/>
          </a:xfrm>
        </p:grpSpPr>
        <p:sp>
          <p:nvSpPr>
            <p:cNvPr id="142" name=""/>
            <p:cNvSpPr/>
            <p:nvPr/>
          </p:nvSpPr>
          <p:spPr>
            <a:xfrm>
              <a:off x="3841920" y="3886200"/>
              <a:ext cx="100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4568760"/>
              <a:ext cx="0" cy="814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7F8-76EE-4C49-AC18-0A46CD3596B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Simulation Have to do to Work in a Train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. is mandatory all others are 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with Instructional/Author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state or condition o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/decel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ailure inse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ts behavior in ways to support training needs -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755-5340-4CE1-8B5D-1FFC0B47D3B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/Should a Specification for Interoperability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666880"/>
            <a:ext cx="2438280" cy="1981440"/>
          </a:xfrm>
          <a:prstGeom prst="leftArrow">
            <a:avLst>
              <a:gd name="adj1" fmla="val 50000"/>
              <a:gd name="adj2" fmla="val 3076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893-8B32-41A6-AB9B-5C75EADF29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Communi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Activities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student/user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Activities NOT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ternal simulation states of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 positio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371600"/>
            <a:ext cx="190476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1363680" cy="790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800600" y="152388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167652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41F-0E5B-4242-B58C-861ED655683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90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T controls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T provides screen real-estate f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has component that places image on real-estat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ponds to mouse/touch inputs on its own real-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180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T responds to inputs outside simulation real-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3C2-96F7-4577-AC41-7484E6878A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splay Managemen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of C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 allocated for simulation -- size &amp;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e/displa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der/no b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 title/no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ocat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o 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ication of simulation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specific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8B4-0BD6-4BD2-9B95-D6863064123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i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state/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/decelerat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525780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2000" y="5486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152-F390-495A-8125-18654CC0B6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imulat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: send each student action to CBT &amp; wait for go-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: send each student action, but do not wait to si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: respond immediately to student input, but wait for OK before allowing anoth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play:  no report to CBT until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: respond to CBT not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1447920"/>
            <a:ext cx="19051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363680" cy="79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1480" y="1600200"/>
            <a:ext cx="1905120" cy="914400"/>
          </a:xfrm>
          <a:prstGeom prst="parallelogram">
            <a:avLst>
              <a:gd name="adj" fmla="val 520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752480"/>
            <a:ext cx="1295640" cy="533520"/>
          </a:xfrm>
          <a:prstGeom prst="leftRightArrow">
            <a:avLst>
              <a:gd name="adj1" fmla="val 50000"/>
              <a:gd name="adj2" fmla="val 4834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E12-A32B-420E-ACAB-EA344BB2CA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 Ac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the student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his action (move switch, turn knob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tatus? (temperature, pressure, etc – something inside the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is, and let me know if the threshold is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2E7-FDDD-4F2C-AA49-1074C20EA3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ally want to be able to use all the instructional strategies we can thin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iagnose what went wrong i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end and receive commands without standardizing all the names in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simulation maker name the controls and functions.  Then tell the user what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let accompanying simula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interactive query with the simulation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676-F097-4927-B48A-641FC5D5C3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/CB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CC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/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6C1-EEEE-454F-8857-D9D82088E0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qu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mat for all the names (not standard names) and functions in a simulation – standardized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commands fo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52E-4974-4C5A-B522-49313077DA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nds and Data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LastError(“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ErrorString(“error numb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(command,location,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(“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CFD-94A0-4154-AD5B-682EFBCA77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66880" y="3502080"/>
            <a:ext cx="3581640" cy="3355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Execute Command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G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C3F-9964-434C-B35A-A02972F4BF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72200" y="4905360"/>
            <a:ext cx="1979640" cy="1952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Documents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D10 – Simulation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s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effort at creating a command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G10 v7 – Content and Simulation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B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2B2-FCA9-4001-AC4B-B5695701CC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(and Beginn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657600" y="4495680"/>
            <a:ext cx="1231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= Courseware = C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signed to suppo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(hardware and/or software) that is designed to change over time and react to inputs so that its user perceives that it is acting like the system being sim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408-E362-49D4-AB13-4DEA0972C1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effective training strategies exist for using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ould be cost effective to be able to implement the strategies with courseware instead of instru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simulations have embedded support for building coursewa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imulations with support, each have a unique instructional design interface, and most do not enable all the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enable simulations to work with our favorite courseware building to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E6B-F870-416C-B95F-37B793B65C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of a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, content &amp; content-building tools working seamlessly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/Conten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simulation (designed to the spec) work with any content authoring/delivery tool (that supports the spe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multiple instruction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3D1-23F9-45B4-986F-BEE793E639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29200" y="1828800"/>
            <a:ext cx="3886200" cy="37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FFB-F005-4ED6-84D2-0FD78D19BD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57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1828800"/>
            <a:ext cx="4343400" cy="2743200"/>
            <a:chOff x="533520" y="1828800"/>
            <a:chExt cx="4343400" cy="2743200"/>
          </a:xfrm>
        </p:grpSpPr>
        <p:sp>
          <p:nvSpPr>
            <p:cNvPr id="60" name=""/>
            <p:cNvSpPr/>
            <p:nvPr/>
          </p:nvSpPr>
          <p:spPr>
            <a:xfrm>
              <a:off x="3809880" y="1828800"/>
              <a:ext cx="106704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29000" y="2514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3520" y="327672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447920" y="2895480"/>
              <a:ext cx="91440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122560" y="4572000"/>
            <a:ext cx="1574640" cy="1628640"/>
            <a:chOff x="2122560" y="4572000"/>
            <a:chExt cx="1574640" cy="1628640"/>
          </a:xfrm>
        </p:grpSpPr>
        <p:sp>
          <p:nvSpPr>
            <p:cNvPr id="65" name=""/>
            <p:cNvSpPr/>
            <p:nvPr/>
          </p:nvSpPr>
          <p:spPr>
            <a:xfrm>
              <a:off x="2122560" y="5362560"/>
              <a:ext cx="157464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95480" y="457200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41920" y="3505320"/>
            <a:ext cx="2576520" cy="799920"/>
            <a:chOff x="3841920" y="3505320"/>
            <a:chExt cx="2576520" cy="799920"/>
          </a:xfrm>
        </p:grpSpPr>
        <p:sp>
          <p:nvSpPr>
            <p:cNvPr id="68" name=""/>
            <p:cNvSpPr/>
            <p:nvPr/>
          </p:nvSpPr>
          <p:spPr>
            <a:xfrm>
              <a:off x="4876920" y="3505320"/>
              <a:ext cx="1541520" cy="79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c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41920" y="388944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6C4-4DF1-4870-A783-243140077E8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uthor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73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22560" y="4572000"/>
            <a:ext cx="1574640" cy="1628640"/>
            <a:chOff x="2122560" y="4572000"/>
            <a:chExt cx="1574640" cy="1628640"/>
          </a:xfrm>
        </p:grpSpPr>
        <p:sp>
          <p:nvSpPr>
            <p:cNvPr id="76" name=""/>
            <p:cNvSpPr/>
            <p:nvPr/>
          </p:nvSpPr>
          <p:spPr>
            <a:xfrm>
              <a:off x="2122560" y="5362560"/>
              <a:ext cx="157464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o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95480" y="4572000"/>
              <a:ext cx="0" cy="81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5410080"/>
            <a:ext cx="1600200" cy="812880"/>
            <a:chOff x="533520" y="5410080"/>
            <a:chExt cx="1600200" cy="812880"/>
          </a:xfrm>
        </p:grpSpPr>
        <p:sp>
          <p:nvSpPr>
            <p:cNvPr id="79" name=""/>
            <p:cNvSpPr/>
            <p:nvPr/>
          </p:nvSpPr>
          <p:spPr>
            <a:xfrm>
              <a:off x="533520" y="5410080"/>
              <a:ext cx="1108080" cy="812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57913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3276720"/>
            <a:ext cx="1066680" cy="2133360"/>
            <a:chOff x="533520" y="3276720"/>
            <a:chExt cx="1066680" cy="2133360"/>
          </a:xfrm>
        </p:grpSpPr>
        <p:sp>
          <p:nvSpPr>
            <p:cNvPr id="82" name=""/>
            <p:cNvSpPr/>
            <p:nvPr/>
          </p:nvSpPr>
          <p:spPr>
            <a:xfrm>
              <a:off x="533520" y="327672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66680" y="4572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733920" y="4724280"/>
            <a:ext cx="2506680" cy="1792440"/>
            <a:chOff x="3733920" y="4724280"/>
            <a:chExt cx="2506680" cy="1792440"/>
          </a:xfrm>
        </p:grpSpPr>
        <p:sp>
          <p:nvSpPr>
            <p:cNvPr id="85" name=""/>
            <p:cNvSpPr/>
            <p:nvPr/>
          </p:nvSpPr>
          <p:spPr>
            <a:xfrm>
              <a:off x="4952880" y="4724280"/>
              <a:ext cx="1287720" cy="17924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3920" y="5715000"/>
              <a:ext cx="129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8C3-1215-4EC4-A9E5-6711B9704E5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structional Control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402000"/>
            <a:ext cx="1860840" cy="1141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2133720"/>
            <a:ext cx="1108080" cy="1328760"/>
            <a:chOff x="2362320" y="2133720"/>
            <a:chExt cx="1108080" cy="1328760"/>
          </a:xfrm>
        </p:grpSpPr>
        <p:sp>
          <p:nvSpPr>
            <p:cNvPr id="90" name=""/>
            <p:cNvSpPr/>
            <p:nvPr/>
          </p:nvSpPr>
          <p:spPr>
            <a:xfrm>
              <a:off x="23623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raph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95480" y="297180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41920" y="3505320"/>
            <a:ext cx="2576520" cy="799920"/>
            <a:chOff x="3841920" y="3505320"/>
            <a:chExt cx="2576520" cy="799920"/>
          </a:xfrm>
        </p:grpSpPr>
        <p:sp>
          <p:nvSpPr>
            <p:cNvPr id="93" name=""/>
            <p:cNvSpPr/>
            <p:nvPr/>
          </p:nvSpPr>
          <p:spPr>
            <a:xfrm>
              <a:off x="4876920" y="3505320"/>
              <a:ext cx="1541520" cy="79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c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41920" y="388944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5520" y="2133720"/>
            <a:ext cx="1108080" cy="1371600"/>
            <a:chOff x="5105520" y="2133720"/>
            <a:chExt cx="1108080" cy="1371600"/>
          </a:xfrm>
        </p:grpSpPr>
        <p:sp>
          <p:nvSpPr>
            <p:cNvPr id="96" name=""/>
            <p:cNvSpPr/>
            <p:nvPr/>
          </p:nvSpPr>
          <p:spPr>
            <a:xfrm>
              <a:off x="5105520" y="2133720"/>
              <a:ext cx="1108080" cy="81252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-me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38680" y="2895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733920" y="1828800"/>
            <a:ext cx="1371600" cy="1295280"/>
            <a:chOff x="3733920" y="1828800"/>
            <a:chExt cx="1371600" cy="1295280"/>
          </a:xfrm>
        </p:grpSpPr>
        <p:sp>
          <p:nvSpPr>
            <p:cNvPr id="99" name=""/>
            <p:cNvSpPr/>
            <p:nvPr/>
          </p:nvSpPr>
          <p:spPr>
            <a:xfrm>
              <a:off x="3733920" y="1828800"/>
              <a:ext cx="1066680" cy="1295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00600" y="25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952880" y="4266720"/>
            <a:ext cx="1287720" cy="2250000"/>
            <a:chOff x="4952880" y="4266720"/>
            <a:chExt cx="1287720" cy="2250000"/>
          </a:xfrm>
        </p:grpSpPr>
        <p:sp>
          <p:nvSpPr>
            <p:cNvPr id="102" name=""/>
            <p:cNvSpPr/>
            <p:nvPr/>
          </p:nvSpPr>
          <p:spPr>
            <a:xfrm>
              <a:off x="4952880" y="4724280"/>
              <a:ext cx="1287720" cy="1792440"/>
            </a:xfrm>
            <a:prstGeom prst="foldedCorner">
              <a:avLst>
                <a:gd name="adj" fmla="val 125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638680" y="426672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18440" y="1752480"/>
            <a:ext cx="2222280" cy="2136600"/>
            <a:chOff x="6418440" y="1752480"/>
            <a:chExt cx="2222280" cy="2136600"/>
          </a:xfrm>
        </p:grpSpPr>
        <p:sp>
          <p:nvSpPr>
            <p:cNvPr id="105" name=""/>
            <p:cNvSpPr/>
            <p:nvPr/>
          </p:nvSpPr>
          <p:spPr>
            <a:xfrm>
              <a:off x="6781680" y="1752480"/>
              <a:ext cx="1859040" cy="1257480"/>
            </a:xfrm>
            <a:prstGeom prst="hexagon">
              <a:avLst>
                <a:gd name="adj" fmla="val 36960"/>
                <a:gd name="vf" fmla="val 11547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418440" y="2971440"/>
              <a:ext cx="1277640" cy="91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FB2-4EF7-46A7-BC61-DBC9157907E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-Feb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6:39:46Z</dcterms:created>
  <dc:creator>Jack Hyde</dc:creator>
  <dc:description/>
  <dc:language>en-US</dc:language>
  <cp:lastModifiedBy> </cp:lastModifiedBy>
  <dcterms:modified xsi:type="dcterms:W3CDTF">2006-02-02T22:56:06Z</dcterms:modified>
  <cp:revision>36</cp:revision>
  <dc:subject/>
  <dc:title>Simulation Interoperability</dc:title>
</cp:coreProperties>
</file>