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295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C4076B20-CF61-40D1-B112-DEFFF8FC8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colors:  Black is in place now,  red is not yet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three computing environ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Management System Server (Network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 Server (Networ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processor and Use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parallel nature of the Activity Tree (as a database of initial conditions for the learning activities) and the simulation Initia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SC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ention/Explanation SCO (triggered by event, halts simulation, informs student, resumes simulation, comple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R SCO (Post-processing of datalog used to provide initial parameters for the AAR S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Initial Conditions across the Simulation Network.  Static for the life of the simula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s “fair play” and realism (not always instructionally 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T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the low-level communication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al Requirement:  Learning System controls the user interface to the simulation.  NOT NEGOT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B429-7994-4E98-A008-84F90DEC9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7240" y="3758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51600"/>
            <a:ext cx="77724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8970A-2E1B-4B1F-9BF7-55D17CE81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7240" y="3758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51600"/>
            <a:ext cx="37926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51600"/>
            <a:ext cx="37926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AC30-CC5F-4119-A127-4E240784D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7240" y="3758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51600"/>
            <a:ext cx="2502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51600"/>
            <a:ext cx="2502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51600"/>
            <a:ext cx="2502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4D2E-926D-4366-B36E-330CC583AC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27240" y="3758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9547-2186-42D0-89A5-1827B43112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27240" y="3758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181D-9159-4139-B701-2AE1F4036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7240" y="3758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2B1B9-5C1C-47F7-A9DE-47678C35D0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7240" y="3758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1601-6CD8-489E-BDFA-0174BFC86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27240" y="375840"/>
            <a:ext cx="77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A5A8-30DC-4A50-A431-C27D9B8BC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7240" y="3758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51600"/>
            <a:ext cx="37926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1382-EC3B-4296-B9D5-4543C7EB2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7240" y="3758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51600"/>
            <a:ext cx="37926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0EC9-91A7-4B19-A3E3-0CE7C37C8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7240" y="3758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51600"/>
            <a:ext cx="777240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8C77D-3BBF-4E6E-9D09-265735CF0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379920" y="647820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Myriad Pr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yriad Pro"/>
              </a:rPr>
              <a:t>Page </a:t>
            </a:r>
            <a:fld id="{4529DC6D-16D8-413B-A215-348A737D730C}" type="slidenum">
              <a:rPr b="0" lang="en-US" sz="1200" spc="-1" strike="noStrike">
                <a:solidFill>
                  <a:srgbClr val="000000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27240" y="37584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295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1001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6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  <a:p>
            <a:pPr lvl="1" marL="692280" indent="-289080">
              <a:spcBef>
                <a:spcPts val="1001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6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  <a:p>
            <a:pPr lvl="2" marL="1090440" indent="-176040">
              <a:spcBef>
                <a:spcPts val="1001"/>
              </a:spcBef>
              <a:buClr>
                <a:srgbClr val="95aed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6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  <a:p>
            <a:pPr lvl="3" marL="1541520" indent="-169920">
              <a:spcBef>
                <a:spcPts val="1001"/>
              </a:spcBef>
              <a:buClr>
                <a:srgbClr val="95aed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6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6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6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6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57960"/>
            <a:ext cx="9144000" cy="0"/>
          </a:xfrm>
          <a:prstGeom prst="line">
            <a:avLst/>
          </a:prstGeom>
          <a:ln w="9360">
            <a:solidFill>
              <a:srgbClr val="005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28600" y="6485040"/>
            <a:ext cx="590400" cy="24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gaf@rti.org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5295"/>
                </a:solidFill>
                <a:latin typeface="Times New Roman"/>
              </a:rPr>
              <a:t>Research Triangle Institute </a:t>
            </a:r>
            <a:br>
              <a:rPr sz="3400"/>
            </a:br>
            <a:r>
              <a:rPr b="0" lang="en-US" sz="3400" spc="-1" strike="noStrike">
                <a:solidFill>
                  <a:srgbClr val="005295"/>
                </a:solidFill>
                <a:latin typeface="Times New Roman"/>
              </a:rPr>
              <a:t>(RTI International)</a:t>
            </a:r>
            <a:br>
              <a:rPr sz="3400"/>
            </a:br>
            <a:r>
              <a:rPr b="0" lang="en-US" sz="3400" spc="-1" strike="noStrike">
                <a:solidFill>
                  <a:srgbClr val="005295"/>
                </a:solidFill>
                <a:latin typeface="Times New Roman"/>
              </a:rPr>
              <a:t>LMS- Simulation Interface Position</a:t>
            </a:r>
            <a:endParaRPr b="0" lang="en-US" sz="34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6f"/>
                </a:solidFill>
                <a:latin typeface="Arial"/>
              </a:rPr>
              <a:t>Geoffrey A. Frank</a:t>
            </a: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6f"/>
                </a:solidFill>
                <a:latin typeface="Arial"/>
              </a:rPr>
              <a:t>Technology Assisted Learning Center</a:t>
            </a: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af@rti.org</a:t>
            </a:r>
            <a:endParaRPr b="1" lang="en-US" sz="20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BEF8-B7C7-42BF-AADB-3D7CB30780AD}" type="slidenum">
              <a:t>1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7240" y="-3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295"/>
                </a:solidFill>
                <a:latin typeface="Times New Roman"/>
              </a:rPr>
              <a:t>User Requirements</a:t>
            </a: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86960" y="1209240"/>
            <a:ext cx="7696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1400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6f"/>
                </a:solidFill>
                <a:latin typeface="Arial"/>
              </a:rPr>
              <a:t>Stand-Alone simulations for asynchronous training</a:t>
            </a:r>
            <a:endParaRPr b="1" lang="en-US" sz="2800" spc="-1" strike="noStrike">
              <a:solidFill>
                <a:srgbClr val="00396f"/>
              </a:solidFill>
              <a:latin typeface="Arial"/>
            </a:endParaRPr>
          </a:p>
          <a:p>
            <a:pPr marL="289080" indent="-289080">
              <a:spcBef>
                <a:spcPts val="1400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6f"/>
                </a:solidFill>
                <a:latin typeface="Arial"/>
              </a:rPr>
              <a:t>Multiple levels of scaffolding (student assistance)</a:t>
            </a:r>
            <a:endParaRPr b="1" lang="en-US" sz="2800" spc="-1" strike="noStrike">
              <a:solidFill>
                <a:srgbClr val="00396f"/>
              </a:solidFill>
              <a:latin typeface="Arial"/>
            </a:endParaRPr>
          </a:p>
          <a:p>
            <a:pPr marL="289080" indent="-289080">
              <a:spcBef>
                <a:spcPts val="1400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6f"/>
                </a:solidFill>
                <a:latin typeface="Arial"/>
              </a:rPr>
              <a:t>Potential for repeated, deliberate practice</a:t>
            </a:r>
            <a:endParaRPr b="1" lang="en-US" sz="2800" spc="-1" strike="noStrike">
              <a:solidFill>
                <a:srgbClr val="00396f"/>
              </a:solidFill>
              <a:latin typeface="Arial"/>
            </a:endParaRPr>
          </a:p>
          <a:p>
            <a:pPr marL="289080" indent="-289080">
              <a:spcBef>
                <a:spcPts val="1400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6f"/>
                </a:solidFill>
                <a:latin typeface="Arial"/>
              </a:rPr>
              <a:t>Automated performance assessment</a:t>
            </a:r>
            <a:endParaRPr b="1" lang="en-US" sz="2800" spc="-1" strike="noStrike">
              <a:solidFill>
                <a:srgbClr val="00396f"/>
              </a:solidFill>
              <a:latin typeface="Arial"/>
            </a:endParaRPr>
          </a:p>
          <a:p>
            <a:pPr marL="289080" indent="-289080">
              <a:spcBef>
                <a:spcPts val="1400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6f"/>
                </a:solidFill>
                <a:latin typeface="Arial"/>
              </a:rPr>
              <a:t>Concurrent assessment of multiple skills</a:t>
            </a:r>
            <a:endParaRPr b="1" lang="en-US" sz="2800" spc="-1" strike="noStrike">
              <a:solidFill>
                <a:srgbClr val="00396f"/>
              </a:solidFill>
              <a:latin typeface="Arial"/>
            </a:endParaRPr>
          </a:p>
          <a:p>
            <a:pPr marL="289080" indent="-289080">
              <a:spcBef>
                <a:spcPts val="1400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6f"/>
                </a:solidFill>
                <a:latin typeface="Arial"/>
              </a:rPr>
              <a:t>Book-marking </a:t>
            </a:r>
            <a:endParaRPr b="1" lang="en-US" sz="2800" spc="-1" strike="noStrike">
              <a:solidFill>
                <a:srgbClr val="00396f"/>
              </a:solidFill>
              <a:latin typeface="Arial"/>
            </a:endParaRPr>
          </a:p>
          <a:p>
            <a:pPr lvl="1" marL="692280" indent="-289080">
              <a:spcBef>
                <a:spcPts val="1199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6f"/>
                </a:solidFill>
                <a:latin typeface="Arial"/>
              </a:rPr>
              <a:t>Persistent storage of partial results</a:t>
            </a:r>
            <a:endParaRPr b="0" lang="en-US" sz="24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13649-3913-4957-B1F0-8448DE7AC84B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295"/>
                </a:solidFill>
                <a:latin typeface="Times New Roman"/>
              </a:rPr>
              <a:t>Example Solutions</a:t>
            </a: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35040" y="1182240"/>
            <a:ext cx="4317840" cy="19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901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96f"/>
                </a:solidFill>
                <a:latin typeface="Arial"/>
              </a:rPr>
              <a:t>Web-downloadable  interactive 3D simulations for individual training</a:t>
            </a:r>
            <a:endParaRPr b="1" lang="en-US" sz="1800" spc="-1" strike="noStrike">
              <a:solidFill>
                <a:srgbClr val="00396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96f"/>
                </a:solidFill>
                <a:latin typeface="Arial"/>
              </a:rPr>
              <a:t>The Familiarize, Acquire, Practice, Validate approach to scaffolding</a:t>
            </a:r>
            <a:endParaRPr b="1" lang="en-US" sz="1800" spc="-1" strike="noStrike">
              <a:solidFill>
                <a:srgbClr val="00396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901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96f"/>
                </a:solidFill>
                <a:latin typeface="Arial"/>
              </a:rPr>
              <a:t>After Action Reviews</a:t>
            </a:r>
            <a:endParaRPr b="1" lang="en-US" sz="1800" spc="-1" strike="noStrike">
              <a:solidFill>
                <a:srgbClr val="00396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616720" y="515880"/>
            <a:ext cx="3305160" cy="2867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767560" y="3568680"/>
            <a:ext cx="2881080" cy="246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30360" y="3046320"/>
            <a:ext cx="4284720" cy="327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8959-4E8E-4C86-80C0-9D5C31EE33BE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6400" y="161640"/>
            <a:ext cx="471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295"/>
                </a:solidFill>
                <a:latin typeface="Times New Roman"/>
              </a:rPr>
              <a:t>The FAPV Model </a:t>
            </a:r>
            <a:br>
              <a:rPr sz="3800"/>
            </a:br>
            <a:r>
              <a:rPr b="0" lang="en-US" sz="3800" spc="-1" strike="noStrike">
                <a:solidFill>
                  <a:srgbClr val="005295"/>
                </a:solidFill>
                <a:latin typeface="Times New Roman"/>
              </a:rPr>
              <a:t>for Learning by Doing</a:t>
            </a: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494000"/>
            <a:ext cx="597384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6f"/>
                </a:solidFill>
                <a:latin typeface="Arial"/>
              </a:rPr>
              <a:t>Familiarize:</a:t>
            </a:r>
            <a:endParaRPr b="1" lang="en-US" sz="1800" spc="-1" strike="noStrike">
              <a:solidFill>
                <a:srgbClr val="00396f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arning pre-requisite knowledge for performing a task (equipment, controls, indicators, terminology)</a:t>
            </a:r>
            <a:endParaRPr b="0" lang="en-US" sz="1700" spc="-1" strike="noStrike">
              <a:solidFill>
                <a:srgbClr val="00396f"/>
              </a:solidFill>
              <a:latin typeface="Arial"/>
            </a:endParaRPr>
          </a:p>
          <a:p>
            <a:pPr marL="289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6f"/>
                </a:solidFill>
                <a:latin typeface="Arial"/>
              </a:rPr>
              <a:t>Acquire Skill:</a:t>
            </a:r>
            <a:endParaRPr b="1" lang="en-US" sz="1800" spc="-1" strike="noStrike">
              <a:solidFill>
                <a:srgbClr val="00396f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arn a task by being shown how to do it</a:t>
            </a:r>
            <a:endParaRPr b="0" lang="en-US" sz="1700" spc="-1" strike="noStrike">
              <a:solidFill>
                <a:srgbClr val="00396f"/>
              </a:solidFill>
              <a:latin typeface="Arial"/>
            </a:endParaRPr>
          </a:p>
          <a:p>
            <a:pPr marL="289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6f"/>
                </a:solidFill>
                <a:latin typeface="Arial"/>
              </a:rPr>
              <a:t>Practice Skill:</a:t>
            </a:r>
            <a:endParaRPr b="1" lang="en-US" sz="1800" spc="-1" strike="noStrike">
              <a:solidFill>
                <a:srgbClr val="00396f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nalize the techniques and sequence of a task by doing it with help available</a:t>
            </a:r>
            <a:endParaRPr b="0" lang="en-US" sz="1700" spc="-1" strike="noStrike">
              <a:solidFill>
                <a:srgbClr val="00396f"/>
              </a:solidFill>
              <a:latin typeface="Arial"/>
            </a:endParaRPr>
          </a:p>
          <a:p>
            <a:pPr marL="289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6f"/>
                </a:solidFill>
                <a:latin typeface="Arial"/>
              </a:rPr>
              <a:t>Validate Skill:</a:t>
            </a:r>
            <a:endParaRPr b="1" lang="en-US" sz="1800" spc="-1" strike="noStrike">
              <a:solidFill>
                <a:srgbClr val="00396f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e tested on ability to perform the task without help</a:t>
            </a:r>
            <a:endParaRPr b="0" lang="en-US" sz="17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62840" y="174600"/>
            <a:ext cx="2587320" cy="1887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893960" y="4433760"/>
            <a:ext cx="2882880" cy="2252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124680" y="2152800"/>
            <a:ext cx="2695320" cy="1965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5921280" y="4349880"/>
            <a:ext cx="2774880" cy="202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2AB8-2999-4B6C-8F32-469DB071EE40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99720" y="202680"/>
            <a:ext cx="69152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5295"/>
                </a:solidFill>
                <a:latin typeface="Times New Roman"/>
              </a:rPr>
              <a:t>Automated After Action Reviews</a:t>
            </a:r>
            <a:br>
              <a:rPr sz="3400"/>
            </a:br>
            <a:r>
              <a:rPr b="0" lang="en-US" sz="3400" spc="-1" strike="noStrike">
                <a:solidFill>
                  <a:srgbClr val="005295"/>
                </a:solidFill>
                <a:latin typeface="Times New Roman"/>
              </a:rPr>
              <a:t>for Individual Training</a:t>
            </a:r>
            <a:br>
              <a:rPr sz="3400"/>
            </a:br>
            <a:r>
              <a:rPr b="0" lang="en-US" sz="2800" spc="-1" strike="noStrike">
                <a:solidFill>
                  <a:srgbClr val="005295"/>
                </a:solidFill>
                <a:latin typeface="Times New Roman"/>
              </a:rPr>
              <a:t>(Performance Measure Summary)</a:t>
            </a:r>
            <a:endParaRPr b="0" lang="en-US" sz="2800" spc="-1" strike="noStrike">
              <a:solidFill>
                <a:srgbClr val="005295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0" t="0" r="0" b="5114"/>
          <a:stretch/>
        </p:blipFill>
        <p:spPr>
          <a:xfrm>
            <a:off x="241200" y="2152800"/>
            <a:ext cx="5538960" cy="3732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823000" y="2836800"/>
            <a:ext cx="314316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36880" indent="-236880">
              <a:lnSpc>
                <a:spcPct val="100000"/>
              </a:lnSpc>
              <a:spcBef>
                <a:spcPts val="1001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6f"/>
                </a:solidFill>
                <a:latin typeface="Arial"/>
              </a:rPr>
              <a:t>What happen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360" indent="-236880">
              <a:lnSpc>
                <a:spcPct val="100000"/>
              </a:lnSpc>
              <a:spcBef>
                <a:spcPts val="799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k and Performance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360" indent="-236880">
              <a:lnSpc>
                <a:spcPct val="100000"/>
              </a:lnSpc>
              <a:spcBef>
                <a:spcPts val="799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360" indent="-236880">
              <a:lnSpc>
                <a:spcPct val="100000"/>
              </a:lnSpc>
              <a:spcBef>
                <a:spcPts val="799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6880" indent="-236880">
              <a:lnSpc>
                <a:spcPct val="100000"/>
              </a:lnSpc>
              <a:spcBef>
                <a:spcPts val="1001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6f"/>
                </a:solidFill>
                <a:latin typeface="Arial"/>
              </a:rPr>
              <a:t>Why events happe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360" indent="-236880">
              <a:lnSpc>
                <a:spcPct val="100000"/>
              </a:lnSpc>
              <a:spcBef>
                <a:spcPts val="799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M Crit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360" indent="-236880">
              <a:lnSpc>
                <a:spcPct val="100000"/>
              </a:lnSpc>
              <a:spcBef>
                <a:spcPts val="799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360" indent="-236880">
              <a:lnSpc>
                <a:spcPct val="100000"/>
              </a:lnSpc>
              <a:spcBef>
                <a:spcPts val="799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riteria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360" indent="-236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987720" y="3417840"/>
            <a:ext cx="2293920" cy="26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063680" y="3470400"/>
            <a:ext cx="2243160" cy="63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4635360" y="4215960"/>
            <a:ext cx="1681200" cy="825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4096800" y="4317840"/>
            <a:ext cx="2232360" cy="787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3568320" y="4470480"/>
            <a:ext cx="2747880" cy="673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149640" y="4571640"/>
            <a:ext cx="319248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606480" y="4826160"/>
            <a:ext cx="2646360" cy="901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089240" y="5727600"/>
            <a:ext cx="2151360" cy="12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149640" y="4965840"/>
            <a:ext cx="3090960" cy="7617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772080" y="5283360"/>
            <a:ext cx="2481120" cy="444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809520" y="5524560"/>
            <a:ext cx="2443320" cy="203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9970-F4FA-4826-A914-B93E9213F840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3760" y="177840"/>
            <a:ext cx="6915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5295"/>
                </a:solidFill>
                <a:latin typeface="Times New Roman"/>
              </a:rPr>
              <a:t>Automated After Action Reviews</a:t>
            </a:r>
            <a:br>
              <a:rPr sz="3400"/>
            </a:br>
            <a:r>
              <a:rPr b="0" lang="en-US" sz="3400" spc="-1" strike="noStrike">
                <a:solidFill>
                  <a:srgbClr val="005295"/>
                </a:solidFill>
                <a:latin typeface="Times New Roman"/>
              </a:rPr>
              <a:t>for Individual Training</a:t>
            </a:r>
            <a:br>
              <a:rPr sz="3400"/>
            </a:br>
            <a:r>
              <a:rPr b="0" lang="en-US" sz="2800" spc="-1" strike="noStrike">
                <a:solidFill>
                  <a:srgbClr val="005295"/>
                </a:solidFill>
                <a:latin typeface="Times New Roman"/>
              </a:rPr>
              <a:t>(Student Log)</a:t>
            </a:r>
            <a:endParaRPr b="0" lang="en-US" sz="2800" spc="-1" strike="noStrike">
              <a:solidFill>
                <a:srgbClr val="005295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6442" t="9371" r="0" b="4326"/>
          <a:stretch/>
        </p:blipFill>
        <p:spPr>
          <a:xfrm>
            <a:off x="0" y="1854360"/>
            <a:ext cx="6473880" cy="44780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673680" y="2506680"/>
            <a:ext cx="24703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6f"/>
                </a:solidFill>
                <a:latin typeface="Arial"/>
              </a:rPr>
              <a:t>How events happe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89080">
              <a:lnSpc>
                <a:spcPct val="100000"/>
              </a:lnSpc>
              <a:spcBef>
                <a:spcPts val="799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89080">
              <a:lnSpc>
                <a:spcPct val="100000"/>
              </a:lnSpc>
              <a:spcBef>
                <a:spcPts val="799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89080">
              <a:lnSpc>
                <a:spcPct val="100000"/>
              </a:lnSpc>
              <a:spcBef>
                <a:spcPts val="799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erformance measure consequ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89080">
              <a:lnSpc>
                <a:spcPct val="100000"/>
              </a:lnSpc>
              <a:spcBef>
                <a:spcPts val="799"/>
              </a:spcBef>
              <a:buClr>
                <a:srgbClr val="95aed0"/>
              </a:buClr>
              <a:buSzPct val="8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4292280" y="2641320"/>
            <a:ext cx="2870280" cy="711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753160" y="3581280"/>
            <a:ext cx="142704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083280" y="4114800"/>
            <a:ext cx="1046160" cy="203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210360" y="4191120"/>
            <a:ext cx="952560" cy="107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171840" y="4127400"/>
            <a:ext cx="1143000" cy="1765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C14D-D07A-44FC-82F2-A8BF152CEEEF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27240" y="-36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295"/>
                </a:solidFill>
                <a:latin typeface="Times New Roman"/>
              </a:rPr>
              <a:t>Open Issues</a:t>
            </a:r>
            <a:endParaRPr b="0" lang="en-US" sz="38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86960" y="1209600"/>
            <a:ext cx="769644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1400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6f"/>
                </a:solidFill>
                <a:latin typeface="Arial"/>
              </a:rPr>
              <a:t>Concurrent assessment of multiple skills within SCORM</a:t>
            </a:r>
            <a:endParaRPr b="1" lang="en-US" sz="2800" spc="-1" strike="noStrike">
              <a:solidFill>
                <a:srgbClr val="00396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1400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6f"/>
                </a:solidFill>
                <a:latin typeface="Arial"/>
              </a:rPr>
              <a:t>Book-marking</a:t>
            </a:r>
            <a:endParaRPr b="1" lang="en-US" sz="2800" spc="-1" strike="noStrike">
              <a:solidFill>
                <a:srgbClr val="00396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1400"/>
              </a:spcBef>
              <a:buClr>
                <a:srgbClr val="95aed0"/>
              </a:buClr>
              <a:buSzPct val="95000"/>
              <a:buFont typeface="Wingdings 2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6f"/>
                </a:solidFill>
                <a:latin typeface="Arial"/>
              </a:rPr>
              <a:t>Persistence of student data</a:t>
            </a:r>
            <a:endParaRPr b="1" lang="en-US" sz="2800" spc="-1" strike="noStrike">
              <a:solidFill>
                <a:srgbClr val="00396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E177-87FC-4230-A5AB-9F7C7DA3CFEC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73520" y="2801880"/>
            <a:ext cx="4717800" cy="14940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421160"/>
            <a:ext cx="8331120" cy="187956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imu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4080" y="162000"/>
            <a:ext cx="7499160" cy="229212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Learning Management System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3080" y="5229360"/>
            <a:ext cx="3430800" cy="83484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60480" y="5075280"/>
            <a:ext cx="1836720" cy="12193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26200" y="5064120"/>
            <a:ext cx="1371600" cy="121932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Persis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Datalo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6208200" y="3919320"/>
            <a:ext cx="1800" cy="129852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05120" y="5626080"/>
            <a:ext cx="52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70720" y="5691240"/>
            <a:ext cx="566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76720" y="3732120"/>
            <a:ext cx="1249200" cy="5558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125480" y="3441600"/>
            <a:ext cx="701640" cy="16290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0"/>
                </a:moveTo>
                <a:lnTo>
                  <a:pt x="0" y="0"/>
                </a:lnTo>
                <a:lnTo>
                  <a:pt x="0" y="288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rot="16200000">
            <a:off x="5119200" y="3172680"/>
            <a:ext cx="287640" cy="8730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0"/>
                </a:moveTo>
                <a:lnTo>
                  <a:pt x="0" y="0"/>
                </a:lnTo>
                <a:lnTo>
                  <a:pt x="0" y="288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rot="16200000">
            <a:off x="3267720" y="4350600"/>
            <a:ext cx="1182600" cy="58392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0"/>
                </a:moveTo>
                <a:lnTo>
                  <a:pt x="0" y="0"/>
                </a:lnTo>
                <a:lnTo>
                  <a:pt x="0" y="288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8440" y="249120"/>
            <a:ext cx="2468520" cy="221616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27880" y="4443480"/>
            <a:ext cx="1123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sp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57240" y="871560"/>
            <a:ext cx="1225440" cy="588960"/>
            <a:chOff x="957240" y="871560"/>
            <a:chExt cx="1225440" cy="588960"/>
          </a:xfrm>
        </p:grpSpPr>
        <p:sp>
          <p:nvSpPr>
            <p:cNvPr id="105" name=""/>
            <p:cNvSpPr/>
            <p:nvPr/>
          </p:nvSpPr>
          <p:spPr>
            <a:xfrm>
              <a:off x="1015920" y="876240"/>
              <a:ext cx="1092240" cy="584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15920" y="1168200"/>
              <a:ext cx="10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3880" y="876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57240" y="871560"/>
              <a:ext cx="12254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e 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503360" y="1671480"/>
            <a:ext cx="1225440" cy="588960"/>
            <a:chOff x="1503360" y="1671480"/>
            <a:chExt cx="1225440" cy="588960"/>
          </a:xfrm>
        </p:grpSpPr>
        <p:sp>
          <p:nvSpPr>
            <p:cNvPr id="110" name=""/>
            <p:cNvSpPr/>
            <p:nvPr/>
          </p:nvSpPr>
          <p:spPr>
            <a:xfrm>
              <a:off x="1562040" y="1676160"/>
              <a:ext cx="1092240" cy="584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62040" y="1968120"/>
              <a:ext cx="10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70000" y="16761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03360" y="1671480"/>
              <a:ext cx="12254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e 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34800" y="1684440"/>
            <a:ext cx="1225440" cy="588960"/>
            <a:chOff x="334800" y="1684440"/>
            <a:chExt cx="1225440" cy="588960"/>
          </a:xfrm>
        </p:grpSpPr>
        <p:sp>
          <p:nvSpPr>
            <p:cNvPr id="115" name=""/>
            <p:cNvSpPr/>
            <p:nvPr/>
          </p:nvSpPr>
          <p:spPr>
            <a:xfrm>
              <a:off x="393480" y="1689120"/>
              <a:ext cx="1092240" cy="584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3480" y="1981080"/>
              <a:ext cx="10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1440" y="1689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4800" y="1684440"/>
              <a:ext cx="12254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e 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957240" y="1557360"/>
            <a:ext cx="1185840" cy="119160"/>
          </a:xfrm>
          <a:custGeom>
            <a:avLst/>
            <a:gdLst/>
            <a:ahLst/>
            <a:rect l="l" t="t" r="r" b="b"/>
            <a:pathLst>
              <a:path w="747" h="75">
                <a:moveTo>
                  <a:pt x="1" y="75"/>
                </a:moveTo>
                <a:lnTo>
                  <a:pt x="0" y="0"/>
                </a:lnTo>
                <a:lnTo>
                  <a:pt x="747" y="0"/>
                </a:lnTo>
                <a:lnTo>
                  <a:pt x="747" y="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57360" y="1461960"/>
            <a:ext cx="0" cy="10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89440" y="3209760"/>
            <a:ext cx="1422720" cy="69876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37120" y="1538280"/>
            <a:ext cx="2462040" cy="812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ing Navig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946680" y="1066680"/>
            <a:ext cx="4240080" cy="404496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0"/>
                </a:moveTo>
                <a:lnTo>
                  <a:pt x="0" y="0"/>
                </a:lnTo>
                <a:lnTo>
                  <a:pt x="0" y="288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214680" y="2341080"/>
            <a:ext cx="12600" cy="8715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6480" y="380880"/>
            <a:ext cx="19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43280" y="841320"/>
            <a:ext cx="1128600" cy="750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u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55840" y="3000240"/>
            <a:ext cx="15303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752560" y="2106720"/>
            <a:ext cx="1386000" cy="79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752560" y="1860120"/>
            <a:ext cx="13860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13200" y="2451240"/>
            <a:ext cx="14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  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rot="16200000">
            <a:off x="2378520" y="3165480"/>
            <a:ext cx="1738440" cy="205596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0"/>
                </a:moveTo>
                <a:lnTo>
                  <a:pt x="0" y="0"/>
                </a:lnTo>
                <a:lnTo>
                  <a:pt x="0" y="288"/>
                </a:lnTo>
              </a:path>
            </a:pathLst>
          </a:custGeom>
          <a:noFill/>
          <a:ln w="57240">
            <a:solidFill>
              <a:srgbClr val="ff33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954600" y="1398600"/>
            <a:ext cx="2970000" cy="18288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0"/>
                </a:moveTo>
                <a:lnTo>
                  <a:pt x="0" y="0"/>
                </a:lnTo>
                <a:lnTo>
                  <a:pt x="0" y="288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091960" y="1200240"/>
            <a:ext cx="73836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rot="10800000">
            <a:off x="4314960" y="2317680"/>
            <a:ext cx="1349280" cy="99864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0"/>
                </a:moveTo>
                <a:lnTo>
                  <a:pt x="0" y="0"/>
                </a:lnTo>
                <a:lnTo>
                  <a:pt x="0" y="288"/>
                </a:lnTo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784760" y="4275000"/>
            <a:ext cx="6480" cy="9669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1520" y="432288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558120" y="3919680"/>
            <a:ext cx="15840" cy="130320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5284080" y="3918960"/>
            <a:ext cx="685800" cy="21564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0"/>
                </a:moveTo>
                <a:lnTo>
                  <a:pt x="0" y="0"/>
                </a:lnTo>
                <a:lnTo>
                  <a:pt x="0" y="288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13E2-7621-4C6F-AC54-35E37C313EC8}" type="slidenum">
              <a:t>8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4:35:56Z</dcterms:created>
  <dc:creator>Geoffrey Frank</dc:creator>
  <dc:description/>
  <dc:language>en-US</dc:language>
  <cp:lastModifiedBy>Geoffrey Frank</cp:lastModifiedBy>
  <cp:lastPrinted>2001-07-09T20:15:28Z</cp:lastPrinted>
  <dcterms:modified xsi:type="dcterms:W3CDTF">2006-02-02T23:14:52Z</dcterms:modified>
  <cp:revision>732</cp:revision>
  <dc:subject/>
  <dc:title>RCD Example </dc:title>
</cp:coreProperties>
</file>