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9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3.png" ContentType="image/png"/>
  <Override PartName="/ppt/media/image14.jpeg" ContentType="image/jpeg"/>
  <Override PartName="/ppt/media/image6.png" ContentType="image/png"/>
  <Override PartName="/ppt/media/image5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3C5F6F9-CC90-4261-917B-3DCBFB2F5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features of the CS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ackground is working with the military, but this standard will eventually be used by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oon as we require that an application be  pre-loaded on a client, we are breaking the spirit of SC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ooked at plug-ins, but found that as an engine is updated, you will need to update the plug-in... for each engine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technologies are available to facilitate this requi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image" Target="../media/image31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86080" y="5011560"/>
            <a:ext cx="5533920" cy="161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4933800"/>
            <a:ext cx="2997000" cy="1704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74760" y="227160"/>
            <a:ext cx="2962080" cy="163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957400" y="2154240"/>
            <a:ext cx="6448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on Paper: Integrating Sim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o SCORM Learning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ation to the IEEE SISO-SAC/LTS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itte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Engineering &amp; Computer Sim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90600" y="1865160"/>
            <a:ext cx="2943000" cy="1567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33360" y="3441600"/>
            <a:ext cx="2992320" cy="1578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1133640" y="4240080"/>
            <a:ext cx="1182600" cy="79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00880" y="600120"/>
            <a:ext cx="10098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39040" y="619200"/>
            <a:ext cx="97164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67160" y="533520"/>
            <a:ext cx="406404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33240" y="2184480"/>
            <a:ext cx="37008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vent Tracking Technology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shes a formal representation of events within the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3880" y="2946240"/>
            <a:ext cx="31384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is information is stored within a Data Ware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2960" y="1260360"/>
            <a:ext cx="2824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pecify the constructs of each Training Obj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3240" y="1812960"/>
            <a:ext cx="334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ap to events within the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3240" y="3517920"/>
            <a:ext cx="370080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 Rule-based Assessment Module applies these events to a model that tracks the state of each Training Obj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880" y="4527720"/>
            <a:ext cx="37004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tatus of Training Objectives is communicated to a Learning Management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65560" y="3340080"/>
            <a:ext cx="4362480" cy="2299320"/>
            <a:chOff x="4165560" y="3340080"/>
            <a:chExt cx="4362480" cy="2299320"/>
          </a:xfrm>
        </p:grpSpPr>
        <p:grpSp>
          <p:nvGrpSpPr>
            <p:cNvPr id="109" name=""/>
            <p:cNvGrpSpPr/>
            <p:nvPr/>
          </p:nvGrpSpPr>
          <p:grpSpPr>
            <a:xfrm>
              <a:off x="4165560" y="3340080"/>
              <a:ext cx="4327560" cy="2277720"/>
              <a:chOff x="4165560" y="3340080"/>
              <a:chExt cx="4327560" cy="2277720"/>
            </a:xfrm>
          </p:grpSpPr>
          <p:sp>
            <p:nvSpPr>
              <p:cNvPr id="110" name=""/>
              <p:cNvSpPr/>
              <p:nvPr/>
            </p:nvSpPr>
            <p:spPr>
              <a:xfrm>
                <a:off x="4165560" y="3574440"/>
                <a:ext cx="4327560" cy="2043360"/>
              </a:xfrm>
              <a:prstGeom prst="roundRect">
                <a:avLst>
                  <a:gd name="adj" fmla="val 1666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400000">
                <a:off x="6122160" y="1411920"/>
                <a:ext cx="416520" cy="4272480"/>
              </a:xfrm>
              <a:custGeom>
                <a:avLst/>
                <a:gdLst>
                  <a:gd name="textAreaLeft" fmla="*/ 266040 w 416520"/>
                  <a:gd name="textAreaRight" fmla="*/ 416880 w 416520"/>
                  <a:gd name="textAreaTop" fmla="*/ 111240 h 4272480"/>
                  <a:gd name="textAreaBottom" fmla="*/ 4161240 h 427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7120080" y="4024440"/>
              <a:ext cx="1330200" cy="127296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a6d0a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56400" y="4880160"/>
              <a:ext cx="453960" cy="3715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7694640" y="4910040"/>
              <a:ext cx="185760" cy="276840"/>
              <a:chOff x="7694640" y="4910040"/>
              <a:chExt cx="185760" cy="276840"/>
            </a:xfrm>
          </p:grpSpPr>
          <p:sp>
            <p:nvSpPr>
              <p:cNvPr id="115" name=""/>
              <p:cNvSpPr/>
              <p:nvPr/>
            </p:nvSpPr>
            <p:spPr>
              <a:xfrm>
                <a:off x="7745040" y="4917960"/>
                <a:ext cx="83880" cy="9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94640" y="4910040"/>
                <a:ext cx="1857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A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4226040" y="3986280"/>
              <a:ext cx="1330200" cy="1273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7c7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73600" y="4005360"/>
              <a:ext cx="1328760" cy="127296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d0a6a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00560" y="5332320"/>
              <a:ext cx="23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73520" y="4044960"/>
              <a:ext cx="455760" cy="3715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75320" y="4444920"/>
              <a:ext cx="455400" cy="3715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76760" y="4840200"/>
              <a:ext cx="455760" cy="3715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32600" y="4272120"/>
              <a:ext cx="453960" cy="3715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32600" y="4672080"/>
              <a:ext cx="455400" cy="3715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53160" y="4073760"/>
              <a:ext cx="455760" cy="3711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54960" y="4476960"/>
              <a:ext cx="455400" cy="3711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702320" y="4196880"/>
              <a:ext cx="397800" cy="160560"/>
              <a:chOff x="4702320" y="4196880"/>
              <a:chExt cx="397800" cy="160560"/>
            </a:xfrm>
          </p:grpSpPr>
          <p:sp>
            <p:nvSpPr>
              <p:cNvPr id="128" name=""/>
              <p:cNvSpPr/>
              <p:nvPr/>
            </p:nvSpPr>
            <p:spPr>
              <a:xfrm>
                <a:off x="4858920" y="4232880"/>
                <a:ext cx="88200" cy="84960"/>
              </a:xfrm>
              <a:prstGeom prst="cube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967640" y="4232880"/>
                <a:ext cx="88200" cy="84960"/>
              </a:xfrm>
              <a:prstGeom prst="cube">
                <a:avLst>
                  <a:gd name="adj" fmla="val 2500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51280" y="4232880"/>
                <a:ext cx="87120" cy="849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22480" y="4197240"/>
                <a:ext cx="377640" cy="144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02320" y="4213440"/>
                <a:ext cx="377640" cy="144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4703400" y="4196880"/>
                <a:ext cx="190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705560" y="4337640"/>
                <a:ext cx="190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5079960" y="4338720"/>
                <a:ext cx="190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5078880" y="4197600"/>
                <a:ext cx="1872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156360" y="4767120"/>
              <a:ext cx="398160" cy="160200"/>
              <a:chOff x="6156360" y="4767120"/>
              <a:chExt cx="398160" cy="160200"/>
            </a:xfrm>
          </p:grpSpPr>
          <p:sp>
            <p:nvSpPr>
              <p:cNvPr id="138" name=""/>
              <p:cNvSpPr/>
              <p:nvPr/>
            </p:nvSpPr>
            <p:spPr>
              <a:xfrm>
                <a:off x="6312960" y="4803120"/>
                <a:ext cx="88200" cy="84960"/>
              </a:xfrm>
              <a:prstGeom prst="cube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422040" y="4803120"/>
                <a:ext cx="88200" cy="84960"/>
              </a:xfrm>
              <a:prstGeom prst="cube">
                <a:avLst>
                  <a:gd name="adj" fmla="val 2500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205320" y="4803120"/>
                <a:ext cx="87120" cy="849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176520" y="4767480"/>
                <a:ext cx="378000" cy="143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56360" y="4783680"/>
                <a:ext cx="378000" cy="143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6157440" y="4767120"/>
                <a:ext cx="190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6159600" y="4907520"/>
                <a:ext cx="190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6534360" y="4908600"/>
                <a:ext cx="190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6533280" y="4767840"/>
                <a:ext cx="1872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694400" y="4853160"/>
              <a:ext cx="401040" cy="334440"/>
              <a:chOff x="4694400" y="4853160"/>
              <a:chExt cx="401040" cy="334440"/>
            </a:xfrm>
          </p:grpSpPr>
          <p:sp>
            <p:nvSpPr>
              <p:cNvPr id="148" name=""/>
              <p:cNvSpPr/>
              <p:nvPr/>
            </p:nvSpPr>
            <p:spPr>
              <a:xfrm>
                <a:off x="4963320" y="4888440"/>
                <a:ext cx="88560" cy="90360"/>
              </a:xfrm>
              <a:prstGeom prst="cube">
                <a:avLst>
                  <a:gd name="adj" fmla="val 2500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747320" y="4888440"/>
                <a:ext cx="87480" cy="9036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18880" y="4853160"/>
                <a:ext cx="376560" cy="144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98720" y="4869360"/>
                <a:ext cx="376560" cy="144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4699800" y="4853160"/>
                <a:ext cx="1908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4702680" y="5000040"/>
                <a:ext cx="1908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5075280" y="4999680"/>
                <a:ext cx="18720" cy="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5073840" y="4854240"/>
                <a:ext cx="1908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849920" y="5062680"/>
                <a:ext cx="88560" cy="90360"/>
              </a:xfrm>
              <a:prstGeom prst="cube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59000" y="5062680"/>
                <a:ext cx="88560" cy="90360"/>
              </a:xfrm>
              <a:prstGeom prst="cube">
                <a:avLst>
                  <a:gd name="adj" fmla="val 25000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43360" y="5062680"/>
                <a:ext cx="87120" cy="903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14920" y="5027400"/>
                <a:ext cx="376560" cy="144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94400" y="5043600"/>
                <a:ext cx="376920" cy="144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4695840" y="5027400"/>
                <a:ext cx="1908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4698720" y="5168520"/>
                <a:ext cx="1872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5071320" y="5168160"/>
                <a:ext cx="18720" cy="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069520" y="5028480"/>
                <a:ext cx="1908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4808880" y="4880520"/>
                <a:ext cx="183960" cy="276840"/>
                <a:chOff x="4808880" y="4880520"/>
                <a:chExt cx="183960" cy="2768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4858560" y="4888440"/>
                  <a:ext cx="83160" cy="91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808880" y="4880520"/>
                  <a:ext cx="18396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AT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4805280" y="4854240"/>
                <a:ext cx="2278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4808880" y="4046760"/>
              <a:ext cx="227880" cy="302760"/>
              <a:chOff x="4808880" y="4046760"/>
              <a:chExt cx="227880" cy="30276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4809600" y="4072680"/>
                <a:ext cx="186120" cy="276840"/>
                <a:chOff x="4809600" y="4072680"/>
                <a:chExt cx="186120" cy="2768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861080" y="4080600"/>
                  <a:ext cx="83520" cy="91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809600" y="4072680"/>
                  <a:ext cx="18612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AT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4808880" y="4046760"/>
                <a:ext cx="2278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6112800" y="4273560"/>
              <a:ext cx="227880" cy="302760"/>
              <a:chOff x="6112800" y="4273560"/>
              <a:chExt cx="227880" cy="302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6115680" y="4299480"/>
                <a:ext cx="185040" cy="276840"/>
                <a:chOff x="6115680" y="4299480"/>
                <a:chExt cx="185040" cy="2768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165720" y="4307400"/>
                  <a:ext cx="83520" cy="91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115680" y="4299480"/>
                  <a:ext cx="18504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AT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6112800" y="4273560"/>
                <a:ext cx="2278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695840" y="4518000"/>
              <a:ext cx="322200" cy="368280"/>
              <a:chOff x="4695840" y="4518000"/>
              <a:chExt cx="322200" cy="368280"/>
            </a:xfrm>
          </p:grpSpPr>
          <p:sp>
            <p:nvSpPr>
              <p:cNvPr id="180" name=""/>
              <p:cNvSpPr/>
              <p:nvPr/>
            </p:nvSpPr>
            <p:spPr>
              <a:xfrm>
                <a:off x="4739760" y="4534920"/>
                <a:ext cx="223200" cy="19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695840" y="4518000"/>
                <a:ext cx="32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Asdkljfasd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4984560" y="4529160"/>
              <a:ext cx="88920" cy="8892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51600" y="4527720"/>
              <a:ext cx="88920" cy="90360"/>
            </a:xfrm>
            <a:prstGeom prst="cube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34160" y="4527720"/>
              <a:ext cx="87480" cy="90360"/>
            </a:xfrm>
            <a:prstGeom prst="cube">
              <a:avLst>
                <a:gd name="adj" fmla="val 2500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05720" y="4491000"/>
              <a:ext cx="377640" cy="14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85200" y="4508640"/>
              <a:ext cx="377640" cy="14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7586640" y="4491000"/>
              <a:ext cx="190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7589880" y="4638600"/>
              <a:ext cx="1908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62840" y="4638600"/>
              <a:ext cx="190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961400" y="4492440"/>
              <a:ext cx="1908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37480" y="4700520"/>
              <a:ext cx="88920" cy="90720"/>
            </a:xfrm>
            <a:prstGeom prst="cube">
              <a:avLst>
                <a:gd name="adj" fmla="val 2500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46920" y="4700520"/>
              <a:ext cx="88920" cy="90720"/>
            </a:xfrm>
            <a:prstGeom prst="cube">
              <a:avLst>
                <a:gd name="adj" fmla="val 25000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01040" y="4665600"/>
              <a:ext cx="379440" cy="14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81960" y="4681440"/>
              <a:ext cx="377640" cy="14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581960" y="4665600"/>
              <a:ext cx="1908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7585200" y="4806720"/>
              <a:ext cx="1908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959600" y="4806720"/>
              <a:ext cx="1908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958160" y="4667040"/>
              <a:ext cx="1908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7581960" y="4691160"/>
              <a:ext cx="185760" cy="276840"/>
              <a:chOff x="7581960" y="4691160"/>
              <a:chExt cx="185760" cy="276840"/>
            </a:xfrm>
          </p:grpSpPr>
          <p:sp>
            <p:nvSpPr>
              <p:cNvPr id="200" name=""/>
              <p:cNvSpPr/>
              <p:nvPr/>
            </p:nvSpPr>
            <p:spPr>
              <a:xfrm>
                <a:off x="7632360" y="4699080"/>
                <a:ext cx="83880" cy="9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581960" y="4691160"/>
                <a:ext cx="1857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A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578360" y="4665600"/>
              <a:ext cx="227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42160" y="4529160"/>
              <a:ext cx="88920" cy="8892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7588080" y="5035320"/>
              <a:ext cx="398160" cy="160200"/>
              <a:chOff x="7588080" y="5035320"/>
              <a:chExt cx="398160" cy="160200"/>
            </a:xfrm>
          </p:grpSpPr>
          <p:sp>
            <p:nvSpPr>
              <p:cNvPr id="205" name=""/>
              <p:cNvSpPr/>
              <p:nvPr/>
            </p:nvSpPr>
            <p:spPr>
              <a:xfrm>
                <a:off x="7744680" y="5071320"/>
                <a:ext cx="88200" cy="84960"/>
              </a:xfrm>
              <a:prstGeom prst="cube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853760" y="5071320"/>
                <a:ext cx="88200" cy="84960"/>
              </a:xfrm>
              <a:prstGeom prst="cube">
                <a:avLst>
                  <a:gd name="adj" fmla="val 2500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37040" y="5071320"/>
                <a:ext cx="87120" cy="84960"/>
              </a:xfrm>
              <a:prstGeom prst="cube">
                <a:avLst>
                  <a:gd name="adj" fmla="val 25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08240" y="5035680"/>
                <a:ext cx="378000" cy="143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588080" y="5051880"/>
                <a:ext cx="378000" cy="143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7589160" y="5035320"/>
                <a:ext cx="190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7591320" y="5175720"/>
                <a:ext cx="190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7966080" y="5176800"/>
                <a:ext cx="190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7965000" y="5036040"/>
                <a:ext cx="1872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7742160" y="4152960"/>
              <a:ext cx="88920" cy="85680"/>
            </a:xfrm>
            <a:prstGeom prst="cube">
              <a:avLst>
                <a:gd name="adj" fmla="val 2500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51600" y="4152960"/>
              <a:ext cx="88920" cy="85680"/>
            </a:xfrm>
            <a:prstGeom prst="cube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35960" y="4152960"/>
              <a:ext cx="87120" cy="8568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682040" y="4272120"/>
              <a:ext cx="183960" cy="276840"/>
              <a:chOff x="7682040" y="4272120"/>
              <a:chExt cx="183960" cy="276840"/>
            </a:xfrm>
          </p:grpSpPr>
          <p:sp>
            <p:nvSpPr>
              <p:cNvPr id="218" name=""/>
              <p:cNvSpPr/>
              <p:nvPr/>
            </p:nvSpPr>
            <p:spPr>
              <a:xfrm>
                <a:off x="7731720" y="4280040"/>
                <a:ext cx="83160" cy="91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682040" y="4272120"/>
                <a:ext cx="1839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A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7676640" y="4256280"/>
              <a:ext cx="227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91760" y="4888080"/>
              <a:ext cx="227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46880" y="4329000"/>
              <a:ext cx="87120" cy="8424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43480" y="4405320"/>
              <a:ext cx="177840" cy="182520"/>
            </a:xfrm>
            <a:prstGeom prst="cube">
              <a:avLst>
                <a:gd name="adj" fmla="val 2500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33840" y="3608280"/>
              <a:ext cx="39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ining Objectives are comprised of ev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400640" y="1144440"/>
            <a:ext cx="3917880" cy="2258280"/>
            <a:chOff x="4400640" y="1144440"/>
            <a:chExt cx="3917880" cy="2258280"/>
          </a:xfrm>
        </p:grpSpPr>
        <p:sp>
          <p:nvSpPr>
            <p:cNvPr id="226" name=""/>
            <p:cNvSpPr/>
            <p:nvPr/>
          </p:nvSpPr>
          <p:spPr>
            <a:xfrm>
              <a:off x="4629240" y="1352520"/>
              <a:ext cx="259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00640" y="1200240"/>
              <a:ext cx="39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hotograp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or artist’s conce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4902120" y="2287440"/>
              <a:ext cx="2028960" cy="954000"/>
              <a:chOff x="4902120" y="2287440"/>
              <a:chExt cx="2028960" cy="954000"/>
            </a:xfrm>
          </p:grpSpPr>
          <p:pic>
            <p:nvPicPr>
              <p:cNvPr id="22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902120" y="2287440"/>
                <a:ext cx="2028960" cy="95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"/>
              <p:cNvSpPr/>
              <p:nvPr/>
            </p:nvSpPr>
            <p:spPr>
              <a:xfrm>
                <a:off x="6504120" y="3038400"/>
                <a:ext cx="55440" cy="39600"/>
              </a:xfrm>
              <a:custGeom>
                <a:avLst/>
                <a:gdLst/>
                <a:ahLst/>
                <a:rect l="l" t="t" r="r" b="b"/>
                <a:pathLst>
                  <a:path w="71" h="50">
                    <a:moveTo>
                      <a:pt x="35" y="0"/>
                    </a:moveTo>
                    <a:lnTo>
                      <a:pt x="27" y="19"/>
                    </a:lnTo>
                    <a:lnTo>
                      <a:pt x="0" y="19"/>
                    </a:lnTo>
                    <a:lnTo>
                      <a:pt x="22" y="31"/>
                    </a:lnTo>
                    <a:lnTo>
                      <a:pt x="13" y="50"/>
                    </a:lnTo>
                    <a:lnTo>
                      <a:pt x="35" y="38"/>
                    </a:lnTo>
                    <a:lnTo>
                      <a:pt x="58" y="50"/>
                    </a:lnTo>
                    <a:lnTo>
                      <a:pt x="48" y="31"/>
                    </a:lnTo>
                    <a:lnTo>
                      <a:pt x="71" y="19"/>
                    </a:lnTo>
                    <a:lnTo>
                      <a:pt x="43" y="1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789880" y="2973240"/>
                <a:ext cx="56880" cy="3960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35" y="0"/>
                    </a:moveTo>
                    <a:lnTo>
                      <a:pt x="27" y="19"/>
                    </a:lnTo>
                    <a:lnTo>
                      <a:pt x="0" y="19"/>
                    </a:lnTo>
                    <a:lnTo>
                      <a:pt x="22" y="31"/>
                    </a:lnTo>
                    <a:lnTo>
                      <a:pt x="14" y="50"/>
                    </a:lnTo>
                    <a:lnTo>
                      <a:pt x="35" y="39"/>
                    </a:lnTo>
                    <a:lnTo>
                      <a:pt x="57" y="50"/>
                    </a:lnTo>
                    <a:lnTo>
                      <a:pt x="49" y="31"/>
                    </a:lnTo>
                    <a:lnTo>
                      <a:pt x="72" y="19"/>
                    </a:lnTo>
                    <a:lnTo>
                      <a:pt x="44" y="1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539040" y="2708280"/>
                <a:ext cx="57240" cy="39600"/>
              </a:xfrm>
              <a:custGeom>
                <a:avLst/>
                <a:gdLst/>
                <a:ahLst/>
                <a:rect l="l" t="t" r="r" b="b"/>
                <a:pathLst>
                  <a:path w="71" h="51">
                    <a:moveTo>
                      <a:pt x="36" y="0"/>
                    </a:moveTo>
                    <a:lnTo>
                      <a:pt x="28" y="20"/>
                    </a:lnTo>
                    <a:lnTo>
                      <a:pt x="0" y="20"/>
                    </a:lnTo>
                    <a:lnTo>
                      <a:pt x="23" y="32"/>
                    </a:lnTo>
                    <a:lnTo>
                      <a:pt x="15" y="51"/>
                    </a:lnTo>
                    <a:lnTo>
                      <a:pt x="36" y="39"/>
                    </a:lnTo>
                    <a:lnTo>
                      <a:pt x="58" y="51"/>
                    </a:lnTo>
                    <a:lnTo>
                      <a:pt x="50" y="32"/>
                    </a:lnTo>
                    <a:lnTo>
                      <a:pt x="71" y="20"/>
                    </a:lnTo>
                    <a:lnTo>
                      <a:pt x="45" y="2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631200" y="2600280"/>
                <a:ext cx="55440" cy="38160"/>
              </a:xfrm>
              <a:custGeom>
                <a:avLst/>
                <a:gdLst/>
                <a:ahLst/>
                <a:rect l="l" t="t" r="r" b="b"/>
                <a:pathLst>
                  <a:path w="72" h="49">
                    <a:moveTo>
                      <a:pt x="36" y="0"/>
                    </a:moveTo>
                    <a:lnTo>
                      <a:pt x="28" y="19"/>
                    </a:lnTo>
                    <a:lnTo>
                      <a:pt x="0" y="19"/>
                    </a:lnTo>
                    <a:lnTo>
                      <a:pt x="23" y="30"/>
                    </a:lnTo>
                    <a:lnTo>
                      <a:pt x="14" y="49"/>
                    </a:lnTo>
                    <a:lnTo>
                      <a:pt x="36" y="38"/>
                    </a:lnTo>
                    <a:lnTo>
                      <a:pt x="58" y="49"/>
                    </a:lnTo>
                    <a:lnTo>
                      <a:pt x="50" y="30"/>
                    </a:lnTo>
                    <a:lnTo>
                      <a:pt x="72" y="19"/>
                    </a:lnTo>
                    <a:lnTo>
                      <a:pt x="45" y="19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99040" y="2425680"/>
                <a:ext cx="55800" cy="39600"/>
              </a:xfrm>
              <a:custGeom>
                <a:avLst/>
                <a:gdLst/>
                <a:ahLst/>
                <a:rect l="l" t="t" r="r" b="b"/>
                <a:pathLst>
                  <a:path w="72" h="51">
                    <a:moveTo>
                      <a:pt x="35" y="0"/>
                    </a:moveTo>
                    <a:lnTo>
                      <a:pt x="27" y="19"/>
                    </a:lnTo>
                    <a:lnTo>
                      <a:pt x="0" y="19"/>
                    </a:lnTo>
                    <a:lnTo>
                      <a:pt x="22" y="32"/>
                    </a:lnTo>
                    <a:lnTo>
                      <a:pt x="14" y="51"/>
                    </a:lnTo>
                    <a:lnTo>
                      <a:pt x="35" y="40"/>
                    </a:lnTo>
                    <a:lnTo>
                      <a:pt x="57" y="51"/>
                    </a:lnTo>
                    <a:lnTo>
                      <a:pt x="49" y="32"/>
                    </a:lnTo>
                    <a:lnTo>
                      <a:pt x="72" y="19"/>
                    </a:lnTo>
                    <a:lnTo>
                      <a:pt x="44" y="1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27760" y="2809800"/>
                <a:ext cx="55440" cy="39600"/>
              </a:xfrm>
              <a:custGeom>
                <a:avLst/>
                <a:gdLst/>
                <a:ahLst/>
                <a:rect l="l" t="t" r="r" b="b"/>
                <a:pathLst>
                  <a:path w="72" h="51">
                    <a:moveTo>
                      <a:pt x="37" y="0"/>
                    </a:moveTo>
                    <a:lnTo>
                      <a:pt x="29" y="19"/>
                    </a:lnTo>
                    <a:lnTo>
                      <a:pt x="0" y="19"/>
                    </a:lnTo>
                    <a:lnTo>
                      <a:pt x="23" y="31"/>
                    </a:lnTo>
                    <a:lnTo>
                      <a:pt x="14" y="51"/>
                    </a:lnTo>
                    <a:lnTo>
                      <a:pt x="37" y="39"/>
                    </a:lnTo>
                    <a:lnTo>
                      <a:pt x="59" y="51"/>
                    </a:lnTo>
                    <a:lnTo>
                      <a:pt x="50" y="31"/>
                    </a:lnTo>
                    <a:lnTo>
                      <a:pt x="72" y="19"/>
                    </a:lnTo>
                    <a:lnTo>
                      <a:pt x="45" y="19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394240" y="2700360"/>
                <a:ext cx="57240" cy="3960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36" y="0"/>
                    </a:moveTo>
                    <a:lnTo>
                      <a:pt x="28" y="19"/>
                    </a:lnTo>
                    <a:lnTo>
                      <a:pt x="0" y="19"/>
                    </a:lnTo>
                    <a:lnTo>
                      <a:pt x="23" y="31"/>
                    </a:lnTo>
                    <a:lnTo>
                      <a:pt x="14" y="50"/>
                    </a:lnTo>
                    <a:lnTo>
                      <a:pt x="36" y="38"/>
                    </a:lnTo>
                    <a:lnTo>
                      <a:pt x="58" y="50"/>
                    </a:lnTo>
                    <a:lnTo>
                      <a:pt x="49" y="31"/>
                    </a:lnTo>
                    <a:lnTo>
                      <a:pt x="72" y="19"/>
                    </a:lnTo>
                    <a:lnTo>
                      <a:pt x="44" y="19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378840" y="2909880"/>
                <a:ext cx="56880" cy="39600"/>
              </a:xfrm>
              <a:custGeom>
                <a:avLst/>
                <a:gdLst/>
                <a:ahLst/>
                <a:rect l="l" t="t" r="r" b="b"/>
                <a:pathLst>
                  <a:path w="71" h="51">
                    <a:moveTo>
                      <a:pt x="35" y="0"/>
                    </a:moveTo>
                    <a:lnTo>
                      <a:pt x="27" y="19"/>
                    </a:lnTo>
                    <a:lnTo>
                      <a:pt x="0" y="19"/>
                    </a:lnTo>
                    <a:lnTo>
                      <a:pt x="22" y="31"/>
                    </a:lnTo>
                    <a:lnTo>
                      <a:pt x="14" y="51"/>
                    </a:lnTo>
                    <a:lnTo>
                      <a:pt x="35" y="40"/>
                    </a:lnTo>
                    <a:lnTo>
                      <a:pt x="57" y="51"/>
                    </a:lnTo>
                    <a:lnTo>
                      <a:pt x="49" y="31"/>
                    </a:lnTo>
                    <a:lnTo>
                      <a:pt x="71" y="19"/>
                    </a:lnTo>
                    <a:lnTo>
                      <a:pt x="44" y="1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848560" y="266688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71" h="50">
                    <a:moveTo>
                      <a:pt x="36" y="0"/>
                    </a:moveTo>
                    <a:lnTo>
                      <a:pt x="27" y="19"/>
                    </a:lnTo>
                    <a:lnTo>
                      <a:pt x="0" y="19"/>
                    </a:lnTo>
                    <a:lnTo>
                      <a:pt x="22" y="31"/>
                    </a:lnTo>
                    <a:lnTo>
                      <a:pt x="14" y="50"/>
                    </a:lnTo>
                    <a:lnTo>
                      <a:pt x="36" y="38"/>
                    </a:lnTo>
                    <a:lnTo>
                      <a:pt x="57" y="50"/>
                    </a:lnTo>
                    <a:lnTo>
                      <a:pt x="49" y="31"/>
                    </a:lnTo>
                    <a:lnTo>
                      <a:pt x="71" y="19"/>
                    </a:lnTo>
                    <a:lnTo>
                      <a:pt x="44" y="19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143760" y="2703240"/>
                <a:ext cx="57240" cy="3996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37" y="0"/>
                    </a:moveTo>
                    <a:lnTo>
                      <a:pt x="29" y="19"/>
                    </a:lnTo>
                    <a:lnTo>
                      <a:pt x="0" y="19"/>
                    </a:lnTo>
                    <a:lnTo>
                      <a:pt x="24" y="31"/>
                    </a:lnTo>
                    <a:lnTo>
                      <a:pt x="15" y="50"/>
                    </a:lnTo>
                    <a:lnTo>
                      <a:pt x="37" y="38"/>
                    </a:lnTo>
                    <a:lnTo>
                      <a:pt x="59" y="50"/>
                    </a:lnTo>
                    <a:lnTo>
                      <a:pt x="50" y="31"/>
                    </a:lnTo>
                    <a:lnTo>
                      <a:pt x="72" y="19"/>
                    </a:lnTo>
                    <a:lnTo>
                      <a:pt x="45" y="19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998960" y="2735280"/>
                <a:ext cx="57240" cy="39600"/>
              </a:xfrm>
              <a:custGeom>
                <a:avLst/>
                <a:gdLst/>
                <a:ahLst/>
                <a:rect l="l" t="t" r="r" b="b"/>
                <a:pathLst>
                  <a:path w="72" h="51">
                    <a:moveTo>
                      <a:pt x="36" y="0"/>
                    </a:moveTo>
                    <a:lnTo>
                      <a:pt x="28" y="20"/>
                    </a:lnTo>
                    <a:lnTo>
                      <a:pt x="0" y="20"/>
                    </a:lnTo>
                    <a:lnTo>
                      <a:pt x="23" y="32"/>
                    </a:lnTo>
                    <a:lnTo>
                      <a:pt x="14" y="51"/>
                    </a:lnTo>
                    <a:lnTo>
                      <a:pt x="36" y="39"/>
                    </a:lnTo>
                    <a:lnTo>
                      <a:pt x="58" y="51"/>
                    </a:lnTo>
                    <a:lnTo>
                      <a:pt x="49" y="32"/>
                    </a:lnTo>
                    <a:lnTo>
                      <a:pt x="72" y="20"/>
                    </a:lnTo>
                    <a:lnTo>
                      <a:pt x="44" y="2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22800" y="2876400"/>
                <a:ext cx="55800" cy="3960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36" y="0"/>
                    </a:moveTo>
                    <a:lnTo>
                      <a:pt x="27" y="19"/>
                    </a:lnTo>
                    <a:lnTo>
                      <a:pt x="0" y="19"/>
                    </a:lnTo>
                    <a:lnTo>
                      <a:pt x="22" y="31"/>
                    </a:lnTo>
                    <a:lnTo>
                      <a:pt x="14" y="50"/>
                    </a:lnTo>
                    <a:lnTo>
                      <a:pt x="36" y="38"/>
                    </a:lnTo>
                    <a:lnTo>
                      <a:pt x="58" y="50"/>
                    </a:lnTo>
                    <a:lnTo>
                      <a:pt x="50" y="31"/>
                    </a:lnTo>
                    <a:lnTo>
                      <a:pt x="72" y="19"/>
                    </a:lnTo>
                    <a:lnTo>
                      <a:pt x="45" y="19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386760" y="2660400"/>
                <a:ext cx="56880" cy="39960"/>
              </a:xfrm>
              <a:custGeom>
                <a:avLst/>
                <a:gdLst/>
                <a:ahLst/>
                <a:rect l="l" t="t" r="r" b="b"/>
                <a:pathLst>
                  <a:path w="70" h="50">
                    <a:moveTo>
                      <a:pt x="35" y="0"/>
                    </a:moveTo>
                    <a:lnTo>
                      <a:pt x="27" y="19"/>
                    </a:lnTo>
                    <a:lnTo>
                      <a:pt x="0" y="19"/>
                    </a:lnTo>
                    <a:lnTo>
                      <a:pt x="22" y="31"/>
                    </a:lnTo>
                    <a:lnTo>
                      <a:pt x="13" y="50"/>
                    </a:lnTo>
                    <a:lnTo>
                      <a:pt x="35" y="38"/>
                    </a:lnTo>
                    <a:lnTo>
                      <a:pt x="57" y="50"/>
                    </a:lnTo>
                    <a:lnTo>
                      <a:pt x="48" y="31"/>
                    </a:lnTo>
                    <a:lnTo>
                      <a:pt x="70" y="19"/>
                    </a:lnTo>
                    <a:lnTo>
                      <a:pt x="43" y="1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67360" y="2536560"/>
                <a:ext cx="55800" cy="39960"/>
              </a:xfrm>
              <a:custGeom>
                <a:avLst/>
                <a:gdLst/>
                <a:ahLst/>
                <a:rect l="l" t="t" r="r" b="b"/>
                <a:pathLst>
                  <a:path w="70" h="51">
                    <a:moveTo>
                      <a:pt x="35" y="0"/>
                    </a:moveTo>
                    <a:lnTo>
                      <a:pt x="26" y="21"/>
                    </a:lnTo>
                    <a:lnTo>
                      <a:pt x="0" y="21"/>
                    </a:lnTo>
                    <a:lnTo>
                      <a:pt x="21" y="33"/>
                    </a:lnTo>
                    <a:lnTo>
                      <a:pt x="13" y="51"/>
                    </a:lnTo>
                    <a:lnTo>
                      <a:pt x="35" y="40"/>
                    </a:lnTo>
                    <a:lnTo>
                      <a:pt x="56" y="51"/>
                    </a:lnTo>
                    <a:lnTo>
                      <a:pt x="48" y="33"/>
                    </a:lnTo>
                    <a:lnTo>
                      <a:pt x="70" y="21"/>
                    </a:lnTo>
                    <a:lnTo>
                      <a:pt x="43" y="21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546880" y="2490480"/>
                <a:ext cx="57240" cy="41400"/>
              </a:xfrm>
              <a:custGeom>
                <a:avLst/>
                <a:gdLst/>
                <a:ahLst/>
                <a:rect l="l" t="t" r="r" b="b"/>
                <a:pathLst>
                  <a:path w="70" h="50">
                    <a:moveTo>
                      <a:pt x="35" y="0"/>
                    </a:moveTo>
                    <a:lnTo>
                      <a:pt x="27" y="19"/>
                    </a:lnTo>
                    <a:lnTo>
                      <a:pt x="0" y="19"/>
                    </a:lnTo>
                    <a:lnTo>
                      <a:pt x="22" y="31"/>
                    </a:lnTo>
                    <a:lnTo>
                      <a:pt x="13" y="50"/>
                    </a:lnTo>
                    <a:lnTo>
                      <a:pt x="35" y="38"/>
                    </a:lnTo>
                    <a:lnTo>
                      <a:pt x="57" y="50"/>
                    </a:lnTo>
                    <a:lnTo>
                      <a:pt x="48" y="31"/>
                    </a:lnTo>
                    <a:lnTo>
                      <a:pt x="70" y="19"/>
                    </a:lnTo>
                    <a:lnTo>
                      <a:pt x="43" y="19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417920" y="2065320"/>
              <a:ext cx="3336840" cy="1299960"/>
              <a:chOff x="4417920" y="2065320"/>
              <a:chExt cx="3336840" cy="129996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4436640" y="3165480"/>
                <a:ext cx="3318120" cy="199800"/>
                <a:chOff x="4436640" y="3165480"/>
                <a:chExt cx="3318120" cy="1998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463640" y="3192480"/>
                  <a:ext cx="3291120" cy="172800"/>
                </a:xfrm>
                <a:custGeom>
                  <a:avLst/>
                  <a:gdLst/>
                  <a:ahLst/>
                  <a:rect l="l" t="t" r="r" b="b"/>
                  <a:pathLst>
                    <a:path w="4146" h="219">
                      <a:moveTo>
                        <a:pt x="0" y="148"/>
                      </a:moveTo>
                      <a:lnTo>
                        <a:pt x="29" y="218"/>
                      </a:lnTo>
                      <a:lnTo>
                        <a:pt x="90" y="192"/>
                      </a:lnTo>
                      <a:lnTo>
                        <a:pt x="153" y="166"/>
                      </a:lnTo>
                      <a:lnTo>
                        <a:pt x="215" y="143"/>
                      </a:lnTo>
                      <a:lnTo>
                        <a:pt x="279" y="122"/>
                      </a:lnTo>
                      <a:lnTo>
                        <a:pt x="265" y="88"/>
                      </a:lnTo>
                      <a:lnTo>
                        <a:pt x="272" y="125"/>
                      </a:lnTo>
                      <a:lnTo>
                        <a:pt x="336" y="107"/>
                      </a:lnTo>
                      <a:lnTo>
                        <a:pt x="369" y="99"/>
                      </a:lnTo>
                      <a:lnTo>
                        <a:pt x="402" y="93"/>
                      </a:lnTo>
                      <a:lnTo>
                        <a:pt x="435" y="87"/>
                      </a:lnTo>
                      <a:lnTo>
                        <a:pt x="468" y="83"/>
                      </a:lnTo>
                      <a:lnTo>
                        <a:pt x="461" y="45"/>
                      </a:lnTo>
                      <a:lnTo>
                        <a:pt x="461" y="84"/>
                      </a:lnTo>
                      <a:lnTo>
                        <a:pt x="496" y="81"/>
                      </a:lnTo>
                      <a:lnTo>
                        <a:pt x="531" y="80"/>
                      </a:lnTo>
                      <a:lnTo>
                        <a:pt x="531" y="80"/>
                      </a:lnTo>
                      <a:lnTo>
                        <a:pt x="565" y="80"/>
                      </a:lnTo>
                      <a:lnTo>
                        <a:pt x="601" y="84"/>
                      </a:lnTo>
                      <a:lnTo>
                        <a:pt x="601" y="45"/>
                      </a:lnTo>
                      <a:lnTo>
                        <a:pt x="593" y="83"/>
                      </a:lnTo>
                      <a:lnTo>
                        <a:pt x="630" y="89"/>
                      </a:lnTo>
                      <a:lnTo>
                        <a:pt x="667" y="96"/>
                      </a:lnTo>
                      <a:lnTo>
                        <a:pt x="705" y="105"/>
                      </a:lnTo>
                      <a:lnTo>
                        <a:pt x="743" y="115"/>
                      </a:lnTo>
                      <a:lnTo>
                        <a:pt x="819" y="137"/>
                      </a:lnTo>
                      <a:lnTo>
                        <a:pt x="896" y="160"/>
                      </a:lnTo>
                      <a:lnTo>
                        <a:pt x="934" y="170"/>
                      </a:lnTo>
                      <a:lnTo>
                        <a:pt x="972" y="180"/>
                      </a:lnTo>
                      <a:lnTo>
                        <a:pt x="1010" y="188"/>
                      </a:lnTo>
                      <a:lnTo>
                        <a:pt x="1046" y="194"/>
                      </a:lnTo>
                      <a:lnTo>
                        <a:pt x="1082" y="198"/>
                      </a:lnTo>
                      <a:lnTo>
                        <a:pt x="1090" y="198"/>
                      </a:lnTo>
                      <a:lnTo>
                        <a:pt x="1126" y="200"/>
                      </a:lnTo>
                      <a:lnTo>
                        <a:pt x="1161" y="198"/>
                      </a:lnTo>
                      <a:lnTo>
                        <a:pt x="1168" y="198"/>
                      </a:lnTo>
                      <a:lnTo>
                        <a:pt x="1202" y="194"/>
                      </a:lnTo>
                      <a:lnTo>
                        <a:pt x="1236" y="187"/>
                      </a:lnTo>
                      <a:lnTo>
                        <a:pt x="1271" y="180"/>
                      </a:lnTo>
                      <a:lnTo>
                        <a:pt x="1304" y="169"/>
                      </a:lnTo>
                      <a:lnTo>
                        <a:pt x="1311" y="167"/>
                      </a:lnTo>
                      <a:lnTo>
                        <a:pt x="1344" y="157"/>
                      </a:lnTo>
                      <a:lnTo>
                        <a:pt x="1410" y="134"/>
                      </a:lnTo>
                      <a:lnTo>
                        <a:pt x="1475" y="112"/>
                      </a:lnTo>
                      <a:lnTo>
                        <a:pt x="1508" y="102"/>
                      </a:lnTo>
                      <a:lnTo>
                        <a:pt x="1493" y="67"/>
                      </a:lnTo>
                      <a:lnTo>
                        <a:pt x="1501" y="104"/>
                      </a:lnTo>
                      <a:lnTo>
                        <a:pt x="1533" y="95"/>
                      </a:lnTo>
                      <a:lnTo>
                        <a:pt x="1565" y="87"/>
                      </a:lnTo>
                      <a:lnTo>
                        <a:pt x="1597" y="81"/>
                      </a:lnTo>
                      <a:lnTo>
                        <a:pt x="1630" y="77"/>
                      </a:lnTo>
                      <a:lnTo>
                        <a:pt x="1622" y="39"/>
                      </a:lnTo>
                      <a:lnTo>
                        <a:pt x="1622" y="77"/>
                      </a:lnTo>
                      <a:lnTo>
                        <a:pt x="1655" y="76"/>
                      </a:lnTo>
                      <a:lnTo>
                        <a:pt x="1686" y="76"/>
                      </a:lnTo>
                      <a:lnTo>
                        <a:pt x="1686" y="38"/>
                      </a:lnTo>
                      <a:lnTo>
                        <a:pt x="1679" y="76"/>
                      </a:lnTo>
                      <a:lnTo>
                        <a:pt x="1711" y="79"/>
                      </a:lnTo>
                      <a:lnTo>
                        <a:pt x="1744" y="84"/>
                      </a:lnTo>
                      <a:lnTo>
                        <a:pt x="1777" y="91"/>
                      </a:lnTo>
                      <a:lnTo>
                        <a:pt x="1809" y="100"/>
                      </a:lnTo>
                      <a:lnTo>
                        <a:pt x="1841" y="109"/>
                      </a:lnTo>
                      <a:lnTo>
                        <a:pt x="1848" y="72"/>
                      </a:lnTo>
                      <a:lnTo>
                        <a:pt x="1834" y="106"/>
                      </a:lnTo>
                      <a:lnTo>
                        <a:pt x="1899" y="127"/>
                      </a:lnTo>
                      <a:lnTo>
                        <a:pt x="1962" y="147"/>
                      </a:lnTo>
                      <a:lnTo>
                        <a:pt x="1969" y="150"/>
                      </a:lnTo>
                      <a:lnTo>
                        <a:pt x="2002" y="159"/>
                      </a:lnTo>
                      <a:lnTo>
                        <a:pt x="2033" y="168"/>
                      </a:lnTo>
                      <a:lnTo>
                        <a:pt x="2064" y="176"/>
                      </a:lnTo>
                      <a:lnTo>
                        <a:pt x="2095" y="181"/>
                      </a:lnTo>
                      <a:lnTo>
                        <a:pt x="2127" y="185"/>
                      </a:lnTo>
                      <a:lnTo>
                        <a:pt x="2135" y="185"/>
                      </a:lnTo>
                      <a:lnTo>
                        <a:pt x="2165" y="187"/>
                      </a:lnTo>
                      <a:lnTo>
                        <a:pt x="2195" y="186"/>
                      </a:lnTo>
                      <a:lnTo>
                        <a:pt x="2203" y="185"/>
                      </a:lnTo>
                      <a:lnTo>
                        <a:pt x="2233" y="182"/>
                      </a:lnTo>
                      <a:lnTo>
                        <a:pt x="2264" y="177"/>
                      </a:lnTo>
                      <a:lnTo>
                        <a:pt x="2293" y="169"/>
                      </a:lnTo>
                      <a:lnTo>
                        <a:pt x="2323" y="161"/>
                      </a:lnTo>
                      <a:lnTo>
                        <a:pt x="2352" y="152"/>
                      </a:lnTo>
                      <a:lnTo>
                        <a:pt x="2359" y="150"/>
                      </a:lnTo>
                      <a:lnTo>
                        <a:pt x="2418" y="130"/>
                      </a:lnTo>
                      <a:lnTo>
                        <a:pt x="2476" y="111"/>
                      </a:lnTo>
                      <a:lnTo>
                        <a:pt x="2506" y="102"/>
                      </a:lnTo>
                      <a:lnTo>
                        <a:pt x="2490" y="67"/>
                      </a:lnTo>
                      <a:lnTo>
                        <a:pt x="2499" y="104"/>
                      </a:lnTo>
                      <a:lnTo>
                        <a:pt x="2527" y="96"/>
                      </a:lnTo>
                      <a:lnTo>
                        <a:pt x="2555" y="89"/>
                      </a:lnTo>
                      <a:lnTo>
                        <a:pt x="2583" y="84"/>
                      </a:lnTo>
                      <a:lnTo>
                        <a:pt x="2612" y="80"/>
                      </a:lnTo>
                      <a:lnTo>
                        <a:pt x="2604" y="42"/>
                      </a:lnTo>
                      <a:lnTo>
                        <a:pt x="2604" y="81"/>
                      </a:lnTo>
                      <a:lnTo>
                        <a:pt x="2633" y="80"/>
                      </a:lnTo>
                      <a:lnTo>
                        <a:pt x="2634" y="80"/>
                      </a:lnTo>
                      <a:lnTo>
                        <a:pt x="2661" y="80"/>
                      </a:lnTo>
                      <a:lnTo>
                        <a:pt x="2661" y="42"/>
                      </a:lnTo>
                      <a:lnTo>
                        <a:pt x="2653" y="80"/>
                      </a:lnTo>
                      <a:lnTo>
                        <a:pt x="2681" y="83"/>
                      </a:lnTo>
                      <a:lnTo>
                        <a:pt x="2708" y="87"/>
                      </a:lnTo>
                      <a:lnTo>
                        <a:pt x="2734" y="94"/>
                      </a:lnTo>
                      <a:lnTo>
                        <a:pt x="2762" y="101"/>
                      </a:lnTo>
                      <a:lnTo>
                        <a:pt x="2769" y="64"/>
                      </a:lnTo>
                      <a:lnTo>
                        <a:pt x="2755" y="98"/>
                      </a:lnTo>
                      <a:lnTo>
                        <a:pt x="2781" y="107"/>
                      </a:lnTo>
                      <a:lnTo>
                        <a:pt x="2833" y="125"/>
                      </a:lnTo>
                      <a:lnTo>
                        <a:pt x="2886" y="143"/>
                      </a:lnTo>
                      <a:lnTo>
                        <a:pt x="2913" y="151"/>
                      </a:lnTo>
                      <a:lnTo>
                        <a:pt x="2920" y="154"/>
                      </a:lnTo>
                      <a:lnTo>
                        <a:pt x="2946" y="161"/>
                      </a:lnTo>
                      <a:lnTo>
                        <a:pt x="2973" y="168"/>
                      </a:lnTo>
                      <a:lnTo>
                        <a:pt x="3001" y="174"/>
                      </a:lnTo>
                      <a:lnTo>
                        <a:pt x="3029" y="177"/>
                      </a:lnTo>
                      <a:lnTo>
                        <a:pt x="3036" y="177"/>
                      </a:lnTo>
                      <a:lnTo>
                        <a:pt x="3064" y="179"/>
                      </a:lnTo>
                      <a:lnTo>
                        <a:pt x="3092" y="177"/>
                      </a:lnTo>
                      <a:lnTo>
                        <a:pt x="3100" y="177"/>
                      </a:lnTo>
                      <a:lnTo>
                        <a:pt x="3129" y="173"/>
                      </a:lnTo>
                      <a:lnTo>
                        <a:pt x="3157" y="167"/>
                      </a:lnTo>
                      <a:lnTo>
                        <a:pt x="3185" y="160"/>
                      </a:lnTo>
                      <a:lnTo>
                        <a:pt x="3213" y="152"/>
                      </a:lnTo>
                      <a:lnTo>
                        <a:pt x="3220" y="149"/>
                      </a:lnTo>
                      <a:lnTo>
                        <a:pt x="3249" y="140"/>
                      </a:lnTo>
                      <a:lnTo>
                        <a:pt x="3306" y="121"/>
                      </a:lnTo>
                      <a:lnTo>
                        <a:pt x="3364" y="101"/>
                      </a:lnTo>
                      <a:lnTo>
                        <a:pt x="3350" y="67"/>
                      </a:lnTo>
                      <a:lnTo>
                        <a:pt x="3357" y="104"/>
                      </a:lnTo>
                      <a:lnTo>
                        <a:pt x="3388" y="95"/>
                      </a:lnTo>
                      <a:lnTo>
                        <a:pt x="3418" y="88"/>
                      </a:lnTo>
                      <a:lnTo>
                        <a:pt x="3449" y="82"/>
                      </a:lnTo>
                      <a:lnTo>
                        <a:pt x="3480" y="77"/>
                      </a:lnTo>
                      <a:lnTo>
                        <a:pt x="3472" y="39"/>
                      </a:lnTo>
                      <a:lnTo>
                        <a:pt x="3472" y="78"/>
                      </a:lnTo>
                      <a:lnTo>
                        <a:pt x="3505" y="76"/>
                      </a:lnTo>
                      <a:lnTo>
                        <a:pt x="3537" y="76"/>
                      </a:lnTo>
                      <a:lnTo>
                        <a:pt x="3572" y="78"/>
                      </a:lnTo>
                      <a:lnTo>
                        <a:pt x="3606" y="81"/>
                      </a:lnTo>
                      <a:lnTo>
                        <a:pt x="3606" y="42"/>
                      </a:lnTo>
                      <a:lnTo>
                        <a:pt x="3598" y="80"/>
                      </a:lnTo>
                      <a:lnTo>
                        <a:pt x="3634" y="85"/>
                      </a:lnTo>
                      <a:lnTo>
                        <a:pt x="3669" y="91"/>
                      </a:lnTo>
                      <a:lnTo>
                        <a:pt x="3705" y="98"/>
                      </a:lnTo>
                      <a:lnTo>
                        <a:pt x="3742" y="105"/>
                      </a:lnTo>
                      <a:lnTo>
                        <a:pt x="3817" y="124"/>
                      </a:lnTo>
                      <a:lnTo>
                        <a:pt x="3893" y="145"/>
                      </a:lnTo>
                      <a:lnTo>
                        <a:pt x="3970" y="168"/>
                      </a:lnTo>
                      <a:lnTo>
                        <a:pt x="3977" y="131"/>
                      </a:lnTo>
                      <a:lnTo>
                        <a:pt x="3963" y="166"/>
                      </a:lnTo>
                      <a:lnTo>
                        <a:pt x="4041" y="192"/>
                      </a:lnTo>
                      <a:lnTo>
                        <a:pt x="4121" y="219"/>
                      </a:lnTo>
                      <a:lnTo>
                        <a:pt x="4146" y="147"/>
                      </a:lnTo>
                      <a:lnTo>
                        <a:pt x="4070" y="122"/>
                      </a:lnTo>
                      <a:lnTo>
                        <a:pt x="3992" y="97"/>
                      </a:lnTo>
                      <a:lnTo>
                        <a:pt x="3985" y="94"/>
                      </a:lnTo>
                      <a:lnTo>
                        <a:pt x="3908" y="71"/>
                      </a:lnTo>
                      <a:lnTo>
                        <a:pt x="3832" y="50"/>
                      </a:lnTo>
                      <a:lnTo>
                        <a:pt x="3758" y="30"/>
                      </a:lnTo>
                      <a:lnTo>
                        <a:pt x="3720" y="23"/>
                      </a:lnTo>
                      <a:lnTo>
                        <a:pt x="3684" y="16"/>
                      </a:lnTo>
                      <a:lnTo>
                        <a:pt x="3649" y="10"/>
                      </a:lnTo>
                      <a:lnTo>
                        <a:pt x="3613" y="5"/>
                      </a:lnTo>
                      <a:lnTo>
                        <a:pt x="3606" y="5"/>
                      </a:lnTo>
                      <a:lnTo>
                        <a:pt x="3572" y="2"/>
                      </a:lnTo>
                      <a:lnTo>
                        <a:pt x="3540" y="0"/>
                      </a:lnTo>
                      <a:lnTo>
                        <a:pt x="3505" y="0"/>
                      </a:lnTo>
                      <a:lnTo>
                        <a:pt x="3472" y="2"/>
                      </a:lnTo>
                      <a:lnTo>
                        <a:pt x="3465" y="2"/>
                      </a:lnTo>
                      <a:lnTo>
                        <a:pt x="3434" y="7"/>
                      </a:lnTo>
                      <a:lnTo>
                        <a:pt x="3403" y="13"/>
                      </a:lnTo>
                      <a:lnTo>
                        <a:pt x="3373" y="20"/>
                      </a:lnTo>
                      <a:lnTo>
                        <a:pt x="3342" y="29"/>
                      </a:lnTo>
                      <a:lnTo>
                        <a:pt x="3335" y="31"/>
                      </a:lnTo>
                      <a:lnTo>
                        <a:pt x="3277" y="52"/>
                      </a:lnTo>
                      <a:lnTo>
                        <a:pt x="3219" y="71"/>
                      </a:lnTo>
                      <a:lnTo>
                        <a:pt x="3191" y="80"/>
                      </a:lnTo>
                      <a:lnTo>
                        <a:pt x="3205" y="115"/>
                      </a:lnTo>
                      <a:lnTo>
                        <a:pt x="3198" y="78"/>
                      </a:lnTo>
                      <a:lnTo>
                        <a:pt x="3170" y="86"/>
                      </a:lnTo>
                      <a:lnTo>
                        <a:pt x="3142" y="93"/>
                      </a:lnTo>
                      <a:lnTo>
                        <a:pt x="3113" y="98"/>
                      </a:lnTo>
                      <a:lnTo>
                        <a:pt x="3085" y="102"/>
                      </a:lnTo>
                      <a:lnTo>
                        <a:pt x="3092" y="139"/>
                      </a:lnTo>
                      <a:lnTo>
                        <a:pt x="3092" y="101"/>
                      </a:lnTo>
                      <a:lnTo>
                        <a:pt x="3064" y="103"/>
                      </a:lnTo>
                      <a:lnTo>
                        <a:pt x="3036" y="101"/>
                      </a:lnTo>
                      <a:lnTo>
                        <a:pt x="3036" y="139"/>
                      </a:lnTo>
                      <a:lnTo>
                        <a:pt x="3044" y="102"/>
                      </a:lnTo>
                      <a:lnTo>
                        <a:pt x="3016" y="99"/>
                      </a:lnTo>
                      <a:lnTo>
                        <a:pt x="2988" y="94"/>
                      </a:lnTo>
                      <a:lnTo>
                        <a:pt x="2961" y="87"/>
                      </a:lnTo>
                      <a:lnTo>
                        <a:pt x="2935" y="80"/>
                      </a:lnTo>
                      <a:lnTo>
                        <a:pt x="2927" y="117"/>
                      </a:lnTo>
                      <a:lnTo>
                        <a:pt x="2942" y="82"/>
                      </a:lnTo>
                      <a:lnTo>
                        <a:pt x="2915" y="74"/>
                      </a:lnTo>
                      <a:lnTo>
                        <a:pt x="2862" y="56"/>
                      </a:lnTo>
                      <a:lnTo>
                        <a:pt x="2810" y="37"/>
                      </a:lnTo>
                      <a:lnTo>
                        <a:pt x="2784" y="28"/>
                      </a:lnTo>
                      <a:lnTo>
                        <a:pt x="2777" y="26"/>
                      </a:lnTo>
                      <a:lnTo>
                        <a:pt x="2750" y="19"/>
                      </a:lnTo>
                      <a:lnTo>
                        <a:pt x="2723" y="12"/>
                      </a:lnTo>
                      <a:lnTo>
                        <a:pt x="2696" y="8"/>
                      </a:lnTo>
                      <a:lnTo>
                        <a:pt x="2668" y="5"/>
                      </a:lnTo>
                      <a:lnTo>
                        <a:pt x="2661" y="4"/>
                      </a:lnTo>
                      <a:lnTo>
                        <a:pt x="2633" y="4"/>
                      </a:lnTo>
                      <a:lnTo>
                        <a:pt x="2633" y="41"/>
                      </a:lnTo>
                      <a:lnTo>
                        <a:pt x="2633" y="4"/>
                      </a:lnTo>
                      <a:lnTo>
                        <a:pt x="2604" y="5"/>
                      </a:lnTo>
                      <a:lnTo>
                        <a:pt x="2597" y="5"/>
                      </a:lnTo>
                      <a:lnTo>
                        <a:pt x="2568" y="9"/>
                      </a:lnTo>
                      <a:lnTo>
                        <a:pt x="2540" y="14"/>
                      </a:lnTo>
                      <a:lnTo>
                        <a:pt x="2512" y="21"/>
                      </a:lnTo>
                      <a:lnTo>
                        <a:pt x="2483" y="29"/>
                      </a:lnTo>
                      <a:lnTo>
                        <a:pt x="2476" y="32"/>
                      </a:lnTo>
                      <a:lnTo>
                        <a:pt x="2447" y="41"/>
                      </a:lnTo>
                      <a:lnTo>
                        <a:pt x="2389" y="61"/>
                      </a:lnTo>
                      <a:lnTo>
                        <a:pt x="2330" y="81"/>
                      </a:lnTo>
                      <a:lnTo>
                        <a:pt x="2345" y="115"/>
                      </a:lnTo>
                      <a:lnTo>
                        <a:pt x="2337" y="78"/>
                      </a:lnTo>
                      <a:lnTo>
                        <a:pt x="2308" y="87"/>
                      </a:lnTo>
                      <a:lnTo>
                        <a:pt x="2278" y="95"/>
                      </a:lnTo>
                      <a:lnTo>
                        <a:pt x="2249" y="102"/>
                      </a:lnTo>
                      <a:lnTo>
                        <a:pt x="2218" y="107"/>
                      </a:lnTo>
                      <a:lnTo>
                        <a:pt x="2188" y="110"/>
                      </a:lnTo>
                      <a:lnTo>
                        <a:pt x="2195" y="147"/>
                      </a:lnTo>
                      <a:lnTo>
                        <a:pt x="2195" y="110"/>
                      </a:lnTo>
                      <a:lnTo>
                        <a:pt x="2165" y="111"/>
                      </a:lnTo>
                      <a:lnTo>
                        <a:pt x="2135" y="109"/>
                      </a:lnTo>
                      <a:lnTo>
                        <a:pt x="2135" y="147"/>
                      </a:lnTo>
                      <a:lnTo>
                        <a:pt x="2142" y="110"/>
                      </a:lnTo>
                      <a:lnTo>
                        <a:pt x="2110" y="106"/>
                      </a:lnTo>
                      <a:lnTo>
                        <a:pt x="2079" y="101"/>
                      </a:lnTo>
                      <a:lnTo>
                        <a:pt x="2048" y="94"/>
                      </a:lnTo>
                      <a:lnTo>
                        <a:pt x="2017" y="85"/>
                      </a:lnTo>
                      <a:lnTo>
                        <a:pt x="1984" y="76"/>
                      </a:lnTo>
                      <a:lnTo>
                        <a:pt x="1977" y="113"/>
                      </a:lnTo>
                      <a:lnTo>
                        <a:pt x="1992" y="78"/>
                      </a:lnTo>
                      <a:lnTo>
                        <a:pt x="1928" y="58"/>
                      </a:lnTo>
                      <a:lnTo>
                        <a:pt x="1863" y="36"/>
                      </a:lnTo>
                      <a:lnTo>
                        <a:pt x="1856" y="34"/>
                      </a:lnTo>
                      <a:lnTo>
                        <a:pt x="1824" y="25"/>
                      </a:lnTo>
                      <a:lnTo>
                        <a:pt x="1792" y="16"/>
                      </a:lnTo>
                      <a:lnTo>
                        <a:pt x="1759" y="9"/>
                      </a:lnTo>
                      <a:lnTo>
                        <a:pt x="1726" y="4"/>
                      </a:lnTo>
                      <a:lnTo>
                        <a:pt x="1694" y="1"/>
                      </a:lnTo>
                      <a:lnTo>
                        <a:pt x="1686" y="0"/>
                      </a:lnTo>
                      <a:lnTo>
                        <a:pt x="1654" y="0"/>
                      </a:lnTo>
                      <a:lnTo>
                        <a:pt x="1622" y="1"/>
                      </a:lnTo>
                      <a:lnTo>
                        <a:pt x="1614" y="2"/>
                      </a:lnTo>
                      <a:lnTo>
                        <a:pt x="1582" y="6"/>
                      </a:lnTo>
                      <a:lnTo>
                        <a:pt x="1550" y="12"/>
                      </a:lnTo>
                      <a:lnTo>
                        <a:pt x="1518" y="20"/>
                      </a:lnTo>
                      <a:lnTo>
                        <a:pt x="1485" y="29"/>
                      </a:lnTo>
                      <a:lnTo>
                        <a:pt x="1478" y="32"/>
                      </a:lnTo>
                      <a:lnTo>
                        <a:pt x="1446" y="42"/>
                      </a:lnTo>
                      <a:lnTo>
                        <a:pt x="1381" y="65"/>
                      </a:lnTo>
                      <a:lnTo>
                        <a:pt x="1315" y="88"/>
                      </a:lnTo>
                      <a:lnTo>
                        <a:pt x="1282" y="98"/>
                      </a:lnTo>
                      <a:lnTo>
                        <a:pt x="1297" y="132"/>
                      </a:lnTo>
                      <a:lnTo>
                        <a:pt x="1289" y="95"/>
                      </a:lnTo>
                      <a:lnTo>
                        <a:pt x="1256" y="105"/>
                      </a:lnTo>
                      <a:lnTo>
                        <a:pt x="1221" y="112"/>
                      </a:lnTo>
                      <a:lnTo>
                        <a:pt x="1187" y="119"/>
                      </a:lnTo>
                      <a:lnTo>
                        <a:pt x="1153" y="123"/>
                      </a:lnTo>
                      <a:lnTo>
                        <a:pt x="1161" y="160"/>
                      </a:lnTo>
                      <a:lnTo>
                        <a:pt x="1161" y="122"/>
                      </a:lnTo>
                      <a:lnTo>
                        <a:pt x="1126" y="124"/>
                      </a:lnTo>
                      <a:lnTo>
                        <a:pt x="1090" y="122"/>
                      </a:lnTo>
                      <a:lnTo>
                        <a:pt x="1090" y="160"/>
                      </a:lnTo>
                      <a:lnTo>
                        <a:pt x="1097" y="123"/>
                      </a:lnTo>
                      <a:lnTo>
                        <a:pt x="1061" y="119"/>
                      </a:lnTo>
                      <a:lnTo>
                        <a:pt x="1025" y="113"/>
                      </a:lnTo>
                      <a:lnTo>
                        <a:pt x="988" y="105"/>
                      </a:lnTo>
                      <a:lnTo>
                        <a:pt x="949" y="96"/>
                      </a:lnTo>
                      <a:lnTo>
                        <a:pt x="911" y="86"/>
                      </a:lnTo>
                      <a:lnTo>
                        <a:pt x="834" y="63"/>
                      </a:lnTo>
                      <a:lnTo>
                        <a:pt x="758" y="40"/>
                      </a:lnTo>
                      <a:lnTo>
                        <a:pt x="720" y="30"/>
                      </a:lnTo>
                      <a:lnTo>
                        <a:pt x="682" y="21"/>
                      </a:lnTo>
                      <a:lnTo>
                        <a:pt x="645" y="14"/>
                      </a:lnTo>
                      <a:lnTo>
                        <a:pt x="608" y="8"/>
                      </a:lnTo>
                      <a:lnTo>
                        <a:pt x="601" y="8"/>
                      </a:lnTo>
                      <a:lnTo>
                        <a:pt x="565" y="4"/>
                      </a:lnTo>
                      <a:lnTo>
                        <a:pt x="529" y="4"/>
                      </a:lnTo>
                      <a:lnTo>
                        <a:pt x="530" y="41"/>
                      </a:lnTo>
                      <a:lnTo>
                        <a:pt x="530" y="4"/>
                      </a:lnTo>
                      <a:lnTo>
                        <a:pt x="496" y="5"/>
                      </a:lnTo>
                      <a:lnTo>
                        <a:pt x="461" y="8"/>
                      </a:lnTo>
                      <a:lnTo>
                        <a:pt x="453" y="8"/>
                      </a:lnTo>
                      <a:lnTo>
                        <a:pt x="420" y="12"/>
                      </a:lnTo>
                      <a:lnTo>
                        <a:pt x="387" y="18"/>
                      </a:lnTo>
                      <a:lnTo>
                        <a:pt x="353" y="24"/>
                      </a:lnTo>
                      <a:lnTo>
                        <a:pt x="321" y="32"/>
                      </a:lnTo>
                      <a:lnTo>
                        <a:pt x="257" y="51"/>
                      </a:lnTo>
                      <a:lnTo>
                        <a:pt x="250" y="53"/>
                      </a:lnTo>
                      <a:lnTo>
                        <a:pt x="186" y="74"/>
                      </a:lnTo>
                      <a:lnTo>
                        <a:pt x="124" y="97"/>
                      </a:lnTo>
                      <a:lnTo>
                        <a:pt x="61" y="122"/>
                      </a:lnTo>
                      <a:lnTo>
                        <a:pt x="0" y="14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436640" y="3165480"/>
                  <a:ext cx="3291120" cy="174600"/>
                </a:xfrm>
                <a:custGeom>
                  <a:avLst/>
                  <a:gdLst/>
                  <a:ahLst/>
                  <a:rect l="l" t="t" r="r" b="b"/>
                  <a:pathLst>
                    <a:path w="4147" h="220">
                      <a:moveTo>
                        <a:pt x="0" y="149"/>
                      </a:moveTo>
                      <a:lnTo>
                        <a:pt x="30" y="219"/>
                      </a:lnTo>
                      <a:lnTo>
                        <a:pt x="91" y="192"/>
                      </a:lnTo>
                      <a:lnTo>
                        <a:pt x="154" y="167"/>
                      </a:lnTo>
                      <a:lnTo>
                        <a:pt x="217" y="144"/>
                      </a:lnTo>
                      <a:lnTo>
                        <a:pt x="281" y="123"/>
                      </a:lnTo>
                      <a:lnTo>
                        <a:pt x="265" y="88"/>
                      </a:lnTo>
                      <a:lnTo>
                        <a:pt x="274" y="125"/>
                      </a:lnTo>
                      <a:lnTo>
                        <a:pt x="338" y="107"/>
                      </a:lnTo>
                      <a:lnTo>
                        <a:pt x="370" y="100"/>
                      </a:lnTo>
                      <a:lnTo>
                        <a:pt x="404" y="93"/>
                      </a:lnTo>
                      <a:lnTo>
                        <a:pt x="437" y="88"/>
                      </a:lnTo>
                      <a:lnTo>
                        <a:pt x="470" y="84"/>
                      </a:lnTo>
                      <a:lnTo>
                        <a:pt x="463" y="46"/>
                      </a:lnTo>
                      <a:lnTo>
                        <a:pt x="463" y="85"/>
                      </a:lnTo>
                      <a:lnTo>
                        <a:pt x="497" y="81"/>
                      </a:lnTo>
                      <a:lnTo>
                        <a:pt x="533" y="80"/>
                      </a:lnTo>
                      <a:lnTo>
                        <a:pt x="533" y="80"/>
                      </a:lnTo>
                      <a:lnTo>
                        <a:pt x="567" y="80"/>
                      </a:lnTo>
                      <a:lnTo>
                        <a:pt x="603" y="84"/>
                      </a:lnTo>
                      <a:lnTo>
                        <a:pt x="603" y="46"/>
                      </a:lnTo>
                      <a:lnTo>
                        <a:pt x="595" y="84"/>
                      </a:lnTo>
                      <a:lnTo>
                        <a:pt x="631" y="90"/>
                      </a:lnTo>
                      <a:lnTo>
                        <a:pt x="669" y="97"/>
                      </a:lnTo>
                      <a:lnTo>
                        <a:pt x="707" y="106"/>
                      </a:lnTo>
                      <a:lnTo>
                        <a:pt x="744" y="116"/>
                      </a:lnTo>
                      <a:lnTo>
                        <a:pt x="821" y="138"/>
                      </a:lnTo>
                      <a:lnTo>
                        <a:pt x="898" y="160"/>
                      </a:lnTo>
                      <a:lnTo>
                        <a:pt x="936" y="171"/>
                      </a:lnTo>
                      <a:lnTo>
                        <a:pt x="974" y="180"/>
                      </a:lnTo>
                      <a:lnTo>
                        <a:pt x="1011" y="188"/>
                      </a:lnTo>
                      <a:lnTo>
                        <a:pt x="1048" y="194"/>
                      </a:lnTo>
                      <a:lnTo>
                        <a:pt x="1084" y="198"/>
                      </a:lnTo>
                      <a:lnTo>
                        <a:pt x="1092" y="198"/>
                      </a:lnTo>
                      <a:lnTo>
                        <a:pt x="1127" y="200"/>
                      </a:lnTo>
                      <a:lnTo>
                        <a:pt x="1163" y="198"/>
                      </a:lnTo>
                      <a:lnTo>
                        <a:pt x="1170" y="197"/>
                      </a:lnTo>
                      <a:lnTo>
                        <a:pt x="1204" y="193"/>
                      </a:lnTo>
                      <a:lnTo>
                        <a:pt x="1238" y="187"/>
                      </a:lnTo>
                      <a:lnTo>
                        <a:pt x="1272" y="180"/>
                      </a:lnTo>
                      <a:lnTo>
                        <a:pt x="1306" y="170"/>
                      </a:lnTo>
                      <a:lnTo>
                        <a:pt x="1313" y="168"/>
                      </a:lnTo>
                      <a:lnTo>
                        <a:pt x="1346" y="157"/>
                      </a:lnTo>
                      <a:lnTo>
                        <a:pt x="1412" y="135"/>
                      </a:lnTo>
                      <a:lnTo>
                        <a:pt x="1476" y="112"/>
                      </a:lnTo>
                      <a:lnTo>
                        <a:pt x="1508" y="102"/>
                      </a:lnTo>
                      <a:lnTo>
                        <a:pt x="1494" y="66"/>
                      </a:lnTo>
                      <a:lnTo>
                        <a:pt x="1501" y="104"/>
                      </a:lnTo>
                      <a:lnTo>
                        <a:pt x="1534" y="95"/>
                      </a:lnTo>
                      <a:lnTo>
                        <a:pt x="1566" y="87"/>
                      </a:lnTo>
                      <a:lnTo>
                        <a:pt x="1598" y="80"/>
                      </a:lnTo>
                      <a:lnTo>
                        <a:pt x="1630" y="76"/>
                      </a:lnTo>
                      <a:lnTo>
                        <a:pt x="1623" y="39"/>
                      </a:lnTo>
                      <a:lnTo>
                        <a:pt x="1623" y="76"/>
                      </a:lnTo>
                      <a:lnTo>
                        <a:pt x="1657" y="75"/>
                      </a:lnTo>
                      <a:lnTo>
                        <a:pt x="1688" y="75"/>
                      </a:lnTo>
                      <a:lnTo>
                        <a:pt x="1688" y="38"/>
                      </a:lnTo>
                      <a:lnTo>
                        <a:pt x="1681" y="75"/>
                      </a:lnTo>
                      <a:lnTo>
                        <a:pt x="1713" y="78"/>
                      </a:lnTo>
                      <a:lnTo>
                        <a:pt x="1745" y="84"/>
                      </a:lnTo>
                      <a:lnTo>
                        <a:pt x="1779" y="91"/>
                      </a:lnTo>
                      <a:lnTo>
                        <a:pt x="1811" y="100"/>
                      </a:lnTo>
                      <a:lnTo>
                        <a:pt x="1843" y="109"/>
                      </a:lnTo>
                      <a:lnTo>
                        <a:pt x="1850" y="71"/>
                      </a:lnTo>
                      <a:lnTo>
                        <a:pt x="1836" y="107"/>
                      </a:lnTo>
                      <a:lnTo>
                        <a:pt x="1900" y="127"/>
                      </a:lnTo>
                      <a:lnTo>
                        <a:pt x="1964" y="147"/>
                      </a:lnTo>
                      <a:lnTo>
                        <a:pt x="1971" y="150"/>
                      </a:lnTo>
                      <a:lnTo>
                        <a:pt x="2003" y="159"/>
                      </a:lnTo>
                      <a:lnTo>
                        <a:pt x="2035" y="168"/>
                      </a:lnTo>
                      <a:lnTo>
                        <a:pt x="2066" y="175"/>
                      </a:lnTo>
                      <a:lnTo>
                        <a:pt x="2097" y="181"/>
                      </a:lnTo>
                      <a:lnTo>
                        <a:pt x="2128" y="185"/>
                      </a:lnTo>
                      <a:lnTo>
                        <a:pt x="2136" y="185"/>
                      </a:lnTo>
                      <a:lnTo>
                        <a:pt x="2167" y="187"/>
                      </a:lnTo>
                      <a:lnTo>
                        <a:pt x="2197" y="186"/>
                      </a:lnTo>
                      <a:lnTo>
                        <a:pt x="2205" y="185"/>
                      </a:lnTo>
                      <a:lnTo>
                        <a:pt x="2235" y="182"/>
                      </a:lnTo>
                      <a:lnTo>
                        <a:pt x="2264" y="177"/>
                      </a:lnTo>
                      <a:lnTo>
                        <a:pt x="2295" y="170"/>
                      </a:lnTo>
                      <a:lnTo>
                        <a:pt x="2324" y="162"/>
                      </a:lnTo>
                      <a:lnTo>
                        <a:pt x="2354" y="153"/>
                      </a:lnTo>
                      <a:lnTo>
                        <a:pt x="2361" y="151"/>
                      </a:lnTo>
                      <a:lnTo>
                        <a:pt x="2420" y="131"/>
                      </a:lnTo>
                      <a:lnTo>
                        <a:pt x="2478" y="112"/>
                      </a:lnTo>
                      <a:lnTo>
                        <a:pt x="2506" y="103"/>
                      </a:lnTo>
                      <a:lnTo>
                        <a:pt x="2492" y="67"/>
                      </a:lnTo>
                      <a:lnTo>
                        <a:pt x="2499" y="105"/>
                      </a:lnTo>
                      <a:lnTo>
                        <a:pt x="2528" y="97"/>
                      </a:lnTo>
                      <a:lnTo>
                        <a:pt x="2557" y="90"/>
                      </a:lnTo>
                      <a:lnTo>
                        <a:pt x="2585" y="85"/>
                      </a:lnTo>
                      <a:lnTo>
                        <a:pt x="2614" y="80"/>
                      </a:lnTo>
                      <a:lnTo>
                        <a:pt x="2606" y="43"/>
                      </a:lnTo>
                      <a:lnTo>
                        <a:pt x="2606" y="81"/>
                      </a:lnTo>
                      <a:lnTo>
                        <a:pt x="2634" y="80"/>
                      </a:lnTo>
                      <a:lnTo>
                        <a:pt x="2635" y="80"/>
                      </a:lnTo>
                      <a:lnTo>
                        <a:pt x="2663" y="80"/>
                      </a:lnTo>
                      <a:lnTo>
                        <a:pt x="2663" y="43"/>
                      </a:lnTo>
                      <a:lnTo>
                        <a:pt x="2655" y="80"/>
                      </a:lnTo>
                      <a:lnTo>
                        <a:pt x="2682" y="84"/>
                      </a:lnTo>
                      <a:lnTo>
                        <a:pt x="2709" y="88"/>
                      </a:lnTo>
                      <a:lnTo>
                        <a:pt x="2736" y="94"/>
                      </a:lnTo>
                      <a:lnTo>
                        <a:pt x="2762" y="102"/>
                      </a:lnTo>
                      <a:lnTo>
                        <a:pt x="2770" y="64"/>
                      </a:lnTo>
                      <a:lnTo>
                        <a:pt x="2755" y="99"/>
                      </a:lnTo>
                      <a:lnTo>
                        <a:pt x="2782" y="108"/>
                      </a:lnTo>
                      <a:lnTo>
                        <a:pt x="2835" y="126"/>
                      </a:lnTo>
                      <a:lnTo>
                        <a:pt x="2887" y="144"/>
                      </a:lnTo>
                      <a:lnTo>
                        <a:pt x="2915" y="152"/>
                      </a:lnTo>
                      <a:lnTo>
                        <a:pt x="2922" y="155"/>
                      </a:lnTo>
                      <a:lnTo>
                        <a:pt x="2948" y="162"/>
                      </a:lnTo>
                      <a:lnTo>
                        <a:pt x="2975" y="168"/>
                      </a:lnTo>
                      <a:lnTo>
                        <a:pt x="3002" y="173"/>
                      </a:lnTo>
                      <a:lnTo>
                        <a:pt x="3030" y="176"/>
                      </a:lnTo>
                      <a:lnTo>
                        <a:pt x="3038" y="177"/>
                      </a:lnTo>
                      <a:lnTo>
                        <a:pt x="3066" y="178"/>
                      </a:lnTo>
                      <a:lnTo>
                        <a:pt x="3094" y="176"/>
                      </a:lnTo>
                      <a:lnTo>
                        <a:pt x="3102" y="176"/>
                      </a:lnTo>
                      <a:lnTo>
                        <a:pt x="3130" y="172"/>
                      </a:lnTo>
                      <a:lnTo>
                        <a:pt x="3158" y="167"/>
                      </a:lnTo>
                      <a:lnTo>
                        <a:pt x="3186" y="160"/>
                      </a:lnTo>
                      <a:lnTo>
                        <a:pt x="3214" y="152"/>
                      </a:lnTo>
                      <a:lnTo>
                        <a:pt x="3221" y="149"/>
                      </a:lnTo>
                      <a:lnTo>
                        <a:pt x="3249" y="140"/>
                      </a:lnTo>
                      <a:lnTo>
                        <a:pt x="3307" y="121"/>
                      </a:lnTo>
                      <a:lnTo>
                        <a:pt x="3366" y="102"/>
                      </a:lnTo>
                      <a:lnTo>
                        <a:pt x="3351" y="66"/>
                      </a:lnTo>
                      <a:lnTo>
                        <a:pt x="3359" y="104"/>
                      </a:lnTo>
                      <a:lnTo>
                        <a:pt x="3388" y="96"/>
                      </a:lnTo>
                      <a:lnTo>
                        <a:pt x="3420" y="88"/>
                      </a:lnTo>
                      <a:lnTo>
                        <a:pt x="3450" y="81"/>
                      </a:lnTo>
                      <a:lnTo>
                        <a:pt x="3482" y="76"/>
                      </a:lnTo>
                      <a:lnTo>
                        <a:pt x="3474" y="39"/>
                      </a:lnTo>
                      <a:lnTo>
                        <a:pt x="3474" y="77"/>
                      </a:lnTo>
                      <a:lnTo>
                        <a:pt x="3506" y="75"/>
                      </a:lnTo>
                      <a:lnTo>
                        <a:pt x="3539" y="75"/>
                      </a:lnTo>
                      <a:lnTo>
                        <a:pt x="3574" y="77"/>
                      </a:lnTo>
                      <a:lnTo>
                        <a:pt x="3574" y="39"/>
                      </a:lnTo>
                      <a:lnTo>
                        <a:pt x="3566" y="76"/>
                      </a:lnTo>
                      <a:lnTo>
                        <a:pt x="3600" y="80"/>
                      </a:lnTo>
                      <a:lnTo>
                        <a:pt x="3635" y="85"/>
                      </a:lnTo>
                      <a:lnTo>
                        <a:pt x="3671" y="91"/>
                      </a:lnTo>
                      <a:lnTo>
                        <a:pt x="3707" y="98"/>
                      </a:lnTo>
                      <a:lnTo>
                        <a:pt x="3744" y="106"/>
                      </a:lnTo>
                      <a:lnTo>
                        <a:pt x="3819" y="125"/>
                      </a:lnTo>
                      <a:lnTo>
                        <a:pt x="3894" y="146"/>
                      </a:lnTo>
                      <a:lnTo>
                        <a:pt x="3972" y="169"/>
                      </a:lnTo>
                      <a:lnTo>
                        <a:pt x="3979" y="132"/>
                      </a:lnTo>
                      <a:lnTo>
                        <a:pt x="3965" y="167"/>
                      </a:lnTo>
                      <a:lnTo>
                        <a:pt x="4043" y="192"/>
                      </a:lnTo>
                      <a:lnTo>
                        <a:pt x="4123" y="220"/>
                      </a:lnTo>
                      <a:lnTo>
                        <a:pt x="4147" y="148"/>
                      </a:lnTo>
                      <a:lnTo>
                        <a:pt x="4072" y="123"/>
                      </a:lnTo>
                      <a:lnTo>
                        <a:pt x="3994" y="98"/>
                      </a:lnTo>
                      <a:lnTo>
                        <a:pt x="3987" y="95"/>
                      </a:lnTo>
                      <a:lnTo>
                        <a:pt x="3910" y="71"/>
                      </a:lnTo>
                      <a:lnTo>
                        <a:pt x="3834" y="50"/>
                      </a:lnTo>
                      <a:lnTo>
                        <a:pt x="3759" y="31"/>
                      </a:lnTo>
                      <a:lnTo>
                        <a:pt x="3722" y="23"/>
                      </a:lnTo>
                      <a:lnTo>
                        <a:pt x="3686" y="16"/>
                      </a:lnTo>
                      <a:lnTo>
                        <a:pt x="3650" y="10"/>
                      </a:lnTo>
                      <a:lnTo>
                        <a:pt x="3615" y="6"/>
                      </a:lnTo>
                      <a:lnTo>
                        <a:pt x="3581" y="2"/>
                      </a:lnTo>
                      <a:lnTo>
                        <a:pt x="3574" y="2"/>
                      </a:lnTo>
                      <a:lnTo>
                        <a:pt x="3542" y="0"/>
                      </a:lnTo>
                      <a:lnTo>
                        <a:pt x="3506" y="0"/>
                      </a:lnTo>
                      <a:lnTo>
                        <a:pt x="3474" y="2"/>
                      </a:lnTo>
                      <a:lnTo>
                        <a:pt x="3467" y="2"/>
                      </a:lnTo>
                      <a:lnTo>
                        <a:pt x="3435" y="7"/>
                      </a:lnTo>
                      <a:lnTo>
                        <a:pt x="3404" y="13"/>
                      </a:lnTo>
                      <a:lnTo>
                        <a:pt x="3373" y="21"/>
                      </a:lnTo>
                      <a:lnTo>
                        <a:pt x="3344" y="29"/>
                      </a:lnTo>
                      <a:lnTo>
                        <a:pt x="3337" y="32"/>
                      </a:lnTo>
                      <a:lnTo>
                        <a:pt x="3277" y="51"/>
                      </a:lnTo>
                      <a:lnTo>
                        <a:pt x="3220" y="70"/>
                      </a:lnTo>
                      <a:lnTo>
                        <a:pt x="3192" y="79"/>
                      </a:lnTo>
                      <a:lnTo>
                        <a:pt x="3207" y="115"/>
                      </a:lnTo>
                      <a:lnTo>
                        <a:pt x="3199" y="77"/>
                      </a:lnTo>
                      <a:lnTo>
                        <a:pt x="3171" y="86"/>
                      </a:lnTo>
                      <a:lnTo>
                        <a:pt x="3142" y="93"/>
                      </a:lnTo>
                      <a:lnTo>
                        <a:pt x="3115" y="98"/>
                      </a:lnTo>
                      <a:lnTo>
                        <a:pt x="3087" y="102"/>
                      </a:lnTo>
                      <a:lnTo>
                        <a:pt x="3094" y="139"/>
                      </a:lnTo>
                      <a:lnTo>
                        <a:pt x="3094" y="101"/>
                      </a:lnTo>
                      <a:lnTo>
                        <a:pt x="3066" y="103"/>
                      </a:lnTo>
                      <a:lnTo>
                        <a:pt x="3038" y="102"/>
                      </a:lnTo>
                      <a:lnTo>
                        <a:pt x="3038" y="139"/>
                      </a:lnTo>
                      <a:lnTo>
                        <a:pt x="3046" y="102"/>
                      </a:lnTo>
                      <a:lnTo>
                        <a:pt x="3017" y="99"/>
                      </a:lnTo>
                      <a:lnTo>
                        <a:pt x="2990" y="94"/>
                      </a:lnTo>
                      <a:lnTo>
                        <a:pt x="2963" y="88"/>
                      </a:lnTo>
                      <a:lnTo>
                        <a:pt x="2937" y="80"/>
                      </a:lnTo>
                      <a:lnTo>
                        <a:pt x="2929" y="118"/>
                      </a:lnTo>
                      <a:lnTo>
                        <a:pt x="2944" y="82"/>
                      </a:lnTo>
                      <a:lnTo>
                        <a:pt x="2917" y="74"/>
                      </a:lnTo>
                      <a:lnTo>
                        <a:pt x="2864" y="56"/>
                      </a:lnTo>
                      <a:lnTo>
                        <a:pt x="2811" y="38"/>
                      </a:lnTo>
                      <a:lnTo>
                        <a:pt x="2785" y="29"/>
                      </a:lnTo>
                      <a:lnTo>
                        <a:pt x="2777" y="27"/>
                      </a:lnTo>
                      <a:lnTo>
                        <a:pt x="2751" y="19"/>
                      </a:lnTo>
                      <a:lnTo>
                        <a:pt x="2724" y="13"/>
                      </a:lnTo>
                      <a:lnTo>
                        <a:pt x="2697" y="9"/>
                      </a:lnTo>
                      <a:lnTo>
                        <a:pt x="2670" y="6"/>
                      </a:lnTo>
                      <a:lnTo>
                        <a:pt x="2663" y="5"/>
                      </a:lnTo>
                      <a:lnTo>
                        <a:pt x="2634" y="5"/>
                      </a:lnTo>
                      <a:lnTo>
                        <a:pt x="2634" y="42"/>
                      </a:lnTo>
                      <a:lnTo>
                        <a:pt x="2634" y="5"/>
                      </a:lnTo>
                      <a:lnTo>
                        <a:pt x="2606" y="6"/>
                      </a:lnTo>
                      <a:lnTo>
                        <a:pt x="2599" y="6"/>
                      </a:lnTo>
                      <a:lnTo>
                        <a:pt x="2570" y="10"/>
                      </a:lnTo>
                      <a:lnTo>
                        <a:pt x="2542" y="15"/>
                      </a:lnTo>
                      <a:lnTo>
                        <a:pt x="2513" y="22"/>
                      </a:lnTo>
                      <a:lnTo>
                        <a:pt x="2484" y="30"/>
                      </a:lnTo>
                      <a:lnTo>
                        <a:pt x="2477" y="33"/>
                      </a:lnTo>
                      <a:lnTo>
                        <a:pt x="2449" y="42"/>
                      </a:lnTo>
                      <a:lnTo>
                        <a:pt x="2390" y="61"/>
                      </a:lnTo>
                      <a:lnTo>
                        <a:pt x="2332" y="81"/>
                      </a:lnTo>
                      <a:lnTo>
                        <a:pt x="2346" y="116"/>
                      </a:lnTo>
                      <a:lnTo>
                        <a:pt x="2339" y="78"/>
                      </a:lnTo>
                      <a:lnTo>
                        <a:pt x="2309" y="88"/>
                      </a:lnTo>
                      <a:lnTo>
                        <a:pt x="2280" y="96"/>
                      </a:lnTo>
                      <a:lnTo>
                        <a:pt x="2249" y="103"/>
                      </a:lnTo>
                      <a:lnTo>
                        <a:pt x="2220" y="108"/>
                      </a:lnTo>
                      <a:lnTo>
                        <a:pt x="2190" y="111"/>
                      </a:lnTo>
                      <a:lnTo>
                        <a:pt x="2197" y="148"/>
                      </a:lnTo>
                      <a:lnTo>
                        <a:pt x="2197" y="111"/>
                      </a:lnTo>
                      <a:lnTo>
                        <a:pt x="2167" y="112"/>
                      </a:lnTo>
                      <a:lnTo>
                        <a:pt x="2136" y="110"/>
                      </a:lnTo>
                      <a:lnTo>
                        <a:pt x="2136" y="148"/>
                      </a:lnTo>
                      <a:lnTo>
                        <a:pt x="2143" y="111"/>
                      </a:lnTo>
                      <a:lnTo>
                        <a:pt x="2112" y="107"/>
                      </a:lnTo>
                      <a:lnTo>
                        <a:pt x="2081" y="101"/>
                      </a:lnTo>
                      <a:lnTo>
                        <a:pt x="2050" y="94"/>
                      </a:lnTo>
                      <a:lnTo>
                        <a:pt x="2018" y="85"/>
                      </a:lnTo>
                      <a:lnTo>
                        <a:pt x="1986" y="75"/>
                      </a:lnTo>
                      <a:lnTo>
                        <a:pt x="1979" y="113"/>
                      </a:lnTo>
                      <a:lnTo>
                        <a:pt x="1993" y="77"/>
                      </a:lnTo>
                      <a:lnTo>
                        <a:pt x="1930" y="57"/>
                      </a:lnTo>
                      <a:lnTo>
                        <a:pt x="1865" y="37"/>
                      </a:lnTo>
                      <a:lnTo>
                        <a:pt x="1858" y="34"/>
                      </a:lnTo>
                      <a:lnTo>
                        <a:pt x="1826" y="25"/>
                      </a:lnTo>
                      <a:lnTo>
                        <a:pt x="1794" y="16"/>
                      </a:lnTo>
                      <a:lnTo>
                        <a:pt x="1760" y="9"/>
                      </a:lnTo>
                      <a:lnTo>
                        <a:pt x="1728" y="4"/>
                      </a:lnTo>
                      <a:lnTo>
                        <a:pt x="1696" y="1"/>
                      </a:lnTo>
                      <a:lnTo>
                        <a:pt x="1688" y="0"/>
                      </a:lnTo>
                      <a:lnTo>
                        <a:pt x="1656" y="0"/>
                      </a:lnTo>
                      <a:lnTo>
                        <a:pt x="1623" y="1"/>
                      </a:lnTo>
                      <a:lnTo>
                        <a:pt x="1615" y="2"/>
                      </a:lnTo>
                      <a:lnTo>
                        <a:pt x="1583" y="6"/>
                      </a:lnTo>
                      <a:lnTo>
                        <a:pt x="1551" y="12"/>
                      </a:lnTo>
                      <a:lnTo>
                        <a:pt x="1518" y="20"/>
                      </a:lnTo>
                      <a:lnTo>
                        <a:pt x="1486" y="29"/>
                      </a:lnTo>
                      <a:lnTo>
                        <a:pt x="1479" y="32"/>
                      </a:lnTo>
                      <a:lnTo>
                        <a:pt x="1447" y="42"/>
                      </a:lnTo>
                      <a:lnTo>
                        <a:pt x="1382" y="65"/>
                      </a:lnTo>
                      <a:lnTo>
                        <a:pt x="1317" y="88"/>
                      </a:lnTo>
                      <a:lnTo>
                        <a:pt x="1284" y="99"/>
                      </a:lnTo>
                      <a:lnTo>
                        <a:pt x="1298" y="133"/>
                      </a:lnTo>
                      <a:lnTo>
                        <a:pt x="1291" y="96"/>
                      </a:lnTo>
                      <a:lnTo>
                        <a:pt x="1257" y="106"/>
                      </a:lnTo>
                      <a:lnTo>
                        <a:pt x="1223" y="113"/>
                      </a:lnTo>
                      <a:lnTo>
                        <a:pt x="1189" y="119"/>
                      </a:lnTo>
                      <a:lnTo>
                        <a:pt x="1155" y="123"/>
                      </a:lnTo>
                      <a:lnTo>
                        <a:pt x="1163" y="160"/>
                      </a:lnTo>
                      <a:lnTo>
                        <a:pt x="1163" y="123"/>
                      </a:lnTo>
                      <a:lnTo>
                        <a:pt x="1127" y="125"/>
                      </a:lnTo>
                      <a:lnTo>
                        <a:pt x="1092" y="123"/>
                      </a:lnTo>
                      <a:lnTo>
                        <a:pt x="1092" y="161"/>
                      </a:lnTo>
                      <a:lnTo>
                        <a:pt x="1099" y="124"/>
                      </a:lnTo>
                      <a:lnTo>
                        <a:pt x="1063" y="120"/>
                      </a:lnTo>
                      <a:lnTo>
                        <a:pt x="1027" y="114"/>
                      </a:lnTo>
                      <a:lnTo>
                        <a:pt x="989" y="106"/>
                      </a:lnTo>
                      <a:lnTo>
                        <a:pt x="951" y="97"/>
                      </a:lnTo>
                      <a:lnTo>
                        <a:pt x="913" y="86"/>
                      </a:lnTo>
                      <a:lnTo>
                        <a:pt x="836" y="63"/>
                      </a:lnTo>
                      <a:lnTo>
                        <a:pt x="759" y="41"/>
                      </a:lnTo>
                      <a:lnTo>
                        <a:pt x="722" y="31"/>
                      </a:lnTo>
                      <a:lnTo>
                        <a:pt x="684" y="22"/>
                      </a:lnTo>
                      <a:lnTo>
                        <a:pt x="647" y="15"/>
                      </a:lnTo>
                      <a:lnTo>
                        <a:pt x="610" y="9"/>
                      </a:lnTo>
                      <a:lnTo>
                        <a:pt x="603" y="8"/>
                      </a:lnTo>
                      <a:lnTo>
                        <a:pt x="567" y="5"/>
                      </a:lnTo>
                      <a:lnTo>
                        <a:pt x="531" y="5"/>
                      </a:lnTo>
                      <a:lnTo>
                        <a:pt x="532" y="42"/>
                      </a:lnTo>
                      <a:lnTo>
                        <a:pt x="532" y="5"/>
                      </a:lnTo>
                      <a:lnTo>
                        <a:pt x="497" y="6"/>
                      </a:lnTo>
                      <a:lnTo>
                        <a:pt x="463" y="9"/>
                      </a:lnTo>
                      <a:lnTo>
                        <a:pt x="455" y="9"/>
                      </a:lnTo>
                      <a:lnTo>
                        <a:pt x="422" y="13"/>
                      </a:lnTo>
                      <a:lnTo>
                        <a:pt x="388" y="18"/>
                      </a:lnTo>
                      <a:lnTo>
                        <a:pt x="355" y="25"/>
                      </a:lnTo>
                      <a:lnTo>
                        <a:pt x="323" y="32"/>
                      </a:lnTo>
                      <a:lnTo>
                        <a:pt x="258" y="50"/>
                      </a:lnTo>
                      <a:lnTo>
                        <a:pt x="251" y="53"/>
                      </a:lnTo>
                      <a:lnTo>
                        <a:pt x="188" y="74"/>
                      </a:lnTo>
                      <a:lnTo>
                        <a:pt x="124" y="98"/>
                      </a:lnTo>
                      <a:lnTo>
                        <a:pt x="62" y="123"/>
                      </a:lnTo>
                      <a:lnTo>
                        <a:pt x="0" y="149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417920" y="2065320"/>
                <a:ext cx="82440" cy="1282680"/>
                <a:chOff x="4417920" y="2065320"/>
                <a:chExt cx="82440" cy="1282680"/>
              </a:xfrm>
            </p:grpSpPr>
            <p:sp>
              <p:nvSpPr>
                <p:cNvPr id="250" name=""/>
                <p:cNvSpPr/>
                <p:nvPr/>
              </p:nvSpPr>
              <p:spPr>
                <a:xfrm flipV="1">
                  <a:off x="4498560" y="2092320"/>
                  <a:ext cx="1800" cy="125568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444560" y="2092320"/>
                  <a:ext cx="36720" cy="125568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V="1">
                  <a:off x="4471560" y="2065320"/>
                  <a:ext cx="1800" cy="12556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417920" y="2065320"/>
                  <a:ext cx="36360" cy="125568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"/>
            <p:cNvGrpSpPr/>
            <p:nvPr/>
          </p:nvGrpSpPr>
          <p:grpSpPr>
            <a:xfrm>
              <a:off x="7710480" y="2386080"/>
              <a:ext cx="511920" cy="1016640"/>
              <a:chOff x="7710480" y="2386080"/>
              <a:chExt cx="511920" cy="101664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7711920" y="2720880"/>
                <a:ext cx="510480" cy="245160"/>
                <a:chOff x="7711920" y="2720880"/>
                <a:chExt cx="510480" cy="2451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738560" y="2745720"/>
                  <a:ext cx="483840" cy="220320"/>
                </a:xfrm>
                <a:custGeom>
                  <a:avLst/>
                  <a:gdLst/>
                  <a:ahLst/>
                  <a:rect l="l" t="t" r="r" b="b"/>
                  <a:pathLst>
                    <a:path w="610" h="278">
                      <a:moveTo>
                        <a:pt x="0" y="66"/>
                      </a:moveTo>
                      <a:lnTo>
                        <a:pt x="83" y="0"/>
                      </a:lnTo>
                      <a:lnTo>
                        <a:pt x="527" y="0"/>
                      </a:lnTo>
                      <a:lnTo>
                        <a:pt x="610" y="66"/>
                      </a:lnTo>
                      <a:lnTo>
                        <a:pt x="610" y="278"/>
                      </a:lnTo>
                      <a:lnTo>
                        <a:pt x="0" y="278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738560" y="2799720"/>
                  <a:ext cx="483840" cy="91800"/>
                </a:xfrm>
                <a:custGeom>
                  <a:avLst/>
                  <a:gdLst/>
                  <a:ahLst/>
                  <a:rect l="l" t="t" r="r" b="b"/>
                  <a:pathLst>
                    <a:path w="610" h="116">
                      <a:moveTo>
                        <a:pt x="0" y="0"/>
                      </a:moveTo>
                      <a:lnTo>
                        <a:pt x="610" y="0"/>
                      </a:lnTo>
                      <a:lnTo>
                        <a:pt x="0" y="0"/>
                      </a:lnTo>
                      <a:close/>
                      <a:moveTo>
                        <a:pt x="56" y="85"/>
                      </a:moveTo>
                      <a:lnTo>
                        <a:pt x="56" y="116"/>
                      </a:lnTo>
                      <a:lnTo>
                        <a:pt x="79" y="116"/>
                      </a:lnTo>
                      <a:lnTo>
                        <a:pt x="79" y="85"/>
                      </a:lnTo>
                      <a:lnTo>
                        <a:pt x="56" y="8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821000" y="2866680"/>
                  <a:ext cx="18720" cy="248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859160" y="2866680"/>
                  <a:ext cx="18720" cy="248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98760" y="2866680"/>
                  <a:ext cx="17280" cy="248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711920" y="2720880"/>
                  <a:ext cx="483840" cy="218520"/>
                </a:xfrm>
                <a:custGeom>
                  <a:avLst/>
                  <a:gdLst/>
                  <a:ahLst/>
                  <a:rect l="l" t="t" r="r" b="b"/>
                  <a:pathLst>
                    <a:path w="610" h="278">
                      <a:moveTo>
                        <a:pt x="0" y="66"/>
                      </a:moveTo>
                      <a:lnTo>
                        <a:pt x="84" y="0"/>
                      </a:lnTo>
                      <a:lnTo>
                        <a:pt x="526" y="0"/>
                      </a:lnTo>
                      <a:lnTo>
                        <a:pt x="610" y="66"/>
                      </a:lnTo>
                      <a:lnTo>
                        <a:pt x="610" y="278"/>
                      </a:lnTo>
                      <a:lnTo>
                        <a:pt x="0" y="278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711920" y="2772720"/>
                  <a:ext cx="483840" cy="91800"/>
                </a:xfrm>
                <a:custGeom>
                  <a:avLst/>
                  <a:gdLst/>
                  <a:ahLst/>
                  <a:rect l="l" t="t" r="r" b="b"/>
                  <a:pathLst>
                    <a:path w="610" h="116">
                      <a:moveTo>
                        <a:pt x="0" y="0"/>
                      </a:moveTo>
                      <a:lnTo>
                        <a:pt x="610" y="0"/>
                      </a:lnTo>
                      <a:lnTo>
                        <a:pt x="0" y="0"/>
                      </a:lnTo>
                      <a:close/>
                      <a:moveTo>
                        <a:pt x="56" y="83"/>
                      </a:moveTo>
                      <a:lnTo>
                        <a:pt x="56" y="116"/>
                      </a:lnTo>
                      <a:lnTo>
                        <a:pt x="80" y="116"/>
                      </a:lnTo>
                      <a:lnTo>
                        <a:pt x="80" y="83"/>
                      </a:lnTo>
                      <a:lnTo>
                        <a:pt x="56" y="8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794000" y="2839680"/>
                  <a:ext cx="18720" cy="24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832160" y="2839680"/>
                  <a:ext cx="18720" cy="24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870320" y="2839680"/>
                  <a:ext cx="20160" cy="24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711920" y="2720880"/>
                  <a:ext cx="483840" cy="218520"/>
                </a:xfrm>
                <a:custGeom>
                  <a:avLst/>
                  <a:gdLst/>
                  <a:ahLst/>
                  <a:rect l="l" t="t" r="r" b="b"/>
                  <a:pathLst>
                    <a:path w="610" h="278">
                      <a:moveTo>
                        <a:pt x="0" y="66"/>
                      </a:moveTo>
                      <a:lnTo>
                        <a:pt x="84" y="0"/>
                      </a:lnTo>
                      <a:lnTo>
                        <a:pt x="526" y="0"/>
                      </a:lnTo>
                      <a:lnTo>
                        <a:pt x="610" y="66"/>
                      </a:lnTo>
                      <a:lnTo>
                        <a:pt x="610" y="278"/>
                      </a:lnTo>
                      <a:lnTo>
                        <a:pt x="0" y="278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711920" y="2772720"/>
                  <a:ext cx="4838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754400" y="2839680"/>
                  <a:ext cx="18720" cy="24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794000" y="2839680"/>
                  <a:ext cx="18720" cy="24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832160" y="2839680"/>
                  <a:ext cx="18720" cy="24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870320" y="2839680"/>
                  <a:ext cx="20160" cy="24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7711920" y="2554200"/>
                <a:ext cx="510480" cy="245160"/>
                <a:chOff x="7711920" y="2554200"/>
                <a:chExt cx="510480" cy="2451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7736760" y="2579040"/>
                  <a:ext cx="485640" cy="220320"/>
                </a:xfrm>
                <a:custGeom>
                  <a:avLst/>
                  <a:gdLst/>
                  <a:ahLst/>
                  <a:rect l="l" t="t" r="r" b="b"/>
                  <a:pathLst>
                    <a:path w="611" h="277">
                      <a:moveTo>
                        <a:pt x="0" y="66"/>
                      </a:moveTo>
                      <a:lnTo>
                        <a:pt x="83" y="0"/>
                      </a:lnTo>
                      <a:lnTo>
                        <a:pt x="527" y="0"/>
                      </a:lnTo>
                      <a:lnTo>
                        <a:pt x="611" y="66"/>
                      </a:lnTo>
                      <a:lnTo>
                        <a:pt x="611" y="277"/>
                      </a:lnTo>
                      <a:lnTo>
                        <a:pt x="0" y="277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736760" y="2633040"/>
                  <a:ext cx="485640" cy="91800"/>
                </a:xfrm>
                <a:custGeom>
                  <a:avLst/>
                  <a:gdLst/>
                  <a:ahLst/>
                  <a:rect l="l" t="t" r="r" b="b"/>
                  <a:pathLst>
                    <a:path w="611" h="116">
                      <a:moveTo>
                        <a:pt x="0" y="0"/>
                      </a:moveTo>
                      <a:lnTo>
                        <a:pt x="611" y="0"/>
                      </a:lnTo>
                      <a:lnTo>
                        <a:pt x="0" y="0"/>
                      </a:lnTo>
                      <a:close/>
                      <a:moveTo>
                        <a:pt x="56" y="85"/>
                      </a:moveTo>
                      <a:lnTo>
                        <a:pt x="56" y="116"/>
                      </a:lnTo>
                      <a:lnTo>
                        <a:pt x="80" y="116"/>
                      </a:lnTo>
                      <a:lnTo>
                        <a:pt x="80" y="85"/>
                      </a:lnTo>
                      <a:lnTo>
                        <a:pt x="56" y="8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819560" y="2701440"/>
                  <a:ext cx="18360" cy="234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859160" y="2701440"/>
                  <a:ext cx="16920" cy="234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897320" y="2701440"/>
                  <a:ext cx="18720" cy="234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711920" y="2554200"/>
                  <a:ext cx="483840" cy="218520"/>
                </a:xfrm>
                <a:custGeom>
                  <a:avLst/>
                  <a:gdLst/>
                  <a:ahLst/>
                  <a:rect l="l" t="t" r="r" b="b"/>
                  <a:pathLst>
                    <a:path w="610" h="277">
                      <a:moveTo>
                        <a:pt x="0" y="66"/>
                      </a:moveTo>
                      <a:lnTo>
                        <a:pt x="83" y="0"/>
                      </a:lnTo>
                      <a:lnTo>
                        <a:pt x="526" y="0"/>
                      </a:lnTo>
                      <a:lnTo>
                        <a:pt x="610" y="66"/>
                      </a:lnTo>
                      <a:lnTo>
                        <a:pt x="610" y="277"/>
                      </a:lnTo>
                      <a:lnTo>
                        <a:pt x="0" y="277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711920" y="2607840"/>
                  <a:ext cx="483840" cy="91800"/>
                </a:xfrm>
                <a:custGeom>
                  <a:avLst/>
                  <a:gdLst/>
                  <a:ahLst/>
                  <a:rect l="l" t="t" r="r" b="b"/>
                  <a:pathLst>
                    <a:path w="610" h="116">
                      <a:moveTo>
                        <a:pt x="0" y="0"/>
                      </a:moveTo>
                      <a:lnTo>
                        <a:pt x="610" y="0"/>
                      </a:lnTo>
                      <a:lnTo>
                        <a:pt x="0" y="0"/>
                      </a:lnTo>
                      <a:close/>
                      <a:moveTo>
                        <a:pt x="56" y="84"/>
                      </a:moveTo>
                      <a:lnTo>
                        <a:pt x="56" y="116"/>
                      </a:lnTo>
                      <a:lnTo>
                        <a:pt x="79" y="116"/>
                      </a:lnTo>
                      <a:lnTo>
                        <a:pt x="79" y="84"/>
                      </a:lnTo>
                      <a:lnTo>
                        <a:pt x="56" y="8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794000" y="2673000"/>
                  <a:ext cx="18720" cy="26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832160" y="2673000"/>
                  <a:ext cx="18720" cy="26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70320" y="2673000"/>
                  <a:ext cx="18720" cy="26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711920" y="2554200"/>
                  <a:ext cx="483840" cy="218520"/>
                </a:xfrm>
                <a:custGeom>
                  <a:avLst/>
                  <a:gdLst/>
                  <a:ahLst/>
                  <a:rect l="l" t="t" r="r" b="b"/>
                  <a:pathLst>
                    <a:path w="610" h="277">
                      <a:moveTo>
                        <a:pt x="0" y="66"/>
                      </a:moveTo>
                      <a:lnTo>
                        <a:pt x="83" y="0"/>
                      </a:lnTo>
                      <a:lnTo>
                        <a:pt x="526" y="0"/>
                      </a:lnTo>
                      <a:lnTo>
                        <a:pt x="610" y="66"/>
                      </a:lnTo>
                      <a:lnTo>
                        <a:pt x="610" y="277"/>
                      </a:lnTo>
                      <a:lnTo>
                        <a:pt x="0" y="277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11920" y="2607840"/>
                  <a:ext cx="48384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754400" y="2673000"/>
                  <a:ext cx="18720" cy="26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794000" y="2673000"/>
                  <a:ext cx="18720" cy="26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832160" y="2673000"/>
                  <a:ext cx="18720" cy="26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870320" y="2673000"/>
                  <a:ext cx="18720" cy="26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7711920" y="2386080"/>
                <a:ext cx="510480" cy="246960"/>
                <a:chOff x="7711920" y="2386080"/>
                <a:chExt cx="510480" cy="2469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7738560" y="2412720"/>
                  <a:ext cx="483840" cy="220320"/>
                </a:xfrm>
                <a:custGeom>
                  <a:avLst/>
                  <a:gdLst/>
                  <a:ahLst/>
                  <a:rect l="l" t="t" r="r" b="b"/>
                  <a:pathLst>
                    <a:path w="610" h="278">
                      <a:moveTo>
                        <a:pt x="0" y="67"/>
                      </a:moveTo>
                      <a:lnTo>
                        <a:pt x="83" y="0"/>
                      </a:lnTo>
                      <a:lnTo>
                        <a:pt x="527" y="0"/>
                      </a:lnTo>
                      <a:lnTo>
                        <a:pt x="610" y="67"/>
                      </a:lnTo>
                      <a:lnTo>
                        <a:pt x="610" y="278"/>
                      </a:lnTo>
                      <a:lnTo>
                        <a:pt x="0" y="278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738560" y="2466720"/>
                  <a:ext cx="483840" cy="91800"/>
                </a:xfrm>
                <a:custGeom>
                  <a:avLst/>
                  <a:gdLst/>
                  <a:ahLst/>
                  <a:rect l="l" t="t" r="r" b="b"/>
                  <a:pathLst>
                    <a:path w="610" h="117">
                      <a:moveTo>
                        <a:pt x="0" y="0"/>
                      </a:moveTo>
                      <a:lnTo>
                        <a:pt x="610" y="0"/>
                      </a:lnTo>
                      <a:lnTo>
                        <a:pt x="0" y="0"/>
                      </a:lnTo>
                      <a:close/>
                      <a:moveTo>
                        <a:pt x="56" y="84"/>
                      </a:moveTo>
                      <a:lnTo>
                        <a:pt x="56" y="117"/>
                      </a:lnTo>
                      <a:lnTo>
                        <a:pt x="79" y="117"/>
                      </a:lnTo>
                      <a:lnTo>
                        <a:pt x="79" y="84"/>
                      </a:lnTo>
                      <a:lnTo>
                        <a:pt x="56" y="8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821000" y="2533680"/>
                  <a:ext cx="18720" cy="248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859160" y="2533680"/>
                  <a:ext cx="18720" cy="248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898760" y="2533680"/>
                  <a:ext cx="17280" cy="248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711920" y="2386080"/>
                  <a:ext cx="483840" cy="222120"/>
                </a:xfrm>
                <a:custGeom>
                  <a:avLst/>
                  <a:gdLst/>
                  <a:ahLst/>
                  <a:rect l="l" t="t" r="r" b="b"/>
                  <a:pathLst>
                    <a:path w="610" h="278">
                      <a:moveTo>
                        <a:pt x="0" y="66"/>
                      </a:moveTo>
                      <a:lnTo>
                        <a:pt x="84" y="0"/>
                      </a:lnTo>
                      <a:lnTo>
                        <a:pt x="526" y="0"/>
                      </a:lnTo>
                      <a:lnTo>
                        <a:pt x="610" y="66"/>
                      </a:lnTo>
                      <a:lnTo>
                        <a:pt x="610" y="278"/>
                      </a:lnTo>
                      <a:lnTo>
                        <a:pt x="0" y="278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711920" y="2439720"/>
                  <a:ext cx="483840" cy="91800"/>
                </a:xfrm>
                <a:custGeom>
                  <a:avLst/>
                  <a:gdLst/>
                  <a:ahLst/>
                  <a:rect l="l" t="t" r="r" b="b"/>
                  <a:pathLst>
                    <a:path w="610" h="116">
                      <a:moveTo>
                        <a:pt x="0" y="0"/>
                      </a:moveTo>
                      <a:lnTo>
                        <a:pt x="610" y="0"/>
                      </a:lnTo>
                      <a:lnTo>
                        <a:pt x="0" y="0"/>
                      </a:lnTo>
                      <a:close/>
                      <a:moveTo>
                        <a:pt x="56" y="85"/>
                      </a:moveTo>
                      <a:lnTo>
                        <a:pt x="56" y="116"/>
                      </a:lnTo>
                      <a:lnTo>
                        <a:pt x="80" y="116"/>
                      </a:lnTo>
                      <a:lnTo>
                        <a:pt x="80" y="85"/>
                      </a:lnTo>
                      <a:lnTo>
                        <a:pt x="56" y="8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794000" y="2508120"/>
                  <a:ext cx="18720" cy="23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832160" y="2508120"/>
                  <a:ext cx="18720" cy="23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870320" y="2508120"/>
                  <a:ext cx="20160" cy="23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711920" y="2386080"/>
                  <a:ext cx="483840" cy="222120"/>
                </a:xfrm>
                <a:custGeom>
                  <a:avLst/>
                  <a:gdLst/>
                  <a:ahLst/>
                  <a:rect l="l" t="t" r="r" b="b"/>
                  <a:pathLst>
                    <a:path w="610" h="278">
                      <a:moveTo>
                        <a:pt x="0" y="66"/>
                      </a:moveTo>
                      <a:lnTo>
                        <a:pt x="84" y="0"/>
                      </a:lnTo>
                      <a:lnTo>
                        <a:pt x="526" y="0"/>
                      </a:lnTo>
                      <a:lnTo>
                        <a:pt x="610" y="66"/>
                      </a:lnTo>
                      <a:lnTo>
                        <a:pt x="610" y="278"/>
                      </a:lnTo>
                      <a:lnTo>
                        <a:pt x="0" y="278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711920" y="2439720"/>
                  <a:ext cx="4838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754400" y="2508120"/>
                  <a:ext cx="18720" cy="23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794000" y="2508120"/>
                  <a:ext cx="18720" cy="23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832160" y="2508120"/>
                  <a:ext cx="18720" cy="23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870320" y="2508120"/>
                  <a:ext cx="20160" cy="23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7710480" y="2939760"/>
                <a:ext cx="509040" cy="462960"/>
                <a:chOff x="7710480" y="2939760"/>
                <a:chExt cx="509040" cy="4629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7735680" y="2966400"/>
                  <a:ext cx="483840" cy="436320"/>
                </a:xfrm>
                <a:custGeom>
                  <a:avLst/>
                  <a:gdLst/>
                  <a:ahLst/>
                  <a:rect l="l" t="t" r="r" b="b"/>
                  <a:pathLst>
                    <a:path w="610" h="549">
                      <a:moveTo>
                        <a:pt x="610" y="276"/>
                      </a:moveTo>
                      <a:lnTo>
                        <a:pt x="610" y="0"/>
                      </a:lnTo>
                      <a:lnTo>
                        <a:pt x="301" y="0"/>
                      </a:lnTo>
                      <a:lnTo>
                        <a:pt x="0" y="0"/>
                      </a:lnTo>
                      <a:lnTo>
                        <a:pt x="0" y="276"/>
                      </a:lnTo>
                      <a:lnTo>
                        <a:pt x="0" y="502"/>
                      </a:lnTo>
                      <a:lnTo>
                        <a:pt x="34" y="502"/>
                      </a:lnTo>
                      <a:lnTo>
                        <a:pt x="34" y="549"/>
                      </a:lnTo>
                      <a:lnTo>
                        <a:pt x="306" y="549"/>
                      </a:lnTo>
                      <a:lnTo>
                        <a:pt x="582" y="549"/>
                      </a:lnTo>
                      <a:lnTo>
                        <a:pt x="582" y="502"/>
                      </a:lnTo>
                      <a:lnTo>
                        <a:pt x="610" y="502"/>
                      </a:lnTo>
                      <a:lnTo>
                        <a:pt x="610" y="27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762680" y="2998440"/>
                  <a:ext cx="434520" cy="404280"/>
                </a:xfrm>
                <a:custGeom>
                  <a:avLst/>
                  <a:gdLst/>
                  <a:ahLst/>
                  <a:rect l="l" t="t" r="r" b="b"/>
                  <a:pathLst>
                    <a:path w="548" h="511">
                      <a:moveTo>
                        <a:pt x="0" y="464"/>
                      </a:moveTo>
                      <a:lnTo>
                        <a:pt x="88" y="464"/>
                      </a:lnTo>
                      <a:lnTo>
                        <a:pt x="431" y="464"/>
                      </a:lnTo>
                      <a:lnTo>
                        <a:pt x="548" y="464"/>
                      </a:lnTo>
                      <a:lnTo>
                        <a:pt x="0" y="464"/>
                      </a:lnTo>
                      <a:close/>
                      <a:moveTo>
                        <a:pt x="9" y="22"/>
                      </a:moveTo>
                      <a:lnTo>
                        <a:pt x="28" y="22"/>
                      </a:lnTo>
                      <a:lnTo>
                        <a:pt x="108" y="22"/>
                      </a:lnTo>
                      <a:lnTo>
                        <a:pt x="136" y="22"/>
                      </a:lnTo>
                      <a:lnTo>
                        <a:pt x="9" y="22"/>
                      </a:lnTo>
                      <a:lnTo>
                        <a:pt x="9" y="49"/>
                      </a:lnTo>
                      <a:lnTo>
                        <a:pt x="28" y="49"/>
                      </a:lnTo>
                      <a:lnTo>
                        <a:pt x="108" y="49"/>
                      </a:lnTo>
                      <a:lnTo>
                        <a:pt x="136" y="49"/>
                      </a:lnTo>
                      <a:lnTo>
                        <a:pt x="9" y="49"/>
                      </a:lnTo>
                      <a:lnTo>
                        <a:pt x="9" y="74"/>
                      </a:lnTo>
                      <a:lnTo>
                        <a:pt x="28" y="74"/>
                      </a:lnTo>
                      <a:lnTo>
                        <a:pt x="108" y="74"/>
                      </a:lnTo>
                      <a:lnTo>
                        <a:pt x="136" y="74"/>
                      </a:lnTo>
                      <a:lnTo>
                        <a:pt x="9" y="74"/>
                      </a:lnTo>
                      <a:lnTo>
                        <a:pt x="9" y="100"/>
                      </a:lnTo>
                      <a:lnTo>
                        <a:pt x="28" y="100"/>
                      </a:lnTo>
                      <a:lnTo>
                        <a:pt x="108" y="100"/>
                      </a:lnTo>
                      <a:lnTo>
                        <a:pt x="136" y="100"/>
                      </a:lnTo>
                      <a:lnTo>
                        <a:pt x="9" y="100"/>
                      </a:lnTo>
                      <a:lnTo>
                        <a:pt x="9" y="126"/>
                      </a:lnTo>
                      <a:lnTo>
                        <a:pt x="28" y="126"/>
                      </a:lnTo>
                      <a:lnTo>
                        <a:pt x="108" y="126"/>
                      </a:lnTo>
                      <a:lnTo>
                        <a:pt x="136" y="126"/>
                      </a:lnTo>
                      <a:lnTo>
                        <a:pt x="9" y="126"/>
                      </a:lnTo>
                      <a:lnTo>
                        <a:pt x="9" y="152"/>
                      </a:lnTo>
                      <a:lnTo>
                        <a:pt x="28" y="152"/>
                      </a:lnTo>
                      <a:lnTo>
                        <a:pt x="108" y="152"/>
                      </a:lnTo>
                      <a:lnTo>
                        <a:pt x="136" y="152"/>
                      </a:lnTo>
                      <a:lnTo>
                        <a:pt x="9" y="152"/>
                      </a:lnTo>
                      <a:lnTo>
                        <a:pt x="9" y="178"/>
                      </a:lnTo>
                      <a:lnTo>
                        <a:pt x="28" y="178"/>
                      </a:lnTo>
                      <a:lnTo>
                        <a:pt x="108" y="178"/>
                      </a:lnTo>
                      <a:lnTo>
                        <a:pt x="136" y="178"/>
                      </a:lnTo>
                      <a:lnTo>
                        <a:pt x="9" y="178"/>
                      </a:lnTo>
                      <a:lnTo>
                        <a:pt x="9" y="204"/>
                      </a:lnTo>
                      <a:lnTo>
                        <a:pt x="28" y="204"/>
                      </a:lnTo>
                      <a:lnTo>
                        <a:pt x="108" y="204"/>
                      </a:lnTo>
                      <a:lnTo>
                        <a:pt x="136" y="204"/>
                      </a:lnTo>
                      <a:lnTo>
                        <a:pt x="9" y="204"/>
                      </a:lnTo>
                      <a:lnTo>
                        <a:pt x="9" y="230"/>
                      </a:lnTo>
                      <a:lnTo>
                        <a:pt x="28" y="230"/>
                      </a:lnTo>
                      <a:lnTo>
                        <a:pt x="108" y="230"/>
                      </a:lnTo>
                      <a:lnTo>
                        <a:pt x="136" y="230"/>
                      </a:lnTo>
                      <a:lnTo>
                        <a:pt x="9" y="230"/>
                      </a:lnTo>
                      <a:lnTo>
                        <a:pt x="9" y="256"/>
                      </a:lnTo>
                      <a:lnTo>
                        <a:pt x="28" y="256"/>
                      </a:lnTo>
                      <a:lnTo>
                        <a:pt x="108" y="256"/>
                      </a:lnTo>
                      <a:lnTo>
                        <a:pt x="136" y="256"/>
                      </a:lnTo>
                      <a:lnTo>
                        <a:pt x="9" y="256"/>
                      </a:lnTo>
                      <a:lnTo>
                        <a:pt x="9" y="281"/>
                      </a:lnTo>
                      <a:lnTo>
                        <a:pt x="28" y="281"/>
                      </a:lnTo>
                      <a:lnTo>
                        <a:pt x="108" y="281"/>
                      </a:lnTo>
                      <a:lnTo>
                        <a:pt x="136" y="281"/>
                      </a:lnTo>
                      <a:lnTo>
                        <a:pt x="9" y="281"/>
                      </a:lnTo>
                      <a:lnTo>
                        <a:pt x="9" y="308"/>
                      </a:lnTo>
                      <a:lnTo>
                        <a:pt x="28" y="308"/>
                      </a:lnTo>
                      <a:lnTo>
                        <a:pt x="108" y="308"/>
                      </a:lnTo>
                      <a:lnTo>
                        <a:pt x="136" y="308"/>
                      </a:lnTo>
                      <a:lnTo>
                        <a:pt x="9" y="308"/>
                      </a:lnTo>
                      <a:lnTo>
                        <a:pt x="9" y="334"/>
                      </a:lnTo>
                      <a:lnTo>
                        <a:pt x="28" y="334"/>
                      </a:lnTo>
                      <a:lnTo>
                        <a:pt x="108" y="334"/>
                      </a:lnTo>
                      <a:lnTo>
                        <a:pt x="136" y="334"/>
                      </a:lnTo>
                      <a:lnTo>
                        <a:pt x="9" y="334"/>
                      </a:lnTo>
                      <a:lnTo>
                        <a:pt x="9" y="360"/>
                      </a:lnTo>
                      <a:lnTo>
                        <a:pt x="28" y="360"/>
                      </a:lnTo>
                      <a:lnTo>
                        <a:pt x="108" y="360"/>
                      </a:lnTo>
                      <a:lnTo>
                        <a:pt x="136" y="360"/>
                      </a:lnTo>
                      <a:lnTo>
                        <a:pt x="9" y="360"/>
                      </a:lnTo>
                      <a:lnTo>
                        <a:pt x="9" y="385"/>
                      </a:lnTo>
                      <a:lnTo>
                        <a:pt x="28" y="385"/>
                      </a:lnTo>
                      <a:lnTo>
                        <a:pt x="108" y="385"/>
                      </a:lnTo>
                      <a:lnTo>
                        <a:pt x="136" y="385"/>
                      </a:lnTo>
                      <a:lnTo>
                        <a:pt x="9" y="385"/>
                      </a:lnTo>
                      <a:lnTo>
                        <a:pt x="9" y="411"/>
                      </a:lnTo>
                      <a:lnTo>
                        <a:pt x="28" y="411"/>
                      </a:lnTo>
                      <a:lnTo>
                        <a:pt x="108" y="411"/>
                      </a:lnTo>
                      <a:lnTo>
                        <a:pt x="136" y="411"/>
                      </a:lnTo>
                      <a:lnTo>
                        <a:pt x="9" y="411"/>
                      </a:lnTo>
                      <a:lnTo>
                        <a:pt x="9" y="22"/>
                      </a:lnTo>
                      <a:close/>
                      <a:moveTo>
                        <a:pt x="23" y="464"/>
                      </a:moveTo>
                      <a:lnTo>
                        <a:pt x="23" y="472"/>
                      </a:lnTo>
                      <a:lnTo>
                        <a:pt x="23" y="502"/>
                      </a:lnTo>
                      <a:lnTo>
                        <a:pt x="23" y="511"/>
                      </a:lnTo>
                      <a:lnTo>
                        <a:pt x="23" y="464"/>
                      </a:lnTo>
                      <a:lnTo>
                        <a:pt x="42" y="464"/>
                      </a:lnTo>
                      <a:lnTo>
                        <a:pt x="42" y="472"/>
                      </a:lnTo>
                      <a:lnTo>
                        <a:pt x="42" y="502"/>
                      </a:lnTo>
                      <a:lnTo>
                        <a:pt x="42" y="511"/>
                      </a:lnTo>
                      <a:lnTo>
                        <a:pt x="42" y="464"/>
                      </a:lnTo>
                      <a:lnTo>
                        <a:pt x="65" y="464"/>
                      </a:lnTo>
                      <a:lnTo>
                        <a:pt x="65" y="472"/>
                      </a:lnTo>
                      <a:lnTo>
                        <a:pt x="65" y="502"/>
                      </a:lnTo>
                      <a:lnTo>
                        <a:pt x="65" y="511"/>
                      </a:lnTo>
                      <a:lnTo>
                        <a:pt x="65" y="464"/>
                      </a:lnTo>
                      <a:lnTo>
                        <a:pt x="88" y="464"/>
                      </a:lnTo>
                      <a:lnTo>
                        <a:pt x="88" y="472"/>
                      </a:lnTo>
                      <a:lnTo>
                        <a:pt x="88" y="502"/>
                      </a:lnTo>
                      <a:lnTo>
                        <a:pt x="88" y="511"/>
                      </a:lnTo>
                      <a:lnTo>
                        <a:pt x="88" y="464"/>
                      </a:lnTo>
                      <a:lnTo>
                        <a:pt x="113" y="464"/>
                      </a:lnTo>
                      <a:lnTo>
                        <a:pt x="113" y="472"/>
                      </a:lnTo>
                      <a:lnTo>
                        <a:pt x="113" y="502"/>
                      </a:lnTo>
                      <a:lnTo>
                        <a:pt x="113" y="511"/>
                      </a:lnTo>
                      <a:lnTo>
                        <a:pt x="113" y="464"/>
                      </a:lnTo>
                      <a:lnTo>
                        <a:pt x="136" y="464"/>
                      </a:lnTo>
                      <a:lnTo>
                        <a:pt x="136" y="472"/>
                      </a:lnTo>
                      <a:lnTo>
                        <a:pt x="136" y="502"/>
                      </a:lnTo>
                      <a:lnTo>
                        <a:pt x="136" y="511"/>
                      </a:lnTo>
                      <a:lnTo>
                        <a:pt x="136" y="464"/>
                      </a:lnTo>
                      <a:lnTo>
                        <a:pt x="159" y="464"/>
                      </a:lnTo>
                      <a:lnTo>
                        <a:pt x="159" y="472"/>
                      </a:lnTo>
                      <a:lnTo>
                        <a:pt x="159" y="502"/>
                      </a:lnTo>
                      <a:lnTo>
                        <a:pt x="159" y="511"/>
                      </a:lnTo>
                      <a:lnTo>
                        <a:pt x="159" y="464"/>
                      </a:lnTo>
                      <a:lnTo>
                        <a:pt x="182" y="464"/>
                      </a:lnTo>
                      <a:lnTo>
                        <a:pt x="182" y="472"/>
                      </a:lnTo>
                      <a:lnTo>
                        <a:pt x="182" y="502"/>
                      </a:lnTo>
                      <a:lnTo>
                        <a:pt x="182" y="511"/>
                      </a:lnTo>
                      <a:lnTo>
                        <a:pt x="182" y="464"/>
                      </a:lnTo>
                      <a:lnTo>
                        <a:pt x="206" y="464"/>
                      </a:lnTo>
                      <a:lnTo>
                        <a:pt x="206" y="472"/>
                      </a:lnTo>
                      <a:lnTo>
                        <a:pt x="206" y="502"/>
                      </a:lnTo>
                      <a:lnTo>
                        <a:pt x="206" y="511"/>
                      </a:lnTo>
                      <a:lnTo>
                        <a:pt x="206" y="464"/>
                      </a:lnTo>
                      <a:lnTo>
                        <a:pt x="230" y="464"/>
                      </a:lnTo>
                      <a:lnTo>
                        <a:pt x="230" y="472"/>
                      </a:lnTo>
                      <a:lnTo>
                        <a:pt x="230" y="502"/>
                      </a:lnTo>
                      <a:lnTo>
                        <a:pt x="230" y="511"/>
                      </a:lnTo>
                      <a:lnTo>
                        <a:pt x="230" y="464"/>
                      </a:lnTo>
                      <a:lnTo>
                        <a:pt x="253" y="464"/>
                      </a:lnTo>
                      <a:lnTo>
                        <a:pt x="253" y="472"/>
                      </a:lnTo>
                      <a:lnTo>
                        <a:pt x="253" y="502"/>
                      </a:lnTo>
                      <a:lnTo>
                        <a:pt x="253" y="511"/>
                      </a:lnTo>
                      <a:lnTo>
                        <a:pt x="253" y="464"/>
                      </a:lnTo>
                      <a:lnTo>
                        <a:pt x="276" y="464"/>
                      </a:lnTo>
                      <a:lnTo>
                        <a:pt x="276" y="472"/>
                      </a:lnTo>
                      <a:lnTo>
                        <a:pt x="276" y="502"/>
                      </a:lnTo>
                      <a:lnTo>
                        <a:pt x="276" y="511"/>
                      </a:lnTo>
                      <a:lnTo>
                        <a:pt x="276" y="464"/>
                      </a:lnTo>
                      <a:lnTo>
                        <a:pt x="300" y="464"/>
                      </a:lnTo>
                      <a:lnTo>
                        <a:pt x="300" y="472"/>
                      </a:lnTo>
                      <a:lnTo>
                        <a:pt x="300" y="502"/>
                      </a:lnTo>
                      <a:lnTo>
                        <a:pt x="300" y="511"/>
                      </a:lnTo>
                      <a:lnTo>
                        <a:pt x="300" y="464"/>
                      </a:lnTo>
                      <a:lnTo>
                        <a:pt x="318" y="464"/>
                      </a:lnTo>
                      <a:lnTo>
                        <a:pt x="318" y="472"/>
                      </a:lnTo>
                      <a:lnTo>
                        <a:pt x="318" y="502"/>
                      </a:lnTo>
                      <a:lnTo>
                        <a:pt x="318" y="511"/>
                      </a:lnTo>
                      <a:lnTo>
                        <a:pt x="318" y="464"/>
                      </a:lnTo>
                      <a:lnTo>
                        <a:pt x="342" y="464"/>
                      </a:lnTo>
                      <a:lnTo>
                        <a:pt x="342" y="472"/>
                      </a:lnTo>
                      <a:lnTo>
                        <a:pt x="342" y="502"/>
                      </a:lnTo>
                      <a:lnTo>
                        <a:pt x="342" y="511"/>
                      </a:lnTo>
                      <a:lnTo>
                        <a:pt x="342" y="464"/>
                      </a:lnTo>
                      <a:lnTo>
                        <a:pt x="366" y="464"/>
                      </a:lnTo>
                      <a:lnTo>
                        <a:pt x="366" y="472"/>
                      </a:lnTo>
                      <a:lnTo>
                        <a:pt x="366" y="502"/>
                      </a:lnTo>
                      <a:lnTo>
                        <a:pt x="366" y="511"/>
                      </a:lnTo>
                      <a:lnTo>
                        <a:pt x="366" y="464"/>
                      </a:lnTo>
                      <a:lnTo>
                        <a:pt x="389" y="464"/>
                      </a:lnTo>
                      <a:lnTo>
                        <a:pt x="389" y="472"/>
                      </a:lnTo>
                      <a:lnTo>
                        <a:pt x="389" y="502"/>
                      </a:lnTo>
                      <a:lnTo>
                        <a:pt x="389" y="511"/>
                      </a:lnTo>
                      <a:lnTo>
                        <a:pt x="389" y="464"/>
                      </a:lnTo>
                      <a:lnTo>
                        <a:pt x="412" y="464"/>
                      </a:lnTo>
                      <a:lnTo>
                        <a:pt x="412" y="472"/>
                      </a:lnTo>
                      <a:lnTo>
                        <a:pt x="412" y="502"/>
                      </a:lnTo>
                      <a:lnTo>
                        <a:pt x="412" y="511"/>
                      </a:lnTo>
                      <a:lnTo>
                        <a:pt x="412" y="464"/>
                      </a:lnTo>
                      <a:lnTo>
                        <a:pt x="436" y="464"/>
                      </a:lnTo>
                      <a:lnTo>
                        <a:pt x="436" y="472"/>
                      </a:lnTo>
                      <a:lnTo>
                        <a:pt x="436" y="502"/>
                      </a:lnTo>
                      <a:lnTo>
                        <a:pt x="436" y="511"/>
                      </a:lnTo>
                      <a:lnTo>
                        <a:pt x="436" y="464"/>
                      </a:lnTo>
                      <a:lnTo>
                        <a:pt x="459" y="464"/>
                      </a:lnTo>
                      <a:lnTo>
                        <a:pt x="459" y="472"/>
                      </a:lnTo>
                      <a:lnTo>
                        <a:pt x="459" y="502"/>
                      </a:lnTo>
                      <a:lnTo>
                        <a:pt x="459" y="511"/>
                      </a:lnTo>
                      <a:lnTo>
                        <a:pt x="459" y="464"/>
                      </a:lnTo>
                      <a:lnTo>
                        <a:pt x="483" y="464"/>
                      </a:lnTo>
                      <a:lnTo>
                        <a:pt x="483" y="472"/>
                      </a:lnTo>
                      <a:lnTo>
                        <a:pt x="483" y="502"/>
                      </a:lnTo>
                      <a:lnTo>
                        <a:pt x="483" y="511"/>
                      </a:lnTo>
                      <a:lnTo>
                        <a:pt x="483" y="464"/>
                      </a:lnTo>
                      <a:lnTo>
                        <a:pt x="507" y="464"/>
                      </a:lnTo>
                      <a:lnTo>
                        <a:pt x="507" y="472"/>
                      </a:lnTo>
                      <a:lnTo>
                        <a:pt x="507" y="502"/>
                      </a:lnTo>
                      <a:lnTo>
                        <a:pt x="507" y="511"/>
                      </a:lnTo>
                      <a:lnTo>
                        <a:pt x="507" y="464"/>
                      </a:lnTo>
                      <a:lnTo>
                        <a:pt x="530" y="464"/>
                      </a:lnTo>
                      <a:lnTo>
                        <a:pt x="530" y="472"/>
                      </a:lnTo>
                      <a:lnTo>
                        <a:pt x="530" y="502"/>
                      </a:lnTo>
                      <a:lnTo>
                        <a:pt x="530" y="511"/>
                      </a:lnTo>
                      <a:lnTo>
                        <a:pt x="530" y="464"/>
                      </a:lnTo>
                      <a:lnTo>
                        <a:pt x="23" y="464"/>
                      </a:lnTo>
                      <a:close/>
                      <a:moveTo>
                        <a:pt x="9" y="0"/>
                      </a:moveTo>
                      <a:lnTo>
                        <a:pt x="136" y="0"/>
                      </a:lnTo>
                      <a:lnTo>
                        <a:pt x="136" y="434"/>
                      </a:lnTo>
                      <a:lnTo>
                        <a:pt x="9" y="434"/>
                      </a:lnTo>
                      <a:lnTo>
                        <a:pt x="9" y="0"/>
                      </a:lnTo>
                      <a:close/>
                      <a:moveTo>
                        <a:pt x="173" y="0"/>
                      </a:moveTo>
                      <a:lnTo>
                        <a:pt x="192" y="0"/>
                      </a:lnTo>
                      <a:lnTo>
                        <a:pt x="192" y="174"/>
                      </a:lnTo>
                      <a:lnTo>
                        <a:pt x="173" y="174"/>
                      </a:lnTo>
                      <a:lnTo>
                        <a:pt x="173" y="0"/>
                      </a:lnTo>
                      <a:close/>
                      <a:moveTo>
                        <a:pt x="168" y="213"/>
                      </a:moveTo>
                      <a:lnTo>
                        <a:pt x="196" y="213"/>
                      </a:lnTo>
                      <a:lnTo>
                        <a:pt x="196" y="234"/>
                      </a:lnTo>
                      <a:lnTo>
                        <a:pt x="168" y="234"/>
                      </a:lnTo>
                      <a:lnTo>
                        <a:pt x="168" y="213"/>
                      </a:lnTo>
                      <a:close/>
                      <a:moveTo>
                        <a:pt x="220" y="0"/>
                      </a:moveTo>
                      <a:lnTo>
                        <a:pt x="318" y="0"/>
                      </a:lnTo>
                      <a:lnTo>
                        <a:pt x="318" y="100"/>
                      </a:lnTo>
                      <a:lnTo>
                        <a:pt x="220" y="100"/>
                      </a:lnTo>
                      <a:lnTo>
                        <a:pt x="220" y="0"/>
                      </a:lnTo>
                      <a:close/>
                      <a:moveTo>
                        <a:pt x="352" y="0"/>
                      </a:moveTo>
                      <a:lnTo>
                        <a:pt x="539" y="0"/>
                      </a:lnTo>
                      <a:lnTo>
                        <a:pt x="539" y="100"/>
                      </a:lnTo>
                      <a:lnTo>
                        <a:pt x="352" y="100"/>
                      </a:lnTo>
                      <a:lnTo>
                        <a:pt x="352" y="0"/>
                      </a:lnTo>
                      <a:close/>
                      <a:moveTo>
                        <a:pt x="493" y="126"/>
                      </a:moveTo>
                      <a:lnTo>
                        <a:pt x="544" y="126"/>
                      </a:lnTo>
                      <a:lnTo>
                        <a:pt x="544" y="238"/>
                      </a:lnTo>
                      <a:lnTo>
                        <a:pt x="493" y="238"/>
                      </a:lnTo>
                      <a:lnTo>
                        <a:pt x="493" y="12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710480" y="2939760"/>
                  <a:ext cx="483840" cy="436320"/>
                </a:xfrm>
                <a:custGeom>
                  <a:avLst/>
                  <a:gdLst/>
                  <a:ahLst/>
                  <a:rect l="l" t="t" r="r" b="b"/>
                  <a:pathLst>
                    <a:path w="610" h="549">
                      <a:moveTo>
                        <a:pt x="610" y="277"/>
                      </a:moveTo>
                      <a:lnTo>
                        <a:pt x="610" y="0"/>
                      </a:lnTo>
                      <a:lnTo>
                        <a:pt x="301" y="0"/>
                      </a:lnTo>
                      <a:lnTo>
                        <a:pt x="0" y="0"/>
                      </a:lnTo>
                      <a:lnTo>
                        <a:pt x="0" y="277"/>
                      </a:lnTo>
                      <a:lnTo>
                        <a:pt x="0" y="502"/>
                      </a:lnTo>
                      <a:lnTo>
                        <a:pt x="33" y="502"/>
                      </a:lnTo>
                      <a:lnTo>
                        <a:pt x="33" y="549"/>
                      </a:lnTo>
                      <a:lnTo>
                        <a:pt x="305" y="549"/>
                      </a:lnTo>
                      <a:lnTo>
                        <a:pt x="582" y="549"/>
                      </a:lnTo>
                      <a:lnTo>
                        <a:pt x="582" y="502"/>
                      </a:lnTo>
                      <a:lnTo>
                        <a:pt x="610" y="502"/>
                      </a:lnTo>
                      <a:lnTo>
                        <a:pt x="610" y="27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735680" y="2971440"/>
                  <a:ext cx="434520" cy="404280"/>
                </a:xfrm>
                <a:custGeom>
                  <a:avLst/>
                  <a:gdLst/>
                  <a:ahLst/>
                  <a:rect l="l" t="t" r="r" b="b"/>
                  <a:pathLst>
                    <a:path w="549" h="510">
                      <a:moveTo>
                        <a:pt x="0" y="463"/>
                      </a:moveTo>
                      <a:lnTo>
                        <a:pt x="89" y="463"/>
                      </a:lnTo>
                      <a:lnTo>
                        <a:pt x="432" y="463"/>
                      </a:lnTo>
                      <a:lnTo>
                        <a:pt x="549" y="463"/>
                      </a:lnTo>
                      <a:lnTo>
                        <a:pt x="0" y="463"/>
                      </a:lnTo>
                      <a:close/>
                      <a:moveTo>
                        <a:pt x="10" y="22"/>
                      </a:moveTo>
                      <a:lnTo>
                        <a:pt x="28" y="22"/>
                      </a:lnTo>
                      <a:lnTo>
                        <a:pt x="108" y="22"/>
                      </a:lnTo>
                      <a:lnTo>
                        <a:pt x="137" y="22"/>
                      </a:lnTo>
                      <a:lnTo>
                        <a:pt x="10" y="22"/>
                      </a:lnTo>
                      <a:lnTo>
                        <a:pt x="10" y="47"/>
                      </a:lnTo>
                      <a:lnTo>
                        <a:pt x="28" y="47"/>
                      </a:lnTo>
                      <a:lnTo>
                        <a:pt x="108" y="47"/>
                      </a:lnTo>
                      <a:lnTo>
                        <a:pt x="137" y="47"/>
                      </a:lnTo>
                      <a:lnTo>
                        <a:pt x="10" y="47"/>
                      </a:lnTo>
                      <a:lnTo>
                        <a:pt x="10" y="73"/>
                      </a:lnTo>
                      <a:lnTo>
                        <a:pt x="28" y="73"/>
                      </a:lnTo>
                      <a:lnTo>
                        <a:pt x="108" y="73"/>
                      </a:lnTo>
                      <a:lnTo>
                        <a:pt x="137" y="73"/>
                      </a:lnTo>
                      <a:lnTo>
                        <a:pt x="10" y="73"/>
                      </a:lnTo>
                      <a:lnTo>
                        <a:pt x="10" y="100"/>
                      </a:lnTo>
                      <a:lnTo>
                        <a:pt x="28" y="100"/>
                      </a:lnTo>
                      <a:lnTo>
                        <a:pt x="108" y="100"/>
                      </a:lnTo>
                      <a:lnTo>
                        <a:pt x="137" y="100"/>
                      </a:lnTo>
                      <a:lnTo>
                        <a:pt x="10" y="100"/>
                      </a:lnTo>
                      <a:lnTo>
                        <a:pt x="10" y="126"/>
                      </a:lnTo>
                      <a:lnTo>
                        <a:pt x="28" y="126"/>
                      </a:lnTo>
                      <a:lnTo>
                        <a:pt x="108" y="126"/>
                      </a:lnTo>
                      <a:lnTo>
                        <a:pt x="137" y="126"/>
                      </a:lnTo>
                      <a:lnTo>
                        <a:pt x="10" y="126"/>
                      </a:lnTo>
                      <a:lnTo>
                        <a:pt x="10" y="151"/>
                      </a:lnTo>
                      <a:lnTo>
                        <a:pt x="28" y="151"/>
                      </a:lnTo>
                      <a:lnTo>
                        <a:pt x="108" y="151"/>
                      </a:lnTo>
                      <a:lnTo>
                        <a:pt x="137" y="151"/>
                      </a:lnTo>
                      <a:lnTo>
                        <a:pt x="10" y="151"/>
                      </a:lnTo>
                      <a:lnTo>
                        <a:pt x="10" y="177"/>
                      </a:lnTo>
                      <a:lnTo>
                        <a:pt x="28" y="177"/>
                      </a:lnTo>
                      <a:lnTo>
                        <a:pt x="108" y="177"/>
                      </a:lnTo>
                      <a:lnTo>
                        <a:pt x="137" y="177"/>
                      </a:lnTo>
                      <a:lnTo>
                        <a:pt x="10" y="177"/>
                      </a:lnTo>
                      <a:lnTo>
                        <a:pt x="10" y="203"/>
                      </a:lnTo>
                      <a:lnTo>
                        <a:pt x="28" y="203"/>
                      </a:lnTo>
                      <a:lnTo>
                        <a:pt x="108" y="203"/>
                      </a:lnTo>
                      <a:lnTo>
                        <a:pt x="137" y="203"/>
                      </a:lnTo>
                      <a:lnTo>
                        <a:pt x="10" y="203"/>
                      </a:lnTo>
                      <a:lnTo>
                        <a:pt x="10" y="230"/>
                      </a:lnTo>
                      <a:lnTo>
                        <a:pt x="28" y="230"/>
                      </a:lnTo>
                      <a:lnTo>
                        <a:pt x="108" y="230"/>
                      </a:lnTo>
                      <a:lnTo>
                        <a:pt x="137" y="230"/>
                      </a:lnTo>
                      <a:lnTo>
                        <a:pt x="10" y="230"/>
                      </a:lnTo>
                      <a:lnTo>
                        <a:pt x="10" y="255"/>
                      </a:lnTo>
                      <a:lnTo>
                        <a:pt x="28" y="255"/>
                      </a:lnTo>
                      <a:lnTo>
                        <a:pt x="108" y="255"/>
                      </a:lnTo>
                      <a:lnTo>
                        <a:pt x="137" y="255"/>
                      </a:lnTo>
                      <a:lnTo>
                        <a:pt x="10" y="255"/>
                      </a:lnTo>
                      <a:lnTo>
                        <a:pt x="10" y="281"/>
                      </a:lnTo>
                      <a:lnTo>
                        <a:pt x="28" y="281"/>
                      </a:lnTo>
                      <a:lnTo>
                        <a:pt x="108" y="281"/>
                      </a:lnTo>
                      <a:lnTo>
                        <a:pt x="137" y="281"/>
                      </a:lnTo>
                      <a:lnTo>
                        <a:pt x="10" y="281"/>
                      </a:lnTo>
                      <a:lnTo>
                        <a:pt x="10" y="307"/>
                      </a:lnTo>
                      <a:lnTo>
                        <a:pt x="28" y="307"/>
                      </a:lnTo>
                      <a:lnTo>
                        <a:pt x="108" y="307"/>
                      </a:lnTo>
                      <a:lnTo>
                        <a:pt x="137" y="307"/>
                      </a:lnTo>
                      <a:lnTo>
                        <a:pt x="10" y="307"/>
                      </a:lnTo>
                      <a:lnTo>
                        <a:pt x="10" y="334"/>
                      </a:lnTo>
                      <a:lnTo>
                        <a:pt x="28" y="334"/>
                      </a:lnTo>
                      <a:lnTo>
                        <a:pt x="108" y="334"/>
                      </a:lnTo>
                      <a:lnTo>
                        <a:pt x="137" y="334"/>
                      </a:lnTo>
                      <a:lnTo>
                        <a:pt x="10" y="334"/>
                      </a:lnTo>
                      <a:lnTo>
                        <a:pt x="10" y="359"/>
                      </a:lnTo>
                      <a:lnTo>
                        <a:pt x="28" y="359"/>
                      </a:lnTo>
                      <a:lnTo>
                        <a:pt x="108" y="359"/>
                      </a:lnTo>
                      <a:lnTo>
                        <a:pt x="137" y="359"/>
                      </a:lnTo>
                      <a:lnTo>
                        <a:pt x="10" y="359"/>
                      </a:lnTo>
                      <a:lnTo>
                        <a:pt x="10" y="385"/>
                      </a:lnTo>
                      <a:lnTo>
                        <a:pt x="28" y="385"/>
                      </a:lnTo>
                      <a:lnTo>
                        <a:pt x="108" y="385"/>
                      </a:lnTo>
                      <a:lnTo>
                        <a:pt x="137" y="385"/>
                      </a:lnTo>
                      <a:lnTo>
                        <a:pt x="10" y="385"/>
                      </a:lnTo>
                      <a:lnTo>
                        <a:pt x="10" y="411"/>
                      </a:lnTo>
                      <a:lnTo>
                        <a:pt x="28" y="411"/>
                      </a:lnTo>
                      <a:lnTo>
                        <a:pt x="108" y="411"/>
                      </a:lnTo>
                      <a:lnTo>
                        <a:pt x="137" y="411"/>
                      </a:lnTo>
                      <a:lnTo>
                        <a:pt x="10" y="411"/>
                      </a:lnTo>
                      <a:lnTo>
                        <a:pt x="10" y="22"/>
                      </a:lnTo>
                      <a:close/>
                      <a:moveTo>
                        <a:pt x="24" y="463"/>
                      </a:moveTo>
                      <a:lnTo>
                        <a:pt x="24" y="472"/>
                      </a:lnTo>
                      <a:lnTo>
                        <a:pt x="24" y="502"/>
                      </a:lnTo>
                      <a:lnTo>
                        <a:pt x="24" y="510"/>
                      </a:lnTo>
                      <a:lnTo>
                        <a:pt x="24" y="463"/>
                      </a:lnTo>
                      <a:lnTo>
                        <a:pt x="42" y="463"/>
                      </a:lnTo>
                      <a:lnTo>
                        <a:pt x="42" y="472"/>
                      </a:lnTo>
                      <a:lnTo>
                        <a:pt x="42" y="502"/>
                      </a:lnTo>
                      <a:lnTo>
                        <a:pt x="42" y="510"/>
                      </a:lnTo>
                      <a:lnTo>
                        <a:pt x="42" y="463"/>
                      </a:lnTo>
                      <a:lnTo>
                        <a:pt x="66" y="463"/>
                      </a:lnTo>
                      <a:lnTo>
                        <a:pt x="66" y="472"/>
                      </a:lnTo>
                      <a:lnTo>
                        <a:pt x="66" y="502"/>
                      </a:lnTo>
                      <a:lnTo>
                        <a:pt x="66" y="510"/>
                      </a:lnTo>
                      <a:lnTo>
                        <a:pt x="66" y="463"/>
                      </a:lnTo>
                      <a:lnTo>
                        <a:pt x="89" y="463"/>
                      </a:lnTo>
                      <a:lnTo>
                        <a:pt x="89" y="472"/>
                      </a:lnTo>
                      <a:lnTo>
                        <a:pt x="89" y="502"/>
                      </a:lnTo>
                      <a:lnTo>
                        <a:pt x="89" y="510"/>
                      </a:lnTo>
                      <a:lnTo>
                        <a:pt x="89" y="463"/>
                      </a:lnTo>
                      <a:lnTo>
                        <a:pt x="112" y="463"/>
                      </a:lnTo>
                      <a:lnTo>
                        <a:pt x="112" y="472"/>
                      </a:lnTo>
                      <a:lnTo>
                        <a:pt x="112" y="502"/>
                      </a:lnTo>
                      <a:lnTo>
                        <a:pt x="112" y="510"/>
                      </a:lnTo>
                      <a:lnTo>
                        <a:pt x="112" y="463"/>
                      </a:lnTo>
                      <a:lnTo>
                        <a:pt x="137" y="463"/>
                      </a:lnTo>
                      <a:lnTo>
                        <a:pt x="137" y="472"/>
                      </a:lnTo>
                      <a:lnTo>
                        <a:pt x="137" y="502"/>
                      </a:lnTo>
                      <a:lnTo>
                        <a:pt x="137" y="510"/>
                      </a:lnTo>
                      <a:lnTo>
                        <a:pt x="137" y="463"/>
                      </a:lnTo>
                      <a:lnTo>
                        <a:pt x="160" y="463"/>
                      </a:lnTo>
                      <a:lnTo>
                        <a:pt x="160" y="472"/>
                      </a:lnTo>
                      <a:lnTo>
                        <a:pt x="160" y="502"/>
                      </a:lnTo>
                      <a:lnTo>
                        <a:pt x="160" y="510"/>
                      </a:lnTo>
                      <a:lnTo>
                        <a:pt x="160" y="463"/>
                      </a:lnTo>
                      <a:lnTo>
                        <a:pt x="183" y="463"/>
                      </a:lnTo>
                      <a:lnTo>
                        <a:pt x="183" y="472"/>
                      </a:lnTo>
                      <a:lnTo>
                        <a:pt x="183" y="502"/>
                      </a:lnTo>
                      <a:lnTo>
                        <a:pt x="183" y="510"/>
                      </a:lnTo>
                      <a:lnTo>
                        <a:pt x="183" y="463"/>
                      </a:lnTo>
                      <a:lnTo>
                        <a:pt x="206" y="463"/>
                      </a:lnTo>
                      <a:lnTo>
                        <a:pt x="206" y="472"/>
                      </a:lnTo>
                      <a:lnTo>
                        <a:pt x="206" y="502"/>
                      </a:lnTo>
                      <a:lnTo>
                        <a:pt x="206" y="510"/>
                      </a:lnTo>
                      <a:lnTo>
                        <a:pt x="206" y="463"/>
                      </a:lnTo>
                      <a:lnTo>
                        <a:pt x="230" y="463"/>
                      </a:lnTo>
                      <a:lnTo>
                        <a:pt x="230" y="472"/>
                      </a:lnTo>
                      <a:lnTo>
                        <a:pt x="230" y="502"/>
                      </a:lnTo>
                      <a:lnTo>
                        <a:pt x="230" y="510"/>
                      </a:lnTo>
                      <a:lnTo>
                        <a:pt x="230" y="463"/>
                      </a:lnTo>
                      <a:lnTo>
                        <a:pt x="253" y="463"/>
                      </a:lnTo>
                      <a:lnTo>
                        <a:pt x="253" y="472"/>
                      </a:lnTo>
                      <a:lnTo>
                        <a:pt x="253" y="502"/>
                      </a:lnTo>
                      <a:lnTo>
                        <a:pt x="253" y="510"/>
                      </a:lnTo>
                      <a:lnTo>
                        <a:pt x="253" y="463"/>
                      </a:lnTo>
                      <a:lnTo>
                        <a:pt x="277" y="463"/>
                      </a:lnTo>
                      <a:lnTo>
                        <a:pt x="277" y="472"/>
                      </a:lnTo>
                      <a:lnTo>
                        <a:pt x="277" y="502"/>
                      </a:lnTo>
                      <a:lnTo>
                        <a:pt x="277" y="510"/>
                      </a:lnTo>
                      <a:lnTo>
                        <a:pt x="277" y="463"/>
                      </a:lnTo>
                      <a:lnTo>
                        <a:pt x="300" y="463"/>
                      </a:lnTo>
                      <a:lnTo>
                        <a:pt x="300" y="472"/>
                      </a:lnTo>
                      <a:lnTo>
                        <a:pt x="300" y="502"/>
                      </a:lnTo>
                      <a:lnTo>
                        <a:pt x="300" y="510"/>
                      </a:lnTo>
                      <a:lnTo>
                        <a:pt x="300" y="463"/>
                      </a:lnTo>
                      <a:lnTo>
                        <a:pt x="319" y="463"/>
                      </a:lnTo>
                      <a:lnTo>
                        <a:pt x="319" y="472"/>
                      </a:lnTo>
                      <a:lnTo>
                        <a:pt x="319" y="502"/>
                      </a:lnTo>
                      <a:lnTo>
                        <a:pt x="319" y="510"/>
                      </a:lnTo>
                      <a:lnTo>
                        <a:pt x="319" y="463"/>
                      </a:lnTo>
                      <a:lnTo>
                        <a:pt x="342" y="463"/>
                      </a:lnTo>
                      <a:lnTo>
                        <a:pt x="342" y="472"/>
                      </a:lnTo>
                      <a:lnTo>
                        <a:pt x="342" y="502"/>
                      </a:lnTo>
                      <a:lnTo>
                        <a:pt x="342" y="510"/>
                      </a:lnTo>
                      <a:lnTo>
                        <a:pt x="342" y="463"/>
                      </a:lnTo>
                      <a:lnTo>
                        <a:pt x="366" y="463"/>
                      </a:lnTo>
                      <a:lnTo>
                        <a:pt x="366" y="472"/>
                      </a:lnTo>
                      <a:lnTo>
                        <a:pt x="366" y="502"/>
                      </a:lnTo>
                      <a:lnTo>
                        <a:pt x="366" y="510"/>
                      </a:lnTo>
                      <a:lnTo>
                        <a:pt x="366" y="463"/>
                      </a:lnTo>
                      <a:lnTo>
                        <a:pt x="390" y="463"/>
                      </a:lnTo>
                      <a:lnTo>
                        <a:pt x="390" y="472"/>
                      </a:lnTo>
                      <a:lnTo>
                        <a:pt x="390" y="502"/>
                      </a:lnTo>
                      <a:lnTo>
                        <a:pt x="390" y="510"/>
                      </a:lnTo>
                      <a:lnTo>
                        <a:pt x="390" y="463"/>
                      </a:lnTo>
                      <a:lnTo>
                        <a:pt x="413" y="463"/>
                      </a:lnTo>
                      <a:lnTo>
                        <a:pt x="413" y="472"/>
                      </a:lnTo>
                      <a:lnTo>
                        <a:pt x="413" y="502"/>
                      </a:lnTo>
                      <a:lnTo>
                        <a:pt x="413" y="510"/>
                      </a:lnTo>
                      <a:lnTo>
                        <a:pt x="413" y="463"/>
                      </a:lnTo>
                      <a:lnTo>
                        <a:pt x="436" y="463"/>
                      </a:lnTo>
                      <a:lnTo>
                        <a:pt x="436" y="472"/>
                      </a:lnTo>
                      <a:lnTo>
                        <a:pt x="436" y="502"/>
                      </a:lnTo>
                      <a:lnTo>
                        <a:pt x="436" y="510"/>
                      </a:lnTo>
                      <a:lnTo>
                        <a:pt x="436" y="463"/>
                      </a:lnTo>
                      <a:lnTo>
                        <a:pt x="460" y="463"/>
                      </a:lnTo>
                      <a:lnTo>
                        <a:pt x="460" y="472"/>
                      </a:lnTo>
                      <a:lnTo>
                        <a:pt x="460" y="502"/>
                      </a:lnTo>
                      <a:lnTo>
                        <a:pt x="460" y="510"/>
                      </a:lnTo>
                      <a:lnTo>
                        <a:pt x="460" y="463"/>
                      </a:lnTo>
                      <a:lnTo>
                        <a:pt x="483" y="463"/>
                      </a:lnTo>
                      <a:lnTo>
                        <a:pt x="483" y="472"/>
                      </a:lnTo>
                      <a:lnTo>
                        <a:pt x="483" y="502"/>
                      </a:lnTo>
                      <a:lnTo>
                        <a:pt x="483" y="510"/>
                      </a:lnTo>
                      <a:lnTo>
                        <a:pt x="483" y="463"/>
                      </a:lnTo>
                      <a:lnTo>
                        <a:pt x="507" y="463"/>
                      </a:lnTo>
                      <a:lnTo>
                        <a:pt x="507" y="472"/>
                      </a:lnTo>
                      <a:lnTo>
                        <a:pt x="507" y="502"/>
                      </a:lnTo>
                      <a:lnTo>
                        <a:pt x="507" y="510"/>
                      </a:lnTo>
                      <a:lnTo>
                        <a:pt x="507" y="463"/>
                      </a:lnTo>
                      <a:lnTo>
                        <a:pt x="530" y="463"/>
                      </a:lnTo>
                      <a:lnTo>
                        <a:pt x="530" y="472"/>
                      </a:lnTo>
                      <a:lnTo>
                        <a:pt x="530" y="502"/>
                      </a:lnTo>
                      <a:lnTo>
                        <a:pt x="530" y="510"/>
                      </a:lnTo>
                      <a:lnTo>
                        <a:pt x="530" y="463"/>
                      </a:lnTo>
                      <a:lnTo>
                        <a:pt x="24" y="463"/>
                      </a:lnTo>
                      <a:close/>
                      <a:moveTo>
                        <a:pt x="10" y="0"/>
                      </a:moveTo>
                      <a:lnTo>
                        <a:pt x="137" y="0"/>
                      </a:lnTo>
                      <a:lnTo>
                        <a:pt x="137" y="432"/>
                      </a:lnTo>
                      <a:lnTo>
                        <a:pt x="10" y="432"/>
                      </a:lnTo>
                      <a:lnTo>
                        <a:pt x="10" y="0"/>
                      </a:lnTo>
                      <a:close/>
                      <a:moveTo>
                        <a:pt x="174" y="0"/>
                      </a:moveTo>
                      <a:lnTo>
                        <a:pt x="192" y="0"/>
                      </a:lnTo>
                      <a:lnTo>
                        <a:pt x="192" y="173"/>
                      </a:lnTo>
                      <a:lnTo>
                        <a:pt x="174" y="173"/>
                      </a:lnTo>
                      <a:lnTo>
                        <a:pt x="174" y="0"/>
                      </a:lnTo>
                      <a:close/>
                      <a:moveTo>
                        <a:pt x="169" y="212"/>
                      </a:moveTo>
                      <a:lnTo>
                        <a:pt x="197" y="212"/>
                      </a:lnTo>
                      <a:lnTo>
                        <a:pt x="197" y="234"/>
                      </a:lnTo>
                      <a:lnTo>
                        <a:pt x="169" y="234"/>
                      </a:lnTo>
                      <a:lnTo>
                        <a:pt x="169" y="212"/>
                      </a:lnTo>
                      <a:close/>
                      <a:moveTo>
                        <a:pt x="220" y="0"/>
                      </a:moveTo>
                      <a:lnTo>
                        <a:pt x="319" y="0"/>
                      </a:lnTo>
                      <a:lnTo>
                        <a:pt x="319" y="100"/>
                      </a:lnTo>
                      <a:lnTo>
                        <a:pt x="220" y="100"/>
                      </a:lnTo>
                      <a:lnTo>
                        <a:pt x="220" y="0"/>
                      </a:lnTo>
                      <a:close/>
                      <a:moveTo>
                        <a:pt x="352" y="0"/>
                      </a:moveTo>
                      <a:lnTo>
                        <a:pt x="540" y="0"/>
                      </a:lnTo>
                      <a:lnTo>
                        <a:pt x="540" y="100"/>
                      </a:lnTo>
                      <a:lnTo>
                        <a:pt x="352" y="100"/>
                      </a:lnTo>
                      <a:lnTo>
                        <a:pt x="352" y="0"/>
                      </a:lnTo>
                      <a:close/>
                      <a:moveTo>
                        <a:pt x="492" y="126"/>
                      </a:moveTo>
                      <a:lnTo>
                        <a:pt x="544" y="126"/>
                      </a:lnTo>
                      <a:lnTo>
                        <a:pt x="544" y="238"/>
                      </a:lnTo>
                      <a:lnTo>
                        <a:pt x="492" y="238"/>
                      </a:lnTo>
                      <a:lnTo>
                        <a:pt x="492" y="12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710480" y="2939760"/>
                  <a:ext cx="483840" cy="436320"/>
                </a:xfrm>
                <a:custGeom>
                  <a:avLst/>
                  <a:gdLst/>
                  <a:ahLst/>
                  <a:rect l="l" t="t" r="r" b="b"/>
                  <a:pathLst>
                    <a:path w="610" h="549">
                      <a:moveTo>
                        <a:pt x="610" y="277"/>
                      </a:moveTo>
                      <a:lnTo>
                        <a:pt x="610" y="0"/>
                      </a:lnTo>
                      <a:lnTo>
                        <a:pt x="301" y="0"/>
                      </a:lnTo>
                      <a:lnTo>
                        <a:pt x="0" y="0"/>
                      </a:lnTo>
                      <a:lnTo>
                        <a:pt x="0" y="277"/>
                      </a:lnTo>
                      <a:lnTo>
                        <a:pt x="0" y="502"/>
                      </a:lnTo>
                      <a:lnTo>
                        <a:pt x="33" y="502"/>
                      </a:lnTo>
                      <a:lnTo>
                        <a:pt x="33" y="549"/>
                      </a:lnTo>
                      <a:lnTo>
                        <a:pt x="305" y="549"/>
                      </a:lnTo>
                      <a:lnTo>
                        <a:pt x="582" y="549"/>
                      </a:lnTo>
                      <a:lnTo>
                        <a:pt x="582" y="502"/>
                      </a:lnTo>
                      <a:lnTo>
                        <a:pt x="610" y="502"/>
                      </a:lnTo>
                      <a:lnTo>
                        <a:pt x="610" y="27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735680" y="3337920"/>
                  <a:ext cx="434520" cy="1440"/>
                </a:xfrm>
                <a:custGeom>
                  <a:avLst/>
                  <a:gdLst/>
                  <a:ahLst/>
                  <a:rect l="l" t="t" r="r" b="b"/>
                  <a:pathLst>
                    <a:path w="549" h="0">
                      <a:moveTo>
                        <a:pt x="0" y="0"/>
                      </a:moveTo>
                      <a:lnTo>
                        <a:pt x="89" y="0"/>
                      </a:lnTo>
                      <a:lnTo>
                        <a:pt x="432" y="0"/>
                      </a:lnTo>
                      <a:lnTo>
                        <a:pt x="549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743600" y="2988720"/>
                  <a:ext cx="99720" cy="309240"/>
                </a:xfrm>
                <a:custGeom>
                  <a:avLst/>
                  <a:gdLst/>
                  <a:ahLst/>
                  <a:rect l="l" t="t" r="r" b="b"/>
                  <a:pathLst>
                    <a:path w="127" h="389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98" y="0"/>
                      </a:lnTo>
                      <a:lnTo>
                        <a:pt x="127" y="0"/>
                      </a:lnTo>
                      <a:lnTo>
                        <a:pt x="0" y="0"/>
                      </a:lnTo>
                      <a:lnTo>
                        <a:pt x="0" y="25"/>
                      </a:lnTo>
                      <a:lnTo>
                        <a:pt x="18" y="25"/>
                      </a:lnTo>
                      <a:lnTo>
                        <a:pt x="98" y="25"/>
                      </a:lnTo>
                      <a:lnTo>
                        <a:pt x="127" y="25"/>
                      </a:lnTo>
                      <a:lnTo>
                        <a:pt x="0" y="25"/>
                      </a:lnTo>
                      <a:lnTo>
                        <a:pt x="0" y="51"/>
                      </a:lnTo>
                      <a:lnTo>
                        <a:pt x="18" y="51"/>
                      </a:lnTo>
                      <a:lnTo>
                        <a:pt x="98" y="51"/>
                      </a:lnTo>
                      <a:lnTo>
                        <a:pt x="127" y="51"/>
                      </a:lnTo>
                      <a:lnTo>
                        <a:pt x="0" y="51"/>
                      </a:lnTo>
                      <a:lnTo>
                        <a:pt x="0" y="78"/>
                      </a:lnTo>
                      <a:lnTo>
                        <a:pt x="18" y="78"/>
                      </a:lnTo>
                      <a:lnTo>
                        <a:pt x="98" y="78"/>
                      </a:lnTo>
                      <a:lnTo>
                        <a:pt x="127" y="78"/>
                      </a:lnTo>
                      <a:lnTo>
                        <a:pt x="0" y="78"/>
                      </a:lnTo>
                      <a:lnTo>
                        <a:pt x="0" y="104"/>
                      </a:lnTo>
                      <a:lnTo>
                        <a:pt x="18" y="104"/>
                      </a:lnTo>
                      <a:lnTo>
                        <a:pt x="98" y="104"/>
                      </a:lnTo>
                      <a:lnTo>
                        <a:pt x="127" y="104"/>
                      </a:lnTo>
                      <a:lnTo>
                        <a:pt x="0" y="104"/>
                      </a:lnTo>
                      <a:lnTo>
                        <a:pt x="0" y="129"/>
                      </a:lnTo>
                      <a:lnTo>
                        <a:pt x="18" y="129"/>
                      </a:lnTo>
                      <a:lnTo>
                        <a:pt x="98" y="129"/>
                      </a:lnTo>
                      <a:lnTo>
                        <a:pt x="127" y="129"/>
                      </a:lnTo>
                      <a:lnTo>
                        <a:pt x="0" y="129"/>
                      </a:lnTo>
                      <a:lnTo>
                        <a:pt x="0" y="155"/>
                      </a:lnTo>
                      <a:lnTo>
                        <a:pt x="18" y="155"/>
                      </a:lnTo>
                      <a:lnTo>
                        <a:pt x="98" y="155"/>
                      </a:lnTo>
                      <a:lnTo>
                        <a:pt x="127" y="155"/>
                      </a:lnTo>
                      <a:lnTo>
                        <a:pt x="0" y="155"/>
                      </a:lnTo>
                      <a:lnTo>
                        <a:pt x="0" y="181"/>
                      </a:lnTo>
                      <a:lnTo>
                        <a:pt x="18" y="181"/>
                      </a:lnTo>
                      <a:lnTo>
                        <a:pt x="98" y="181"/>
                      </a:lnTo>
                      <a:lnTo>
                        <a:pt x="127" y="181"/>
                      </a:lnTo>
                      <a:lnTo>
                        <a:pt x="0" y="181"/>
                      </a:lnTo>
                      <a:lnTo>
                        <a:pt x="0" y="208"/>
                      </a:lnTo>
                      <a:lnTo>
                        <a:pt x="18" y="208"/>
                      </a:lnTo>
                      <a:lnTo>
                        <a:pt x="98" y="208"/>
                      </a:lnTo>
                      <a:lnTo>
                        <a:pt x="127" y="208"/>
                      </a:lnTo>
                      <a:lnTo>
                        <a:pt x="0" y="208"/>
                      </a:lnTo>
                      <a:lnTo>
                        <a:pt x="0" y="233"/>
                      </a:lnTo>
                      <a:lnTo>
                        <a:pt x="18" y="233"/>
                      </a:lnTo>
                      <a:lnTo>
                        <a:pt x="98" y="233"/>
                      </a:lnTo>
                      <a:lnTo>
                        <a:pt x="127" y="233"/>
                      </a:lnTo>
                      <a:lnTo>
                        <a:pt x="0" y="233"/>
                      </a:lnTo>
                      <a:lnTo>
                        <a:pt x="0" y="259"/>
                      </a:lnTo>
                      <a:lnTo>
                        <a:pt x="18" y="259"/>
                      </a:lnTo>
                      <a:lnTo>
                        <a:pt x="98" y="259"/>
                      </a:lnTo>
                      <a:lnTo>
                        <a:pt x="127" y="259"/>
                      </a:lnTo>
                      <a:lnTo>
                        <a:pt x="0" y="259"/>
                      </a:lnTo>
                      <a:lnTo>
                        <a:pt x="0" y="285"/>
                      </a:lnTo>
                      <a:lnTo>
                        <a:pt x="18" y="285"/>
                      </a:lnTo>
                      <a:lnTo>
                        <a:pt x="98" y="285"/>
                      </a:lnTo>
                      <a:lnTo>
                        <a:pt x="127" y="285"/>
                      </a:lnTo>
                      <a:lnTo>
                        <a:pt x="0" y="285"/>
                      </a:lnTo>
                      <a:lnTo>
                        <a:pt x="0" y="312"/>
                      </a:lnTo>
                      <a:lnTo>
                        <a:pt x="18" y="312"/>
                      </a:lnTo>
                      <a:lnTo>
                        <a:pt x="98" y="312"/>
                      </a:lnTo>
                      <a:lnTo>
                        <a:pt x="127" y="312"/>
                      </a:lnTo>
                      <a:lnTo>
                        <a:pt x="0" y="312"/>
                      </a:lnTo>
                      <a:lnTo>
                        <a:pt x="0" y="337"/>
                      </a:lnTo>
                      <a:lnTo>
                        <a:pt x="18" y="337"/>
                      </a:lnTo>
                      <a:lnTo>
                        <a:pt x="98" y="337"/>
                      </a:lnTo>
                      <a:lnTo>
                        <a:pt x="127" y="337"/>
                      </a:lnTo>
                      <a:lnTo>
                        <a:pt x="0" y="337"/>
                      </a:lnTo>
                      <a:lnTo>
                        <a:pt x="0" y="363"/>
                      </a:lnTo>
                      <a:lnTo>
                        <a:pt x="18" y="363"/>
                      </a:lnTo>
                      <a:lnTo>
                        <a:pt x="98" y="363"/>
                      </a:lnTo>
                      <a:lnTo>
                        <a:pt x="127" y="363"/>
                      </a:lnTo>
                      <a:lnTo>
                        <a:pt x="0" y="363"/>
                      </a:lnTo>
                      <a:lnTo>
                        <a:pt x="0" y="389"/>
                      </a:lnTo>
                      <a:lnTo>
                        <a:pt x="18" y="389"/>
                      </a:lnTo>
                      <a:lnTo>
                        <a:pt x="98" y="389"/>
                      </a:lnTo>
                      <a:lnTo>
                        <a:pt x="127" y="389"/>
                      </a:lnTo>
                      <a:lnTo>
                        <a:pt x="0" y="38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754760" y="3337920"/>
                  <a:ext cx="401040" cy="37800"/>
                </a:xfrm>
                <a:custGeom>
                  <a:avLst/>
                  <a:gdLst/>
                  <a:ahLst/>
                  <a:rect l="l" t="t" r="r" b="b"/>
                  <a:pathLst>
                    <a:path w="506" h="4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0" y="39"/>
                      </a:lnTo>
                      <a:lnTo>
                        <a:pt x="0" y="47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18" y="9"/>
                      </a:lnTo>
                      <a:lnTo>
                        <a:pt x="18" y="39"/>
                      </a:lnTo>
                      <a:lnTo>
                        <a:pt x="18" y="47"/>
                      </a:lnTo>
                      <a:lnTo>
                        <a:pt x="18" y="0"/>
                      </a:lnTo>
                      <a:lnTo>
                        <a:pt x="42" y="0"/>
                      </a:lnTo>
                      <a:lnTo>
                        <a:pt x="42" y="9"/>
                      </a:lnTo>
                      <a:lnTo>
                        <a:pt x="42" y="39"/>
                      </a:lnTo>
                      <a:lnTo>
                        <a:pt x="42" y="47"/>
                      </a:lnTo>
                      <a:lnTo>
                        <a:pt x="42" y="0"/>
                      </a:lnTo>
                      <a:lnTo>
                        <a:pt x="65" y="0"/>
                      </a:lnTo>
                      <a:lnTo>
                        <a:pt x="65" y="9"/>
                      </a:lnTo>
                      <a:lnTo>
                        <a:pt x="65" y="39"/>
                      </a:lnTo>
                      <a:lnTo>
                        <a:pt x="65" y="47"/>
                      </a:lnTo>
                      <a:lnTo>
                        <a:pt x="65" y="0"/>
                      </a:lnTo>
                      <a:lnTo>
                        <a:pt x="88" y="0"/>
                      </a:lnTo>
                      <a:lnTo>
                        <a:pt x="88" y="9"/>
                      </a:lnTo>
                      <a:lnTo>
                        <a:pt x="88" y="39"/>
                      </a:lnTo>
                      <a:lnTo>
                        <a:pt x="88" y="47"/>
                      </a:lnTo>
                      <a:lnTo>
                        <a:pt x="88" y="0"/>
                      </a:lnTo>
                      <a:lnTo>
                        <a:pt x="113" y="0"/>
                      </a:lnTo>
                      <a:lnTo>
                        <a:pt x="113" y="9"/>
                      </a:lnTo>
                      <a:lnTo>
                        <a:pt x="113" y="39"/>
                      </a:lnTo>
                      <a:lnTo>
                        <a:pt x="113" y="47"/>
                      </a:lnTo>
                      <a:lnTo>
                        <a:pt x="113" y="0"/>
                      </a:lnTo>
                      <a:lnTo>
                        <a:pt x="136" y="0"/>
                      </a:lnTo>
                      <a:lnTo>
                        <a:pt x="136" y="9"/>
                      </a:lnTo>
                      <a:lnTo>
                        <a:pt x="136" y="39"/>
                      </a:lnTo>
                      <a:lnTo>
                        <a:pt x="136" y="47"/>
                      </a:lnTo>
                      <a:lnTo>
                        <a:pt x="136" y="0"/>
                      </a:lnTo>
                      <a:lnTo>
                        <a:pt x="159" y="0"/>
                      </a:lnTo>
                      <a:lnTo>
                        <a:pt x="159" y="9"/>
                      </a:lnTo>
                      <a:lnTo>
                        <a:pt x="159" y="39"/>
                      </a:lnTo>
                      <a:lnTo>
                        <a:pt x="159" y="47"/>
                      </a:lnTo>
                      <a:lnTo>
                        <a:pt x="159" y="0"/>
                      </a:lnTo>
                      <a:lnTo>
                        <a:pt x="182" y="0"/>
                      </a:lnTo>
                      <a:lnTo>
                        <a:pt x="182" y="9"/>
                      </a:lnTo>
                      <a:lnTo>
                        <a:pt x="182" y="39"/>
                      </a:lnTo>
                      <a:lnTo>
                        <a:pt x="182" y="47"/>
                      </a:lnTo>
                      <a:lnTo>
                        <a:pt x="182" y="0"/>
                      </a:lnTo>
                      <a:lnTo>
                        <a:pt x="206" y="0"/>
                      </a:lnTo>
                      <a:lnTo>
                        <a:pt x="206" y="9"/>
                      </a:lnTo>
                      <a:lnTo>
                        <a:pt x="206" y="39"/>
                      </a:lnTo>
                      <a:lnTo>
                        <a:pt x="206" y="47"/>
                      </a:lnTo>
                      <a:lnTo>
                        <a:pt x="206" y="0"/>
                      </a:lnTo>
                      <a:lnTo>
                        <a:pt x="229" y="0"/>
                      </a:lnTo>
                      <a:lnTo>
                        <a:pt x="229" y="9"/>
                      </a:lnTo>
                      <a:lnTo>
                        <a:pt x="229" y="39"/>
                      </a:lnTo>
                      <a:lnTo>
                        <a:pt x="229" y="47"/>
                      </a:lnTo>
                      <a:lnTo>
                        <a:pt x="229" y="0"/>
                      </a:lnTo>
                      <a:lnTo>
                        <a:pt x="253" y="0"/>
                      </a:lnTo>
                      <a:lnTo>
                        <a:pt x="253" y="9"/>
                      </a:lnTo>
                      <a:lnTo>
                        <a:pt x="253" y="39"/>
                      </a:lnTo>
                      <a:lnTo>
                        <a:pt x="253" y="47"/>
                      </a:lnTo>
                      <a:lnTo>
                        <a:pt x="253" y="0"/>
                      </a:lnTo>
                      <a:lnTo>
                        <a:pt x="276" y="0"/>
                      </a:lnTo>
                      <a:lnTo>
                        <a:pt x="276" y="9"/>
                      </a:lnTo>
                      <a:lnTo>
                        <a:pt x="276" y="39"/>
                      </a:lnTo>
                      <a:lnTo>
                        <a:pt x="276" y="47"/>
                      </a:lnTo>
                      <a:lnTo>
                        <a:pt x="276" y="0"/>
                      </a:lnTo>
                      <a:lnTo>
                        <a:pt x="295" y="0"/>
                      </a:lnTo>
                      <a:lnTo>
                        <a:pt x="295" y="9"/>
                      </a:lnTo>
                      <a:lnTo>
                        <a:pt x="295" y="39"/>
                      </a:lnTo>
                      <a:lnTo>
                        <a:pt x="295" y="47"/>
                      </a:lnTo>
                      <a:lnTo>
                        <a:pt x="295" y="0"/>
                      </a:lnTo>
                      <a:lnTo>
                        <a:pt x="318" y="0"/>
                      </a:lnTo>
                      <a:lnTo>
                        <a:pt x="318" y="9"/>
                      </a:lnTo>
                      <a:lnTo>
                        <a:pt x="318" y="39"/>
                      </a:lnTo>
                      <a:lnTo>
                        <a:pt x="318" y="47"/>
                      </a:lnTo>
                      <a:lnTo>
                        <a:pt x="318" y="0"/>
                      </a:lnTo>
                      <a:lnTo>
                        <a:pt x="342" y="0"/>
                      </a:lnTo>
                      <a:lnTo>
                        <a:pt x="342" y="9"/>
                      </a:lnTo>
                      <a:lnTo>
                        <a:pt x="342" y="39"/>
                      </a:lnTo>
                      <a:lnTo>
                        <a:pt x="342" y="47"/>
                      </a:lnTo>
                      <a:lnTo>
                        <a:pt x="342" y="0"/>
                      </a:lnTo>
                      <a:lnTo>
                        <a:pt x="366" y="0"/>
                      </a:lnTo>
                      <a:lnTo>
                        <a:pt x="366" y="9"/>
                      </a:lnTo>
                      <a:lnTo>
                        <a:pt x="366" y="39"/>
                      </a:lnTo>
                      <a:lnTo>
                        <a:pt x="366" y="47"/>
                      </a:lnTo>
                      <a:lnTo>
                        <a:pt x="366" y="0"/>
                      </a:lnTo>
                      <a:lnTo>
                        <a:pt x="389" y="0"/>
                      </a:lnTo>
                      <a:lnTo>
                        <a:pt x="389" y="9"/>
                      </a:lnTo>
                      <a:lnTo>
                        <a:pt x="389" y="39"/>
                      </a:lnTo>
                      <a:lnTo>
                        <a:pt x="389" y="47"/>
                      </a:lnTo>
                      <a:lnTo>
                        <a:pt x="389" y="0"/>
                      </a:lnTo>
                      <a:lnTo>
                        <a:pt x="412" y="0"/>
                      </a:lnTo>
                      <a:lnTo>
                        <a:pt x="412" y="9"/>
                      </a:lnTo>
                      <a:lnTo>
                        <a:pt x="412" y="39"/>
                      </a:lnTo>
                      <a:lnTo>
                        <a:pt x="412" y="47"/>
                      </a:lnTo>
                      <a:lnTo>
                        <a:pt x="412" y="0"/>
                      </a:lnTo>
                      <a:lnTo>
                        <a:pt x="436" y="0"/>
                      </a:lnTo>
                      <a:lnTo>
                        <a:pt x="436" y="9"/>
                      </a:lnTo>
                      <a:lnTo>
                        <a:pt x="436" y="39"/>
                      </a:lnTo>
                      <a:lnTo>
                        <a:pt x="436" y="47"/>
                      </a:lnTo>
                      <a:lnTo>
                        <a:pt x="436" y="0"/>
                      </a:lnTo>
                      <a:lnTo>
                        <a:pt x="459" y="0"/>
                      </a:lnTo>
                      <a:lnTo>
                        <a:pt x="459" y="9"/>
                      </a:lnTo>
                      <a:lnTo>
                        <a:pt x="459" y="39"/>
                      </a:lnTo>
                      <a:lnTo>
                        <a:pt x="459" y="47"/>
                      </a:lnTo>
                      <a:lnTo>
                        <a:pt x="459" y="0"/>
                      </a:lnTo>
                      <a:lnTo>
                        <a:pt x="483" y="0"/>
                      </a:lnTo>
                      <a:lnTo>
                        <a:pt x="483" y="9"/>
                      </a:lnTo>
                      <a:lnTo>
                        <a:pt x="483" y="39"/>
                      </a:lnTo>
                      <a:lnTo>
                        <a:pt x="483" y="47"/>
                      </a:lnTo>
                      <a:lnTo>
                        <a:pt x="483" y="0"/>
                      </a:lnTo>
                      <a:lnTo>
                        <a:pt x="506" y="0"/>
                      </a:lnTo>
                      <a:lnTo>
                        <a:pt x="506" y="9"/>
                      </a:lnTo>
                      <a:lnTo>
                        <a:pt x="506" y="39"/>
                      </a:lnTo>
                      <a:lnTo>
                        <a:pt x="506" y="47"/>
                      </a:lnTo>
                      <a:lnTo>
                        <a:pt x="506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743600" y="2971440"/>
                  <a:ext cx="99720" cy="342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873560" y="2971440"/>
                  <a:ext cx="14040" cy="137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868880" y="3139560"/>
                  <a:ext cx="23400" cy="17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910280" y="2971440"/>
                  <a:ext cx="78840" cy="7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8015040" y="2971440"/>
                  <a:ext cx="148680" cy="7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126280" y="3071160"/>
                  <a:ext cx="40680" cy="88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7064280" y="2527200"/>
              <a:ext cx="838440" cy="5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41760" y="2581200"/>
              <a:ext cx="50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Lear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17560" y="2720880"/>
              <a:ext cx="712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45720" y="286056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14800" y="2797200"/>
              <a:ext cx="18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78560" y="2576520"/>
              <a:ext cx="1440" cy="6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65720" y="2805120"/>
              <a:ext cx="180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27960" y="2743200"/>
              <a:ext cx="144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13400" y="2959200"/>
              <a:ext cx="1116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19760" y="2994120"/>
              <a:ext cx="144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18000" y="2754360"/>
              <a:ext cx="180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4441680" y="1144440"/>
              <a:ext cx="1960560" cy="1182600"/>
              <a:chOff x="4441680" y="1144440"/>
              <a:chExt cx="1960560" cy="1182600"/>
            </a:xfrm>
          </p:grpSpPr>
          <p:sp>
            <p:nvSpPr>
              <p:cNvPr id="333" name=""/>
              <p:cNvSpPr/>
              <p:nvPr/>
            </p:nvSpPr>
            <p:spPr>
              <a:xfrm>
                <a:off x="4522680" y="1223640"/>
                <a:ext cx="1879560" cy="1103400"/>
              </a:xfrm>
              <a:prstGeom prst="rect">
                <a:avLst/>
              </a:prstGeom>
              <a:solidFill>
                <a:srgbClr val="808080"/>
              </a:solidFill>
              <a:ln w="270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41680" y="1144440"/>
                <a:ext cx="1879560" cy="110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>
                <a:off x="4441680" y="1144440"/>
                <a:ext cx="1881000" cy="1101600"/>
              </a:xfrm>
              <a:prstGeom prst="rect">
                <a:avLst/>
              </a:prstGeom>
              <a:noFill/>
              <a:ln w="27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4430880" y="1144440"/>
              <a:ext cx="3855960" cy="1193760"/>
              <a:chOff x="4430880" y="1144440"/>
              <a:chExt cx="3855960" cy="1193760"/>
            </a:xfrm>
          </p:grpSpPr>
          <p:sp>
            <p:nvSpPr>
              <p:cNvPr id="337" name=""/>
              <p:cNvSpPr/>
              <p:nvPr/>
            </p:nvSpPr>
            <p:spPr>
              <a:xfrm>
                <a:off x="6139080" y="1211040"/>
                <a:ext cx="2147760" cy="11271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72120" y="1144440"/>
                <a:ext cx="2122560" cy="1101600"/>
              </a:xfrm>
              <a:prstGeom prst="rect">
                <a:avLst/>
              </a:prstGeom>
              <a:solidFill>
                <a:srgbClr val="ffffff"/>
              </a:solidFill>
              <a:ln w="27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182080" y="1147680"/>
                <a:ext cx="30240" cy="11062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430880" y="2234880"/>
                <a:ext cx="3759120" cy="590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6119640" y="1859040"/>
              <a:ext cx="1258920" cy="205920"/>
              <a:chOff x="6119640" y="1859040"/>
              <a:chExt cx="1258920" cy="20592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6119640" y="1860480"/>
                <a:ext cx="158760" cy="204480"/>
                <a:chOff x="6119640" y="1860480"/>
                <a:chExt cx="158760" cy="20448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11964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1" h="259">
                      <a:moveTo>
                        <a:pt x="5" y="243"/>
                      </a:moveTo>
                      <a:lnTo>
                        <a:pt x="25" y="220"/>
                      </a:lnTo>
                      <a:lnTo>
                        <a:pt x="25" y="158"/>
                      </a:lnTo>
                      <a:lnTo>
                        <a:pt x="57" y="158"/>
                      </a:lnTo>
                      <a:lnTo>
                        <a:pt x="57" y="140"/>
                      </a:lnTo>
                      <a:lnTo>
                        <a:pt x="40" y="140"/>
                      </a:lnTo>
                      <a:lnTo>
                        <a:pt x="40" y="134"/>
                      </a:lnTo>
                      <a:lnTo>
                        <a:pt x="40" y="0"/>
                      </a:lnTo>
                      <a:lnTo>
                        <a:pt x="100" y="0"/>
                      </a:lnTo>
                      <a:lnTo>
                        <a:pt x="161" y="0"/>
                      </a:lnTo>
                      <a:lnTo>
                        <a:pt x="161" y="133"/>
                      </a:lnTo>
                      <a:lnTo>
                        <a:pt x="161" y="140"/>
                      </a:lnTo>
                      <a:lnTo>
                        <a:pt x="143" y="140"/>
                      </a:lnTo>
                      <a:lnTo>
                        <a:pt x="143" y="158"/>
                      </a:lnTo>
                      <a:lnTo>
                        <a:pt x="175" y="158"/>
                      </a:lnTo>
                      <a:lnTo>
                        <a:pt x="175" y="222"/>
                      </a:lnTo>
                      <a:lnTo>
                        <a:pt x="194" y="243"/>
                      </a:lnTo>
                      <a:lnTo>
                        <a:pt x="197" y="244"/>
                      </a:lnTo>
                      <a:lnTo>
                        <a:pt x="199" y="247"/>
                      </a:lnTo>
                      <a:lnTo>
                        <a:pt x="200" y="250"/>
                      </a:lnTo>
                      <a:lnTo>
                        <a:pt x="201" y="254"/>
                      </a:lnTo>
                      <a:lnTo>
                        <a:pt x="201" y="255"/>
                      </a:lnTo>
                      <a:lnTo>
                        <a:pt x="200" y="257"/>
                      </a:lnTo>
                      <a:lnTo>
                        <a:pt x="200" y="258"/>
                      </a:lnTo>
                      <a:lnTo>
                        <a:pt x="199" y="258"/>
                      </a:lnTo>
                      <a:lnTo>
                        <a:pt x="198" y="259"/>
                      </a:lnTo>
                      <a:lnTo>
                        <a:pt x="196" y="259"/>
                      </a:lnTo>
                      <a:lnTo>
                        <a:pt x="194" y="259"/>
                      </a:lnTo>
                      <a:lnTo>
                        <a:pt x="100" y="259"/>
                      </a:lnTo>
                      <a:lnTo>
                        <a:pt x="6" y="259"/>
                      </a:lnTo>
                      <a:lnTo>
                        <a:pt x="4" y="259"/>
                      </a:lnTo>
                      <a:lnTo>
                        <a:pt x="3" y="259"/>
                      </a:lnTo>
                      <a:lnTo>
                        <a:pt x="2" y="258"/>
                      </a:lnTo>
                      <a:lnTo>
                        <a:pt x="1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1" y="250"/>
                      </a:lnTo>
                      <a:lnTo>
                        <a:pt x="2" y="247"/>
                      </a:lnTo>
                      <a:lnTo>
                        <a:pt x="3" y="244"/>
                      </a:lnTo>
                      <a:lnTo>
                        <a:pt x="5" y="243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144840" y="2030040"/>
                  <a:ext cx="106560" cy="576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26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136920" y="2040840"/>
                  <a:ext cx="122400" cy="6120"/>
                </a:xfrm>
                <a:custGeom>
                  <a:avLst/>
                  <a:gdLst/>
                  <a:ahLst/>
                  <a:rect l="l" t="t" r="r" b="b"/>
                  <a:pathLst>
                    <a:path w="156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50" y="0"/>
                      </a:lnTo>
                      <a:lnTo>
                        <a:pt x="156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25760" y="2050560"/>
                  <a:ext cx="142920" cy="6120"/>
                </a:xfrm>
                <a:custGeom>
                  <a:avLst/>
                  <a:gdLst/>
                  <a:ahLst/>
                  <a:rect l="l" t="t" r="r" b="b"/>
                  <a:pathLst>
                    <a:path w="181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75" y="0"/>
                      </a:lnTo>
                      <a:lnTo>
                        <a:pt x="18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138720" y="1993320"/>
                  <a:ext cx="118800" cy="42480"/>
                </a:xfrm>
                <a:custGeom>
                  <a:avLst/>
                  <a:gdLst/>
                  <a:ahLst/>
                  <a:rect l="l" t="t" r="r" b="b"/>
                  <a:pathLst>
                    <a:path w="150" h="53">
                      <a:moveTo>
                        <a:pt x="0" y="51"/>
                      </a:moveTo>
                      <a:lnTo>
                        <a:pt x="14" y="37"/>
                      </a:lnTo>
                      <a:lnTo>
                        <a:pt x="137" y="37"/>
                      </a:lnTo>
                      <a:lnTo>
                        <a:pt x="150" y="53"/>
                      </a:lnTo>
                      <a:lnTo>
                        <a:pt x="0" y="51"/>
                      </a:lnTo>
                      <a:close/>
                      <a:moveTo>
                        <a:pt x="53" y="0"/>
                      </a:moveTo>
                      <a:lnTo>
                        <a:pt x="53" y="8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163920" y="1877400"/>
                  <a:ext cx="68400" cy="106200"/>
                </a:xfrm>
                <a:custGeom>
                  <a:avLst/>
                  <a:gdLst/>
                  <a:ahLst/>
                  <a:rect l="l" t="t" r="r" b="b"/>
                  <a:pathLst>
                    <a:path w="86" h="135">
                      <a:moveTo>
                        <a:pt x="86" y="0"/>
                      </a:moveTo>
                      <a:lnTo>
                        <a:pt x="86" y="93"/>
                      </a:lnTo>
                      <a:lnTo>
                        <a:pt x="0" y="93"/>
                      </a:lnTo>
                      <a:lnTo>
                        <a:pt x="0" y="0"/>
                      </a:lnTo>
                      <a:lnTo>
                        <a:pt x="86" y="0"/>
                      </a:lnTo>
                      <a:close/>
                      <a:moveTo>
                        <a:pt x="86" y="117"/>
                      </a:moveTo>
                      <a:lnTo>
                        <a:pt x="0" y="117"/>
                      </a:lnTo>
                      <a:lnTo>
                        <a:pt x="0" y="135"/>
                      </a:lnTo>
                      <a:lnTo>
                        <a:pt x="86" y="135"/>
                      </a:lnTo>
                      <a:lnTo>
                        <a:pt x="86" y="11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11964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1" h="259">
                      <a:moveTo>
                        <a:pt x="5" y="243"/>
                      </a:moveTo>
                      <a:lnTo>
                        <a:pt x="25" y="220"/>
                      </a:lnTo>
                      <a:lnTo>
                        <a:pt x="25" y="158"/>
                      </a:lnTo>
                      <a:lnTo>
                        <a:pt x="57" y="158"/>
                      </a:lnTo>
                      <a:lnTo>
                        <a:pt x="57" y="140"/>
                      </a:lnTo>
                      <a:lnTo>
                        <a:pt x="40" y="140"/>
                      </a:lnTo>
                      <a:lnTo>
                        <a:pt x="40" y="134"/>
                      </a:lnTo>
                      <a:lnTo>
                        <a:pt x="40" y="0"/>
                      </a:lnTo>
                      <a:lnTo>
                        <a:pt x="100" y="0"/>
                      </a:lnTo>
                      <a:lnTo>
                        <a:pt x="161" y="0"/>
                      </a:lnTo>
                      <a:lnTo>
                        <a:pt x="161" y="133"/>
                      </a:lnTo>
                      <a:lnTo>
                        <a:pt x="161" y="140"/>
                      </a:lnTo>
                      <a:lnTo>
                        <a:pt x="143" y="140"/>
                      </a:lnTo>
                      <a:lnTo>
                        <a:pt x="143" y="158"/>
                      </a:lnTo>
                      <a:lnTo>
                        <a:pt x="175" y="158"/>
                      </a:lnTo>
                      <a:lnTo>
                        <a:pt x="175" y="222"/>
                      </a:lnTo>
                      <a:lnTo>
                        <a:pt x="194" y="243"/>
                      </a:lnTo>
                      <a:lnTo>
                        <a:pt x="197" y="244"/>
                      </a:lnTo>
                      <a:lnTo>
                        <a:pt x="199" y="247"/>
                      </a:lnTo>
                      <a:lnTo>
                        <a:pt x="200" y="250"/>
                      </a:lnTo>
                      <a:lnTo>
                        <a:pt x="201" y="254"/>
                      </a:lnTo>
                      <a:lnTo>
                        <a:pt x="201" y="255"/>
                      </a:lnTo>
                      <a:lnTo>
                        <a:pt x="200" y="257"/>
                      </a:lnTo>
                      <a:lnTo>
                        <a:pt x="200" y="258"/>
                      </a:lnTo>
                      <a:lnTo>
                        <a:pt x="199" y="258"/>
                      </a:lnTo>
                      <a:lnTo>
                        <a:pt x="198" y="259"/>
                      </a:lnTo>
                      <a:lnTo>
                        <a:pt x="196" y="259"/>
                      </a:lnTo>
                      <a:lnTo>
                        <a:pt x="194" y="259"/>
                      </a:lnTo>
                      <a:lnTo>
                        <a:pt x="100" y="259"/>
                      </a:lnTo>
                      <a:lnTo>
                        <a:pt x="6" y="259"/>
                      </a:lnTo>
                      <a:lnTo>
                        <a:pt x="4" y="259"/>
                      </a:lnTo>
                      <a:lnTo>
                        <a:pt x="3" y="259"/>
                      </a:lnTo>
                      <a:lnTo>
                        <a:pt x="2" y="258"/>
                      </a:lnTo>
                      <a:lnTo>
                        <a:pt x="1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1" y="250"/>
                      </a:lnTo>
                      <a:lnTo>
                        <a:pt x="2" y="247"/>
                      </a:lnTo>
                      <a:lnTo>
                        <a:pt x="3" y="244"/>
                      </a:lnTo>
                      <a:lnTo>
                        <a:pt x="5" y="243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144840" y="2030040"/>
                  <a:ext cx="106560" cy="576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26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136920" y="2040840"/>
                  <a:ext cx="122400" cy="6120"/>
                </a:xfrm>
                <a:custGeom>
                  <a:avLst/>
                  <a:gdLst/>
                  <a:ahLst/>
                  <a:rect l="l" t="t" r="r" b="b"/>
                  <a:pathLst>
                    <a:path w="156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50" y="0"/>
                      </a:lnTo>
                      <a:lnTo>
                        <a:pt x="156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125760" y="2050560"/>
                  <a:ext cx="142920" cy="6120"/>
                </a:xfrm>
                <a:custGeom>
                  <a:avLst/>
                  <a:gdLst/>
                  <a:ahLst/>
                  <a:rect l="l" t="t" r="r" b="b"/>
                  <a:pathLst>
                    <a:path w="181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75" y="0"/>
                      </a:lnTo>
                      <a:lnTo>
                        <a:pt x="18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138720" y="2023560"/>
                  <a:ext cx="118800" cy="12240"/>
                </a:xfrm>
                <a:custGeom>
                  <a:avLst/>
                  <a:gdLst/>
                  <a:ahLst/>
                  <a:rect l="l" t="t" r="r" b="b"/>
                  <a:pathLst>
                    <a:path w="150" h="16">
                      <a:moveTo>
                        <a:pt x="0" y="14"/>
                      </a:moveTo>
                      <a:lnTo>
                        <a:pt x="14" y="0"/>
                      </a:lnTo>
                      <a:lnTo>
                        <a:pt x="137" y="0"/>
                      </a:lnTo>
                      <a:lnTo>
                        <a:pt x="150" y="1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146640" y="1993320"/>
                  <a:ext cx="33120" cy="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163920" y="1877400"/>
                  <a:ext cx="68400" cy="74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163920" y="1969560"/>
                  <a:ext cx="68400" cy="14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6278400" y="1859040"/>
                <a:ext cx="158760" cy="204480"/>
                <a:chOff x="6278400" y="1859040"/>
                <a:chExt cx="158760" cy="20448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6278400" y="185904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259">
                      <a:moveTo>
                        <a:pt x="5" y="242"/>
                      </a:moveTo>
                      <a:lnTo>
                        <a:pt x="25" y="220"/>
                      </a:lnTo>
                      <a:lnTo>
                        <a:pt x="25" y="158"/>
                      </a:lnTo>
                      <a:lnTo>
                        <a:pt x="56" y="158"/>
                      </a:lnTo>
                      <a:lnTo>
                        <a:pt x="56" y="140"/>
                      </a:lnTo>
                      <a:lnTo>
                        <a:pt x="39" y="140"/>
                      </a:lnTo>
                      <a:lnTo>
                        <a:pt x="39" y="134"/>
                      </a:lnTo>
                      <a:lnTo>
                        <a:pt x="39" y="0"/>
                      </a:lnTo>
                      <a:lnTo>
                        <a:pt x="99" y="0"/>
                      </a:lnTo>
                      <a:lnTo>
                        <a:pt x="160" y="0"/>
                      </a:lnTo>
                      <a:lnTo>
                        <a:pt x="160" y="133"/>
                      </a:lnTo>
                      <a:lnTo>
                        <a:pt x="160" y="140"/>
                      </a:lnTo>
                      <a:lnTo>
                        <a:pt x="143" y="140"/>
                      </a:lnTo>
                      <a:lnTo>
                        <a:pt x="143" y="158"/>
                      </a:lnTo>
                      <a:lnTo>
                        <a:pt x="174" y="158"/>
                      </a:lnTo>
                      <a:lnTo>
                        <a:pt x="174" y="221"/>
                      </a:lnTo>
                      <a:lnTo>
                        <a:pt x="193" y="242"/>
                      </a:lnTo>
                      <a:lnTo>
                        <a:pt x="195" y="244"/>
                      </a:lnTo>
                      <a:lnTo>
                        <a:pt x="197" y="246"/>
                      </a:lnTo>
                      <a:lnTo>
                        <a:pt x="198" y="249"/>
                      </a:lnTo>
                      <a:lnTo>
                        <a:pt x="199" y="252"/>
                      </a:lnTo>
                      <a:lnTo>
                        <a:pt x="199" y="254"/>
                      </a:lnTo>
                      <a:lnTo>
                        <a:pt x="198" y="256"/>
                      </a:lnTo>
                      <a:lnTo>
                        <a:pt x="198" y="257"/>
                      </a:lnTo>
                      <a:lnTo>
                        <a:pt x="197" y="257"/>
                      </a:lnTo>
                      <a:lnTo>
                        <a:pt x="196" y="259"/>
                      </a:lnTo>
                      <a:lnTo>
                        <a:pt x="194" y="259"/>
                      </a:lnTo>
                      <a:lnTo>
                        <a:pt x="193" y="259"/>
                      </a:lnTo>
                      <a:lnTo>
                        <a:pt x="99" y="259"/>
                      </a:lnTo>
                      <a:lnTo>
                        <a:pt x="6" y="259"/>
                      </a:lnTo>
                      <a:lnTo>
                        <a:pt x="4" y="259"/>
                      </a:lnTo>
                      <a:lnTo>
                        <a:pt x="3" y="259"/>
                      </a:lnTo>
                      <a:lnTo>
                        <a:pt x="2" y="257"/>
                      </a:lnTo>
                      <a:lnTo>
                        <a:pt x="1" y="257"/>
                      </a:lnTo>
                      <a:lnTo>
                        <a:pt x="0" y="256"/>
                      </a:lnTo>
                      <a:lnTo>
                        <a:pt x="0" y="254"/>
                      </a:lnTo>
                      <a:lnTo>
                        <a:pt x="0" y="252"/>
                      </a:lnTo>
                      <a:lnTo>
                        <a:pt x="1" y="249"/>
                      </a:lnTo>
                      <a:lnTo>
                        <a:pt x="2" y="246"/>
                      </a:lnTo>
                      <a:lnTo>
                        <a:pt x="3" y="244"/>
                      </a:lnTo>
                      <a:lnTo>
                        <a:pt x="5" y="242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305400" y="2028600"/>
                  <a:ext cx="104760" cy="6120"/>
                </a:xfrm>
                <a:custGeom>
                  <a:avLst/>
                  <a:gdLst/>
                  <a:ahLst/>
                  <a:rect l="l" t="t" r="r" b="b"/>
                  <a:pathLst>
                    <a:path w="132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26" y="0"/>
                      </a:lnTo>
                      <a:lnTo>
                        <a:pt x="132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295680" y="2039760"/>
                  <a:ext cx="123840" cy="6120"/>
                </a:xfrm>
                <a:custGeom>
                  <a:avLst/>
                  <a:gdLst/>
                  <a:ahLst/>
                  <a:rect l="l" t="t" r="r" b="b"/>
                  <a:pathLst>
                    <a:path w="155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49" y="0"/>
                      </a:lnTo>
                      <a:lnTo>
                        <a:pt x="155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284520" y="2050920"/>
                  <a:ext cx="144720" cy="4320"/>
                </a:xfrm>
                <a:custGeom>
                  <a:avLst/>
                  <a:gdLst/>
                  <a:ahLst/>
                  <a:rect l="l" t="t" r="r" b="b"/>
                  <a:pathLst>
                    <a:path w="180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73" y="0"/>
                      </a:lnTo>
                      <a:lnTo>
                        <a:pt x="18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298920" y="1992240"/>
                  <a:ext cx="117360" cy="42480"/>
                </a:xfrm>
                <a:custGeom>
                  <a:avLst/>
                  <a:gdLst/>
                  <a:ahLst/>
                  <a:rect l="l" t="t" r="r" b="b"/>
                  <a:pathLst>
                    <a:path w="149" h="52">
                      <a:moveTo>
                        <a:pt x="0" y="51"/>
                      </a:moveTo>
                      <a:lnTo>
                        <a:pt x="13" y="37"/>
                      </a:lnTo>
                      <a:lnTo>
                        <a:pt x="136" y="37"/>
                      </a:lnTo>
                      <a:lnTo>
                        <a:pt x="149" y="52"/>
                      </a:lnTo>
                      <a:lnTo>
                        <a:pt x="0" y="51"/>
                      </a:lnTo>
                      <a:close/>
                      <a:moveTo>
                        <a:pt x="52" y="0"/>
                      </a:moveTo>
                      <a:lnTo>
                        <a:pt x="52" y="7"/>
                      </a:lnTo>
                      <a:lnTo>
                        <a:pt x="10" y="7"/>
                      </a:lnTo>
                      <a:lnTo>
                        <a:pt x="10" y="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322680" y="1876320"/>
                  <a:ext cx="68400" cy="107640"/>
                </a:xfrm>
                <a:custGeom>
                  <a:avLst/>
                  <a:gdLst/>
                  <a:ahLst/>
                  <a:rect l="l" t="t" r="r" b="b"/>
                  <a:pathLst>
                    <a:path w="87" h="135">
                      <a:moveTo>
                        <a:pt x="87" y="0"/>
                      </a:moveTo>
                      <a:lnTo>
                        <a:pt x="87" y="93"/>
                      </a:lnTo>
                      <a:lnTo>
                        <a:pt x="0" y="93"/>
                      </a:lnTo>
                      <a:lnTo>
                        <a:pt x="0" y="0"/>
                      </a:lnTo>
                      <a:lnTo>
                        <a:pt x="87" y="0"/>
                      </a:lnTo>
                      <a:close/>
                      <a:moveTo>
                        <a:pt x="87" y="117"/>
                      </a:moveTo>
                      <a:lnTo>
                        <a:pt x="0" y="117"/>
                      </a:lnTo>
                      <a:lnTo>
                        <a:pt x="0" y="135"/>
                      </a:lnTo>
                      <a:lnTo>
                        <a:pt x="87" y="135"/>
                      </a:lnTo>
                      <a:lnTo>
                        <a:pt x="87" y="11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278400" y="185904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259">
                      <a:moveTo>
                        <a:pt x="5" y="242"/>
                      </a:moveTo>
                      <a:lnTo>
                        <a:pt x="25" y="220"/>
                      </a:lnTo>
                      <a:lnTo>
                        <a:pt x="25" y="158"/>
                      </a:lnTo>
                      <a:lnTo>
                        <a:pt x="56" y="158"/>
                      </a:lnTo>
                      <a:lnTo>
                        <a:pt x="56" y="140"/>
                      </a:lnTo>
                      <a:lnTo>
                        <a:pt x="39" y="140"/>
                      </a:lnTo>
                      <a:lnTo>
                        <a:pt x="39" y="134"/>
                      </a:lnTo>
                      <a:lnTo>
                        <a:pt x="39" y="0"/>
                      </a:lnTo>
                      <a:lnTo>
                        <a:pt x="99" y="0"/>
                      </a:lnTo>
                      <a:lnTo>
                        <a:pt x="160" y="0"/>
                      </a:lnTo>
                      <a:lnTo>
                        <a:pt x="160" y="133"/>
                      </a:lnTo>
                      <a:lnTo>
                        <a:pt x="160" y="140"/>
                      </a:lnTo>
                      <a:lnTo>
                        <a:pt x="143" y="140"/>
                      </a:lnTo>
                      <a:lnTo>
                        <a:pt x="143" y="158"/>
                      </a:lnTo>
                      <a:lnTo>
                        <a:pt x="174" y="158"/>
                      </a:lnTo>
                      <a:lnTo>
                        <a:pt x="174" y="221"/>
                      </a:lnTo>
                      <a:lnTo>
                        <a:pt x="193" y="242"/>
                      </a:lnTo>
                      <a:lnTo>
                        <a:pt x="195" y="244"/>
                      </a:lnTo>
                      <a:lnTo>
                        <a:pt x="197" y="246"/>
                      </a:lnTo>
                      <a:lnTo>
                        <a:pt x="198" y="249"/>
                      </a:lnTo>
                      <a:lnTo>
                        <a:pt x="199" y="252"/>
                      </a:lnTo>
                      <a:lnTo>
                        <a:pt x="199" y="254"/>
                      </a:lnTo>
                      <a:lnTo>
                        <a:pt x="198" y="256"/>
                      </a:lnTo>
                      <a:lnTo>
                        <a:pt x="198" y="257"/>
                      </a:lnTo>
                      <a:lnTo>
                        <a:pt x="197" y="257"/>
                      </a:lnTo>
                      <a:lnTo>
                        <a:pt x="196" y="259"/>
                      </a:lnTo>
                      <a:lnTo>
                        <a:pt x="194" y="259"/>
                      </a:lnTo>
                      <a:lnTo>
                        <a:pt x="193" y="259"/>
                      </a:lnTo>
                      <a:lnTo>
                        <a:pt x="99" y="259"/>
                      </a:lnTo>
                      <a:lnTo>
                        <a:pt x="6" y="259"/>
                      </a:lnTo>
                      <a:lnTo>
                        <a:pt x="4" y="259"/>
                      </a:lnTo>
                      <a:lnTo>
                        <a:pt x="3" y="259"/>
                      </a:lnTo>
                      <a:lnTo>
                        <a:pt x="2" y="257"/>
                      </a:lnTo>
                      <a:lnTo>
                        <a:pt x="1" y="257"/>
                      </a:lnTo>
                      <a:lnTo>
                        <a:pt x="0" y="256"/>
                      </a:lnTo>
                      <a:lnTo>
                        <a:pt x="0" y="254"/>
                      </a:lnTo>
                      <a:lnTo>
                        <a:pt x="0" y="252"/>
                      </a:lnTo>
                      <a:lnTo>
                        <a:pt x="1" y="249"/>
                      </a:lnTo>
                      <a:lnTo>
                        <a:pt x="2" y="246"/>
                      </a:lnTo>
                      <a:lnTo>
                        <a:pt x="3" y="244"/>
                      </a:lnTo>
                      <a:lnTo>
                        <a:pt x="5" y="24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305400" y="2028600"/>
                  <a:ext cx="104760" cy="6120"/>
                </a:xfrm>
                <a:custGeom>
                  <a:avLst/>
                  <a:gdLst/>
                  <a:ahLst/>
                  <a:rect l="l" t="t" r="r" b="b"/>
                  <a:pathLst>
                    <a:path w="132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26" y="0"/>
                      </a:lnTo>
                      <a:lnTo>
                        <a:pt x="132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295680" y="2039760"/>
                  <a:ext cx="123840" cy="6120"/>
                </a:xfrm>
                <a:custGeom>
                  <a:avLst/>
                  <a:gdLst/>
                  <a:ahLst/>
                  <a:rect l="l" t="t" r="r" b="b"/>
                  <a:pathLst>
                    <a:path w="155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49" y="0"/>
                      </a:lnTo>
                      <a:lnTo>
                        <a:pt x="155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284520" y="2050920"/>
                  <a:ext cx="144720" cy="4320"/>
                </a:xfrm>
                <a:custGeom>
                  <a:avLst/>
                  <a:gdLst/>
                  <a:ahLst/>
                  <a:rect l="l" t="t" r="r" b="b"/>
                  <a:pathLst>
                    <a:path w="180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73" y="0"/>
                      </a:lnTo>
                      <a:lnTo>
                        <a:pt x="18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298920" y="2022480"/>
                  <a:ext cx="117360" cy="12240"/>
                </a:xfrm>
                <a:custGeom>
                  <a:avLst/>
                  <a:gdLst/>
                  <a:ahLst/>
                  <a:rect l="l" t="t" r="r" b="b"/>
                  <a:pathLst>
                    <a:path w="149" h="15">
                      <a:moveTo>
                        <a:pt x="0" y="14"/>
                      </a:moveTo>
                      <a:lnTo>
                        <a:pt x="13" y="0"/>
                      </a:lnTo>
                      <a:lnTo>
                        <a:pt x="136" y="0"/>
                      </a:lnTo>
                      <a:lnTo>
                        <a:pt x="149" y="1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306840" y="1992240"/>
                  <a:ext cx="33480" cy="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322680" y="1876320"/>
                  <a:ext cx="68400" cy="74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322680" y="1969920"/>
                  <a:ext cx="68400" cy="14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6437160" y="1860480"/>
                <a:ext cx="158760" cy="204480"/>
                <a:chOff x="6437160" y="1860480"/>
                <a:chExt cx="158760" cy="20448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643716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0" h="259">
                      <a:moveTo>
                        <a:pt x="5" y="243"/>
                      </a:moveTo>
                      <a:lnTo>
                        <a:pt x="27" y="220"/>
                      </a:lnTo>
                      <a:lnTo>
                        <a:pt x="27" y="158"/>
                      </a:lnTo>
                      <a:lnTo>
                        <a:pt x="57" y="158"/>
                      </a:lnTo>
                      <a:lnTo>
                        <a:pt x="57" y="140"/>
                      </a:lnTo>
                      <a:lnTo>
                        <a:pt x="40" y="140"/>
                      </a:lnTo>
                      <a:lnTo>
                        <a:pt x="40" y="134"/>
                      </a:lnTo>
                      <a:lnTo>
                        <a:pt x="40" y="0"/>
                      </a:lnTo>
                      <a:lnTo>
                        <a:pt x="100" y="0"/>
                      </a:lnTo>
                      <a:lnTo>
                        <a:pt x="161" y="0"/>
                      </a:lnTo>
                      <a:lnTo>
                        <a:pt x="161" y="133"/>
                      </a:lnTo>
                      <a:lnTo>
                        <a:pt x="161" y="140"/>
                      </a:lnTo>
                      <a:lnTo>
                        <a:pt x="144" y="140"/>
                      </a:lnTo>
                      <a:lnTo>
                        <a:pt x="144" y="158"/>
                      </a:lnTo>
                      <a:lnTo>
                        <a:pt x="175" y="158"/>
                      </a:lnTo>
                      <a:lnTo>
                        <a:pt x="175" y="222"/>
                      </a:lnTo>
                      <a:lnTo>
                        <a:pt x="194" y="243"/>
                      </a:lnTo>
                      <a:lnTo>
                        <a:pt x="196" y="244"/>
                      </a:lnTo>
                      <a:lnTo>
                        <a:pt x="198" y="247"/>
                      </a:lnTo>
                      <a:lnTo>
                        <a:pt x="199" y="250"/>
                      </a:lnTo>
                      <a:lnTo>
                        <a:pt x="200" y="254"/>
                      </a:lnTo>
                      <a:lnTo>
                        <a:pt x="200" y="255"/>
                      </a:lnTo>
                      <a:lnTo>
                        <a:pt x="199" y="257"/>
                      </a:lnTo>
                      <a:lnTo>
                        <a:pt x="199" y="258"/>
                      </a:lnTo>
                      <a:lnTo>
                        <a:pt x="198" y="258"/>
                      </a:lnTo>
                      <a:lnTo>
                        <a:pt x="197" y="259"/>
                      </a:lnTo>
                      <a:lnTo>
                        <a:pt x="195" y="259"/>
                      </a:lnTo>
                      <a:lnTo>
                        <a:pt x="194" y="259"/>
                      </a:lnTo>
                      <a:lnTo>
                        <a:pt x="100" y="259"/>
                      </a:lnTo>
                      <a:lnTo>
                        <a:pt x="7" y="259"/>
                      </a:lnTo>
                      <a:lnTo>
                        <a:pt x="4" y="259"/>
                      </a:lnTo>
                      <a:lnTo>
                        <a:pt x="3" y="259"/>
                      </a:lnTo>
                      <a:lnTo>
                        <a:pt x="2" y="258"/>
                      </a:lnTo>
                      <a:lnTo>
                        <a:pt x="1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1" y="250"/>
                      </a:lnTo>
                      <a:lnTo>
                        <a:pt x="2" y="247"/>
                      </a:lnTo>
                      <a:lnTo>
                        <a:pt x="3" y="244"/>
                      </a:lnTo>
                      <a:lnTo>
                        <a:pt x="5" y="243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462360" y="2030040"/>
                  <a:ext cx="106560" cy="576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26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454440" y="2040840"/>
                  <a:ext cx="122400" cy="6120"/>
                </a:xfrm>
                <a:custGeom>
                  <a:avLst/>
                  <a:gdLst/>
                  <a:ahLst/>
                  <a:rect l="l" t="t" r="r" b="b"/>
                  <a:pathLst>
                    <a:path w="155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49" y="0"/>
                      </a:lnTo>
                      <a:lnTo>
                        <a:pt x="155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445080" y="2050560"/>
                  <a:ext cx="141120" cy="6120"/>
                </a:xfrm>
                <a:custGeom>
                  <a:avLst/>
                  <a:gdLst/>
                  <a:ahLst/>
                  <a:rect l="l" t="t" r="r" b="b"/>
                  <a:pathLst>
                    <a:path w="179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73" y="0"/>
                      </a:lnTo>
                      <a:lnTo>
                        <a:pt x="179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457680" y="1993320"/>
                  <a:ext cx="117360" cy="42480"/>
                </a:xfrm>
                <a:custGeom>
                  <a:avLst/>
                  <a:gdLst/>
                  <a:ahLst/>
                  <a:rect l="l" t="t" r="r" b="b"/>
                  <a:pathLst>
                    <a:path w="148" h="53">
                      <a:moveTo>
                        <a:pt x="0" y="51"/>
                      </a:moveTo>
                      <a:lnTo>
                        <a:pt x="12" y="37"/>
                      </a:lnTo>
                      <a:lnTo>
                        <a:pt x="135" y="37"/>
                      </a:lnTo>
                      <a:lnTo>
                        <a:pt x="148" y="53"/>
                      </a:lnTo>
                      <a:lnTo>
                        <a:pt x="0" y="51"/>
                      </a:lnTo>
                      <a:close/>
                      <a:moveTo>
                        <a:pt x="52" y="0"/>
                      </a:moveTo>
                      <a:lnTo>
                        <a:pt x="52" y="8"/>
                      </a:lnTo>
                      <a:lnTo>
                        <a:pt x="9" y="8"/>
                      </a:lnTo>
                      <a:lnTo>
                        <a:pt x="9" y="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481440" y="1877400"/>
                  <a:ext cx="68400" cy="106200"/>
                </a:xfrm>
                <a:custGeom>
                  <a:avLst/>
                  <a:gdLst/>
                  <a:ahLst/>
                  <a:rect l="l" t="t" r="r" b="b"/>
                  <a:pathLst>
                    <a:path w="87" h="135">
                      <a:moveTo>
                        <a:pt x="87" y="0"/>
                      </a:moveTo>
                      <a:lnTo>
                        <a:pt x="87" y="93"/>
                      </a:lnTo>
                      <a:lnTo>
                        <a:pt x="0" y="93"/>
                      </a:lnTo>
                      <a:lnTo>
                        <a:pt x="0" y="0"/>
                      </a:lnTo>
                      <a:lnTo>
                        <a:pt x="87" y="0"/>
                      </a:lnTo>
                      <a:close/>
                      <a:moveTo>
                        <a:pt x="87" y="117"/>
                      </a:moveTo>
                      <a:lnTo>
                        <a:pt x="0" y="117"/>
                      </a:lnTo>
                      <a:lnTo>
                        <a:pt x="0" y="135"/>
                      </a:lnTo>
                      <a:lnTo>
                        <a:pt x="87" y="135"/>
                      </a:lnTo>
                      <a:lnTo>
                        <a:pt x="87" y="11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43716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0" h="259">
                      <a:moveTo>
                        <a:pt x="5" y="243"/>
                      </a:moveTo>
                      <a:lnTo>
                        <a:pt x="27" y="220"/>
                      </a:lnTo>
                      <a:lnTo>
                        <a:pt x="27" y="158"/>
                      </a:lnTo>
                      <a:lnTo>
                        <a:pt x="57" y="158"/>
                      </a:lnTo>
                      <a:lnTo>
                        <a:pt x="57" y="140"/>
                      </a:lnTo>
                      <a:lnTo>
                        <a:pt x="40" y="140"/>
                      </a:lnTo>
                      <a:lnTo>
                        <a:pt x="40" y="134"/>
                      </a:lnTo>
                      <a:lnTo>
                        <a:pt x="40" y="0"/>
                      </a:lnTo>
                      <a:lnTo>
                        <a:pt x="100" y="0"/>
                      </a:lnTo>
                      <a:lnTo>
                        <a:pt x="161" y="0"/>
                      </a:lnTo>
                      <a:lnTo>
                        <a:pt x="161" y="133"/>
                      </a:lnTo>
                      <a:lnTo>
                        <a:pt x="161" y="140"/>
                      </a:lnTo>
                      <a:lnTo>
                        <a:pt x="144" y="140"/>
                      </a:lnTo>
                      <a:lnTo>
                        <a:pt x="144" y="158"/>
                      </a:lnTo>
                      <a:lnTo>
                        <a:pt x="175" y="158"/>
                      </a:lnTo>
                      <a:lnTo>
                        <a:pt x="175" y="222"/>
                      </a:lnTo>
                      <a:lnTo>
                        <a:pt x="194" y="243"/>
                      </a:lnTo>
                      <a:lnTo>
                        <a:pt x="196" y="244"/>
                      </a:lnTo>
                      <a:lnTo>
                        <a:pt x="198" y="247"/>
                      </a:lnTo>
                      <a:lnTo>
                        <a:pt x="199" y="250"/>
                      </a:lnTo>
                      <a:lnTo>
                        <a:pt x="200" y="254"/>
                      </a:lnTo>
                      <a:lnTo>
                        <a:pt x="200" y="255"/>
                      </a:lnTo>
                      <a:lnTo>
                        <a:pt x="199" y="257"/>
                      </a:lnTo>
                      <a:lnTo>
                        <a:pt x="199" y="258"/>
                      </a:lnTo>
                      <a:lnTo>
                        <a:pt x="198" y="258"/>
                      </a:lnTo>
                      <a:lnTo>
                        <a:pt x="197" y="259"/>
                      </a:lnTo>
                      <a:lnTo>
                        <a:pt x="195" y="259"/>
                      </a:lnTo>
                      <a:lnTo>
                        <a:pt x="194" y="259"/>
                      </a:lnTo>
                      <a:lnTo>
                        <a:pt x="100" y="259"/>
                      </a:lnTo>
                      <a:lnTo>
                        <a:pt x="7" y="259"/>
                      </a:lnTo>
                      <a:lnTo>
                        <a:pt x="4" y="259"/>
                      </a:lnTo>
                      <a:lnTo>
                        <a:pt x="3" y="259"/>
                      </a:lnTo>
                      <a:lnTo>
                        <a:pt x="2" y="258"/>
                      </a:lnTo>
                      <a:lnTo>
                        <a:pt x="1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1" y="250"/>
                      </a:lnTo>
                      <a:lnTo>
                        <a:pt x="2" y="247"/>
                      </a:lnTo>
                      <a:lnTo>
                        <a:pt x="3" y="244"/>
                      </a:lnTo>
                      <a:lnTo>
                        <a:pt x="5" y="243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462360" y="2030040"/>
                  <a:ext cx="106560" cy="576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26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454440" y="2040840"/>
                  <a:ext cx="122400" cy="6120"/>
                </a:xfrm>
                <a:custGeom>
                  <a:avLst/>
                  <a:gdLst/>
                  <a:ahLst/>
                  <a:rect l="l" t="t" r="r" b="b"/>
                  <a:pathLst>
                    <a:path w="155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49" y="0"/>
                      </a:lnTo>
                      <a:lnTo>
                        <a:pt x="155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445080" y="2050560"/>
                  <a:ext cx="141120" cy="6120"/>
                </a:xfrm>
                <a:custGeom>
                  <a:avLst/>
                  <a:gdLst/>
                  <a:ahLst/>
                  <a:rect l="l" t="t" r="r" b="b"/>
                  <a:pathLst>
                    <a:path w="179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73" y="0"/>
                      </a:lnTo>
                      <a:lnTo>
                        <a:pt x="179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457680" y="2023560"/>
                  <a:ext cx="117360" cy="12240"/>
                </a:xfrm>
                <a:custGeom>
                  <a:avLst/>
                  <a:gdLst/>
                  <a:ahLst/>
                  <a:rect l="l" t="t" r="r" b="b"/>
                  <a:pathLst>
                    <a:path w="148" h="16">
                      <a:moveTo>
                        <a:pt x="0" y="14"/>
                      </a:moveTo>
                      <a:lnTo>
                        <a:pt x="12" y="0"/>
                      </a:lnTo>
                      <a:lnTo>
                        <a:pt x="135" y="0"/>
                      </a:lnTo>
                      <a:lnTo>
                        <a:pt x="148" y="1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464160" y="1993320"/>
                  <a:ext cx="34920" cy="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481440" y="1877400"/>
                  <a:ext cx="68400" cy="74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481440" y="1969560"/>
                  <a:ext cx="68400" cy="14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595920" y="1860480"/>
                <a:ext cx="158760" cy="204480"/>
                <a:chOff x="6595920" y="1860480"/>
                <a:chExt cx="158760" cy="2044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59592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2" h="259">
                      <a:moveTo>
                        <a:pt x="6" y="243"/>
                      </a:moveTo>
                      <a:lnTo>
                        <a:pt x="26" y="220"/>
                      </a:lnTo>
                      <a:lnTo>
                        <a:pt x="26" y="158"/>
                      </a:lnTo>
                      <a:lnTo>
                        <a:pt x="57" y="158"/>
                      </a:lnTo>
                      <a:lnTo>
                        <a:pt x="57" y="140"/>
                      </a:lnTo>
                      <a:lnTo>
                        <a:pt x="40" y="140"/>
                      </a:lnTo>
                      <a:lnTo>
                        <a:pt x="40" y="134"/>
                      </a:lnTo>
                      <a:lnTo>
                        <a:pt x="40" y="0"/>
                      </a:lnTo>
                      <a:lnTo>
                        <a:pt x="101" y="0"/>
                      </a:lnTo>
                      <a:lnTo>
                        <a:pt x="161" y="0"/>
                      </a:lnTo>
                      <a:lnTo>
                        <a:pt x="161" y="133"/>
                      </a:lnTo>
                      <a:lnTo>
                        <a:pt x="161" y="140"/>
                      </a:lnTo>
                      <a:lnTo>
                        <a:pt x="144" y="140"/>
                      </a:lnTo>
                      <a:lnTo>
                        <a:pt x="144" y="158"/>
                      </a:lnTo>
                      <a:lnTo>
                        <a:pt x="175" y="158"/>
                      </a:lnTo>
                      <a:lnTo>
                        <a:pt x="175" y="222"/>
                      </a:lnTo>
                      <a:lnTo>
                        <a:pt x="195" y="243"/>
                      </a:lnTo>
                      <a:lnTo>
                        <a:pt x="197" y="244"/>
                      </a:lnTo>
                      <a:lnTo>
                        <a:pt x="200" y="247"/>
                      </a:lnTo>
                      <a:lnTo>
                        <a:pt x="201" y="250"/>
                      </a:lnTo>
                      <a:lnTo>
                        <a:pt x="202" y="254"/>
                      </a:lnTo>
                      <a:lnTo>
                        <a:pt x="202" y="255"/>
                      </a:lnTo>
                      <a:lnTo>
                        <a:pt x="201" y="257"/>
                      </a:lnTo>
                      <a:lnTo>
                        <a:pt x="201" y="258"/>
                      </a:lnTo>
                      <a:lnTo>
                        <a:pt x="200" y="258"/>
                      </a:lnTo>
                      <a:lnTo>
                        <a:pt x="198" y="259"/>
                      </a:lnTo>
                      <a:lnTo>
                        <a:pt x="196" y="259"/>
                      </a:lnTo>
                      <a:lnTo>
                        <a:pt x="195" y="259"/>
                      </a:lnTo>
                      <a:lnTo>
                        <a:pt x="101" y="259"/>
                      </a:lnTo>
                      <a:lnTo>
                        <a:pt x="7" y="259"/>
                      </a:lnTo>
                      <a:lnTo>
                        <a:pt x="5" y="259"/>
                      </a:lnTo>
                      <a:lnTo>
                        <a:pt x="4" y="259"/>
                      </a:lnTo>
                      <a:lnTo>
                        <a:pt x="3" y="258"/>
                      </a:lnTo>
                      <a:lnTo>
                        <a:pt x="2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2" y="250"/>
                      </a:lnTo>
                      <a:lnTo>
                        <a:pt x="3" y="247"/>
                      </a:lnTo>
                      <a:lnTo>
                        <a:pt x="4" y="244"/>
                      </a:lnTo>
                      <a:lnTo>
                        <a:pt x="6" y="243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22920" y="2030040"/>
                  <a:ext cx="104760" cy="576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26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613200" y="2040840"/>
                  <a:ext cx="123840" cy="6120"/>
                </a:xfrm>
                <a:custGeom>
                  <a:avLst/>
                  <a:gdLst/>
                  <a:ahLst/>
                  <a:rect l="l" t="t" r="r" b="b"/>
                  <a:pathLst>
                    <a:path w="155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49" y="0"/>
                      </a:lnTo>
                      <a:lnTo>
                        <a:pt x="155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603840" y="2050560"/>
                  <a:ext cx="142920" cy="6120"/>
                </a:xfrm>
                <a:custGeom>
                  <a:avLst/>
                  <a:gdLst/>
                  <a:ahLst/>
                  <a:rect l="l" t="t" r="r" b="b"/>
                  <a:pathLst>
                    <a:path w="181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74" y="0"/>
                      </a:lnTo>
                      <a:lnTo>
                        <a:pt x="18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616440" y="1993320"/>
                  <a:ext cx="117360" cy="42480"/>
                </a:xfrm>
                <a:custGeom>
                  <a:avLst/>
                  <a:gdLst/>
                  <a:ahLst/>
                  <a:rect l="l" t="t" r="r" b="b"/>
                  <a:pathLst>
                    <a:path w="149" h="53">
                      <a:moveTo>
                        <a:pt x="0" y="51"/>
                      </a:moveTo>
                      <a:lnTo>
                        <a:pt x="13" y="37"/>
                      </a:lnTo>
                      <a:lnTo>
                        <a:pt x="136" y="37"/>
                      </a:lnTo>
                      <a:lnTo>
                        <a:pt x="149" y="53"/>
                      </a:lnTo>
                      <a:lnTo>
                        <a:pt x="0" y="51"/>
                      </a:lnTo>
                      <a:close/>
                      <a:moveTo>
                        <a:pt x="53" y="0"/>
                      </a:moveTo>
                      <a:lnTo>
                        <a:pt x="53" y="8"/>
                      </a:lnTo>
                      <a:lnTo>
                        <a:pt x="10" y="8"/>
                      </a:lnTo>
                      <a:lnTo>
                        <a:pt x="10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640200" y="1877400"/>
                  <a:ext cx="69840" cy="106200"/>
                </a:xfrm>
                <a:custGeom>
                  <a:avLst/>
                  <a:gdLst/>
                  <a:ahLst/>
                  <a:rect l="l" t="t" r="r" b="b"/>
                  <a:pathLst>
                    <a:path w="87" h="135">
                      <a:moveTo>
                        <a:pt x="87" y="0"/>
                      </a:moveTo>
                      <a:lnTo>
                        <a:pt x="87" y="93"/>
                      </a:lnTo>
                      <a:lnTo>
                        <a:pt x="0" y="93"/>
                      </a:lnTo>
                      <a:lnTo>
                        <a:pt x="0" y="0"/>
                      </a:lnTo>
                      <a:lnTo>
                        <a:pt x="87" y="0"/>
                      </a:lnTo>
                      <a:close/>
                      <a:moveTo>
                        <a:pt x="87" y="117"/>
                      </a:moveTo>
                      <a:lnTo>
                        <a:pt x="0" y="117"/>
                      </a:lnTo>
                      <a:lnTo>
                        <a:pt x="0" y="135"/>
                      </a:lnTo>
                      <a:lnTo>
                        <a:pt x="87" y="135"/>
                      </a:lnTo>
                      <a:lnTo>
                        <a:pt x="87" y="11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59592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2" h="259">
                      <a:moveTo>
                        <a:pt x="6" y="243"/>
                      </a:moveTo>
                      <a:lnTo>
                        <a:pt x="26" y="220"/>
                      </a:lnTo>
                      <a:lnTo>
                        <a:pt x="26" y="158"/>
                      </a:lnTo>
                      <a:lnTo>
                        <a:pt x="57" y="158"/>
                      </a:lnTo>
                      <a:lnTo>
                        <a:pt x="57" y="140"/>
                      </a:lnTo>
                      <a:lnTo>
                        <a:pt x="40" y="140"/>
                      </a:lnTo>
                      <a:lnTo>
                        <a:pt x="40" y="134"/>
                      </a:lnTo>
                      <a:lnTo>
                        <a:pt x="40" y="0"/>
                      </a:lnTo>
                      <a:lnTo>
                        <a:pt x="101" y="0"/>
                      </a:lnTo>
                      <a:lnTo>
                        <a:pt x="161" y="0"/>
                      </a:lnTo>
                      <a:lnTo>
                        <a:pt x="161" y="133"/>
                      </a:lnTo>
                      <a:lnTo>
                        <a:pt x="161" y="140"/>
                      </a:lnTo>
                      <a:lnTo>
                        <a:pt x="144" y="140"/>
                      </a:lnTo>
                      <a:lnTo>
                        <a:pt x="144" y="158"/>
                      </a:lnTo>
                      <a:lnTo>
                        <a:pt x="175" y="158"/>
                      </a:lnTo>
                      <a:lnTo>
                        <a:pt x="175" y="222"/>
                      </a:lnTo>
                      <a:lnTo>
                        <a:pt x="195" y="243"/>
                      </a:lnTo>
                      <a:lnTo>
                        <a:pt x="197" y="244"/>
                      </a:lnTo>
                      <a:lnTo>
                        <a:pt x="200" y="247"/>
                      </a:lnTo>
                      <a:lnTo>
                        <a:pt x="201" y="250"/>
                      </a:lnTo>
                      <a:lnTo>
                        <a:pt x="202" y="254"/>
                      </a:lnTo>
                      <a:lnTo>
                        <a:pt x="202" y="255"/>
                      </a:lnTo>
                      <a:lnTo>
                        <a:pt x="201" y="257"/>
                      </a:lnTo>
                      <a:lnTo>
                        <a:pt x="201" y="258"/>
                      </a:lnTo>
                      <a:lnTo>
                        <a:pt x="200" y="258"/>
                      </a:lnTo>
                      <a:lnTo>
                        <a:pt x="198" y="259"/>
                      </a:lnTo>
                      <a:lnTo>
                        <a:pt x="196" y="259"/>
                      </a:lnTo>
                      <a:lnTo>
                        <a:pt x="195" y="259"/>
                      </a:lnTo>
                      <a:lnTo>
                        <a:pt x="101" y="259"/>
                      </a:lnTo>
                      <a:lnTo>
                        <a:pt x="7" y="259"/>
                      </a:lnTo>
                      <a:lnTo>
                        <a:pt x="5" y="259"/>
                      </a:lnTo>
                      <a:lnTo>
                        <a:pt x="4" y="259"/>
                      </a:lnTo>
                      <a:lnTo>
                        <a:pt x="3" y="258"/>
                      </a:lnTo>
                      <a:lnTo>
                        <a:pt x="2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2" y="250"/>
                      </a:lnTo>
                      <a:lnTo>
                        <a:pt x="3" y="247"/>
                      </a:lnTo>
                      <a:lnTo>
                        <a:pt x="4" y="244"/>
                      </a:lnTo>
                      <a:lnTo>
                        <a:pt x="6" y="243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622920" y="2030040"/>
                  <a:ext cx="104760" cy="576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26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613200" y="2040840"/>
                  <a:ext cx="123840" cy="6120"/>
                </a:xfrm>
                <a:custGeom>
                  <a:avLst/>
                  <a:gdLst/>
                  <a:ahLst/>
                  <a:rect l="l" t="t" r="r" b="b"/>
                  <a:pathLst>
                    <a:path w="155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49" y="0"/>
                      </a:lnTo>
                      <a:lnTo>
                        <a:pt x="155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603840" y="2050560"/>
                  <a:ext cx="142920" cy="6120"/>
                </a:xfrm>
                <a:custGeom>
                  <a:avLst/>
                  <a:gdLst/>
                  <a:ahLst/>
                  <a:rect l="l" t="t" r="r" b="b"/>
                  <a:pathLst>
                    <a:path w="181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74" y="0"/>
                      </a:lnTo>
                      <a:lnTo>
                        <a:pt x="18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616440" y="2023560"/>
                  <a:ext cx="117360" cy="12240"/>
                </a:xfrm>
                <a:custGeom>
                  <a:avLst/>
                  <a:gdLst/>
                  <a:ahLst/>
                  <a:rect l="l" t="t" r="r" b="b"/>
                  <a:pathLst>
                    <a:path w="149" h="16">
                      <a:moveTo>
                        <a:pt x="0" y="14"/>
                      </a:moveTo>
                      <a:lnTo>
                        <a:pt x="13" y="0"/>
                      </a:lnTo>
                      <a:lnTo>
                        <a:pt x="136" y="0"/>
                      </a:lnTo>
                      <a:lnTo>
                        <a:pt x="149" y="1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624360" y="1993320"/>
                  <a:ext cx="33480" cy="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640200" y="1877400"/>
                  <a:ext cx="69840" cy="74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640200" y="1969560"/>
                  <a:ext cx="69840" cy="14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6754680" y="1860480"/>
                <a:ext cx="158760" cy="204480"/>
                <a:chOff x="6754680" y="1860480"/>
                <a:chExt cx="158760" cy="2044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675468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259">
                      <a:moveTo>
                        <a:pt x="5" y="243"/>
                      </a:moveTo>
                      <a:lnTo>
                        <a:pt x="25" y="220"/>
                      </a:lnTo>
                      <a:lnTo>
                        <a:pt x="25" y="158"/>
                      </a:lnTo>
                      <a:lnTo>
                        <a:pt x="56" y="158"/>
                      </a:lnTo>
                      <a:lnTo>
                        <a:pt x="56" y="140"/>
                      </a:lnTo>
                      <a:lnTo>
                        <a:pt x="39" y="140"/>
                      </a:lnTo>
                      <a:lnTo>
                        <a:pt x="39" y="134"/>
                      </a:lnTo>
                      <a:lnTo>
                        <a:pt x="39" y="0"/>
                      </a:lnTo>
                      <a:lnTo>
                        <a:pt x="98" y="0"/>
                      </a:lnTo>
                      <a:lnTo>
                        <a:pt x="160" y="0"/>
                      </a:lnTo>
                      <a:lnTo>
                        <a:pt x="160" y="133"/>
                      </a:lnTo>
                      <a:lnTo>
                        <a:pt x="160" y="140"/>
                      </a:lnTo>
                      <a:lnTo>
                        <a:pt x="143" y="140"/>
                      </a:lnTo>
                      <a:lnTo>
                        <a:pt x="143" y="158"/>
                      </a:lnTo>
                      <a:lnTo>
                        <a:pt x="174" y="158"/>
                      </a:lnTo>
                      <a:lnTo>
                        <a:pt x="174" y="222"/>
                      </a:lnTo>
                      <a:lnTo>
                        <a:pt x="193" y="243"/>
                      </a:lnTo>
                      <a:lnTo>
                        <a:pt x="195" y="244"/>
                      </a:lnTo>
                      <a:lnTo>
                        <a:pt x="197" y="247"/>
                      </a:lnTo>
                      <a:lnTo>
                        <a:pt x="198" y="250"/>
                      </a:lnTo>
                      <a:lnTo>
                        <a:pt x="199" y="254"/>
                      </a:lnTo>
                      <a:lnTo>
                        <a:pt x="199" y="255"/>
                      </a:lnTo>
                      <a:lnTo>
                        <a:pt x="198" y="257"/>
                      </a:lnTo>
                      <a:lnTo>
                        <a:pt x="198" y="258"/>
                      </a:lnTo>
                      <a:lnTo>
                        <a:pt x="197" y="258"/>
                      </a:lnTo>
                      <a:lnTo>
                        <a:pt x="196" y="259"/>
                      </a:lnTo>
                      <a:lnTo>
                        <a:pt x="194" y="259"/>
                      </a:lnTo>
                      <a:lnTo>
                        <a:pt x="193" y="259"/>
                      </a:lnTo>
                      <a:lnTo>
                        <a:pt x="98" y="259"/>
                      </a:lnTo>
                      <a:lnTo>
                        <a:pt x="6" y="259"/>
                      </a:lnTo>
                      <a:lnTo>
                        <a:pt x="4" y="259"/>
                      </a:lnTo>
                      <a:lnTo>
                        <a:pt x="3" y="259"/>
                      </a:lnTo>
                      <a:lnTo>
                        <a:pt x="2" y="258"/>
                      </a:lnTo>
                      <a:lnTo>
                        <a:pt x="1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1" y="250"/>
                      </a:lnTo>
                      <a:lnTo>
                        <a:pt x="2" y="247"/>
                      </a:lnTo>
                      <a:lnTo>
                        <a:pt x="3" y="244"/>
                      </a:lnTo>
                      <a:lnTo>
                        <a:pt x="5" y="243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781680" y="2030040"/>
                  <a:ext cx="104760" cy="5760"/>
                </a:xfrm>
                <a:custGeom>
                  <a:avLst/>
                  <a:gdLst/>
                  <a:ahLst/>
                  <a:rect l="l" t="t" r="r" b="b"/>
                  <a:pathLst>
                    <a:path w="132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26" y="0"/>
                      </a:lnTo>
                      <a:lnTo>
                        <a:pt x="132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771960" y="2040840"/>
                  <a:ext cx="123840" cy="6120"/>
                </a:xfrm>
                <a:custGeom>
                  <a:avLst/>
                  <a:gdLst/>
                  <a:ahLst/>
                  <a:rect l="l" t="t" r="r" b="b"/>
                  <a:pathLst>
                    <a:path w="155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48" y="0"/>
                      </a:lnTo>
                      <a:lnTo>
                        <a:pt x="155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762600" y="2050560"/>
                  <a:ext cx="142920" cy="6120"/>
                </a:xfrm>
                <a:custGeom>
                  <a:avLst/>
                  <a:gdLst/>
                  <a:ahLst/>
                  <a:rect l="l" t="t" r="r" b="b"/>
                  <a:pathLst>
                    <a:path w="179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73" y="0"/>
                      </a:lnTo>
                      <a:lnTo>
                        <a:pt x="179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775200" y="1993320"/>
                  <a:ext cx="119160" cy="42480"/>
                </a:xfrm>
                <a:custGeom>
                  <a:avLst/>
                  <a:gdLst/>
                  <a:ahLst/>
                  <a:rect l="l" t="t" r="r" b="b"/>
                  <a:pathLst>
                    <a:path w="149" h="53">
                      <a:moveTo>
                        <a:pt x="0" y="51"/>
                      </a:moveTo>
                      <a:lnTo>
                        <a:pt x="13" y="37"/>
                      </a:lnTo>
                      <a:lnTo>
                        <a:pt x="136" y="37"/>
                      </a:lnTo>
                      <a:lnTo>
                        <a:pt x="149" y="53"/>
                      </a:lnTo>
                      <a:lnTo>
                        <a:pt x="0" y="51"/>
                      </a:lnTo>
                      <a:close/>
                      <a:moveTo>
                        <a:pt x="52" y="0"/>
                      </a:moveTo>
                      <a:lnTo>
                        <a:pt x="52" y="8"/>
                      </a:lnTo>
                      <a:lnTo>
                        <a:pt x="10" y="8"/>
                      </a:lnTo>
                      <a:lnTo>
                        <a:pt x="10" y="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800760" y="1877400"/>
                  <a:ext cx="68040" cy="106200"/>
                </a:xfrm>
                <a:custGeom>
                  <a:avLst/>
                  <a:gdLst/>
                  <a:ahLst/>
                  <a:rect l="l" t="t" r="r" b="b"/>
                  <a:pathLst>
                    <a:path w="87" h="135">
                      <a:moveTo>
                        <a:pt x="87" y="0"/>
                      </a:moveTo>
                      <a:lnTo>
                        <a:pt x="87" y="93"/>
                      </a:lnTo>
                      <a:lnTo>
                        <a:pt x="0" y="93"/>
                      </a:lnTo>
                      <a:lnTo>
                        <a:pt x="0" y="0"/>
                      </a:lnTo>
                      <a:lnTo>
                        <a:pt x="87" y="0"/>
                      </a:lnTo>
                      <a:close/>
                      <a:moveTo>
                        <a:pt x="87" y="117"/>
                      </a:moveTo>
                      <a:lnTo>
                        <a:pt x="0" y="117"/>
                      </a:lnTo>
                      <a:lnTo>
                        <a:pt x="0" y="135"/>
                      </a:lnTo>
                      <a:lnTo>
                        <a:pt x="87" y="135"/>
                      </a:lnTo>
                      <a:lnTo>
                        <a:pt x="87" y="11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75468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199" h="259">
                      <a:moveTo>
                        <a:pt x="5" y="243"/>
                      </a:moveTo>
                      <a:lnTo>
                        <a:pt x="25" y="220"/>
                      </a:lnTo>
                      <a:lnTo>
                        <a:pt x="25" y="158"/>
                      </a:lnTo>
                      <a:lnTo>
                        <a:pt x="56" y="158"/>
                      </a:lnTo>
                      <a:lnTo>
                        <a:pt x="56" y="140"/>
                      </a:lnTo>
                      <a:lnTo>
                        <a:pt x="39" y="140"/>
                      </a:lnTo>
                      <a:lnTo>
                        <a:pt x="39" y="134"/>
                      </a:lnTo>
                      <a:lnTo>
                        <a:pt x="39" y="0"/>
                      </a:lnTo>
                      <a:lnTo>
                        <a:pt x="98" y="0"/>
                      </a:lnTo>
                      <a:lnTo>
                        <a:pt x="160" y="0"/>
                      </a:lnTo>
                      <a:lnTo>
                        <a:pt x="160" y="133"/>
                      </a:lnTo>
                      <a:lnTo>
                        <a:pt x="160" y="140"/>
                      </a:lnTo>
                      <a:lnTo>
                        <a:pt x="143" y="140"/>
                      </a:lnTo>
                      <a:lnTo>
                        <a:pt x="143" y="158"/>
                      </a:lnTo>
                      <a:lnTo>
                        <a:pt x="174" y="158"/>
                      </a:lnTo>
                      <a:lnTo>
                        <a:pt x="174" y="222"/>
                      </a:lnTo>
                      <a:lnTo>
                        <a:pt x="193" y="243"/>
                      </a:lnTo>
                      <a:lnTo>
                        <a:pt x="195" y="244"/>
                      </a:lnTo>
                      <a:lnTo>
                        <a:pt x="197" y="247"/>
                      </a:lnTo>
                      <a:lnTo>
                        <a:pt x="198" y="250"/>
                      </a:lnTo>
                      <a:lnTo>
                        <a:pt x="199" y="254"/>
                      </a:lnTo>
                      <a:lnTo>
                        <a:pt x="199" y="255"/>
                      </a:lnTo>
                      <a:lnTo>
                        <a:pt x="198" y="257"/>
                      </a:lnTo>
                      <a:lnTo>
                        <a:pt x="198" y="258"/>
                      </a:lnTo>
                      <a:lnTo>
                        <a:pt x="197" y="258"/>
                      </a:lnTo>
                      <a:lnTo>
                        <a:pt x="196" y="259"/>
                      </a:lnTo>
                      <a:lnTo>
                        <a:pt x="194" y="259"/>
                      </a:lnTo>
                      <a:lnTo>
                        <a:pt x="193" y="259"/>
                      </a:lnTo>
                      <a:lnTo>
                        <a:pt x="98" y="259"/>
                      </a:lnTo>
                      <a:lnTo>
                        <a:pt x="6" y="259"/>
                      </a:lnTo>
                      <a:lnTo>
                        <a:pt x="4" y="259"/>
                      </a:lnTo>
                      <a:lnTo>
                        <a:pt x="3" y="259"/>
                      </a:lnTo>
                      <a:lnTo>
                        <a:pt x="2" y="258"/>
                      </a:lnTo>
                      <a:lnTo>
                        <a:pt x="1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1" y="250"/>
                      </a:lnTo>
                      <a:lnTo>
                        <a:pt x="2" y="247"/>
                      </a:lnTo>
                      <a:lnTo>
                        <a:pt x="3" y="244"/>
                      </a:lnTo>
                      <a:lnTo>
                        <a:pt x="5" y="243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781680" y="2030040"/>
                  <a:ext cx="104760" cy="5760"/>
                </a:xfrm>
                <a:custGeom>
                  <a:avLst/>
                  <a:gdLst/>
                  <a:ahLst/>
                  <a:rect l="l" t="t" r="r" b="b"/>
                  <a:pathLst>
                    <a:path w="132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26" y="0"/>
                      </a:lnTo>
                      <a:lnTo>
                        <a:pt x="132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771960" y="2040840"/>
                  <a:ext cx="123840" cy="6120"/>
                </a:xfrm>
                <a:custGeom>
                  <a:avLst/>
                  <a:gdLst/>
                  <a:ahLst/>
                  <a:rect l="l" t="t" r="r" b="b"/>
                  <a:pathLst>
                    <a:path w="155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48" y="0"/>
                      </a:lnTo>
                      <a:lnTo>
                        <a:pt x="155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762600" y="2050560"/>
                  <a:ext cx="142920" cy="6120"/>
                </a:xfrm>
                <a:custGeom>
                  <a:avLst/>
                  <a:gdLst/>
                  <a:ahLst/>
                  <a:rect l="l" t="t" r="r" b="b"/>
                  <a:pathLst>
                    <a:path w="179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73" y="0"/>
                      </a:lnTo>
                      <a:lnTo>
                        <a:pt x="179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775200" y="2023560"/>
                  <a:ext cx="119160" cy="12240"/>
                </a:xfrm>
                <a:custGeom>
                  <a:avLst/>
                  <a:gdLst/>
                  <a:ahLst/>
                  <a:rect l="l" t="t" r="r" b="b"/>
                  <a:pathLst>
                    <a:path w="149" h="16">
                      <a:moveTo>
                        <a:pt x="0" y="14"/>
                      </a:moveTo>
                      <a:lnTo>
                        <a:pt x="13" y="0"/>
                      </a:lnTo>
                      <a:lnTo>
                        <a:pt x="136" y="0"/>
                      </a:lnTo>
                      <a:lnTo>
                        <a:pt x="149" y="1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783120" y="1993320"/>
                  <a:ext cx="33480" cy="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800760" y="1877400"/>
                  <a:ext cx="68040" cy="74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800760" y="1969560"/>
                  <a:ext cx="68040" cy="14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6913440" y="1859040"/>
                <a:ext cx="158760" cy="204480"/>
                <a:chOff x="6913440" y="1859040"/>
                <a:chExt cx="158760" cy="20448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6913440" y="185904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0" h="259">
                      <a:moveTo>
                        <a:pt x="5" y="242"/>
                      </a:moveTo>
                      <a:lnTo>
                        <a:pt x="25" y="220"/>
                      </a:lnTo>
                      <a:lnTo>
                        <a:pt x="25" y="158"/>
                      </a:lnTo>
                      <a:lnTo>
                        <a:pt x="57" y="158"/>
                      </a:lnTo>
                      <a:lnTo>
                        <a:pt x="57" y="140"/>
                      </a:lnTo>
                      <a:lnTo>
                        <a:pt x="40" y="140"/>
                      </a:lnTo>
                      <a:lnTo>
                        <a:pt x="40" y="134"/>
                      </a:lnTo>
                      <a:lnTo>
                        <a:pt x="40" y="0"/>
                      </a:lnTo>
                      <a:lnTo>
                        <a:pt x="100" y="0"/>
                      </a:lnTo>
                      <a:lnTo>
                        <a:pt x="160" y="0"/>
                      </a:lnTo>
                      <a:lnTo>
                        <a:pt x="160" y="133"/>
                      </a:lnTo>
                      <a:lnTo>
                        <a:pt x="160" y="140"/>
                      </a:lnTo>
                      <a:lnTo>
                        <a:pt x="143" y="140"/>
                      </a:lnTo>
                      <a:lnTo>
                        <a:pt x="143" y="158"/>
                      </a:lnTo>
                      <a:lnTo>
                        <a:pt x="175" y="158"/>
                      </a:lnTo>
                      <a:lnTo>
                        <a:pt x="175" y="221"/>
                      </a:lnTo>
                      <a:lnTo>
                        <a:pt x="194" y="242"/>
                      </a:lnTo>
                      <a:lnTo>
                        <a:pt x="196" y="244"/>
                      </a:lnTo>
                      <a:lnTo>
                        <a:pt x="198" y="246"/>
                      </a:lnTo>
                      <a:lnTo>
                        <a:pt x="199" y="249"/>
                      </a:lnTo>
                      <a:lnTo>
                        <a:pt x="200" y="252"/>
                      </a:lnTo>
                      <a:lnTo>
                        <a:pt x="200" y="254"/>
                      </a:lnTo>
                      <a:lnTo>
                        <a:pt x="199" y="256"/>
                      </a:lnTo>
                      <a:lnTo>
                        <a:pt x="199" y="257"/>
                      </a:lnTo>
                      <a:lnTo>
                        <a:pt x="198" y="257"/>
                      </a:lnTo>
                      <a:lnTo>
                        <a:pt x="197" y="259"/>
                      </a:lnTo>
                      <a:lnTo>
                        <a:pt x="195" y="259"/>
                      </a:lnTo>
                      <a:lnTo>
                        <a:pt x="194" y="259"/>
                      </a:lnTo>
                      <a:lnTo>
                        <a:pt x="100" y="259"/>
                      </a:lnTo>
                      <a:lnTo>
                        <a:pt x="6" y="259"/>
                      </a:lnTo>
                      <a:lnTo>
                        <a:pt x="4" y="259"/>
                      </a:lnTo>
                      <a:lnTo>
                        <a:pt x="3" y="259"/>
                      </a:lnTo>
                      <a:lnTo>
                        <a:pt x="2" y="257"/>
                      </a:lnTo>
                      <a:lnTo>
                        <a:pt x="1" y="257"/>
                      </a:lnTo>
                      <a:lnTo>
                        <a:pt x="0" y="256"/>
                      </a:lnTo>
                      <a:lnTo>
                        <a:pt x="0" y="254"/>
                      </a:lnTo>
                      <a:lnTo>
                        <a:pt x="0" y="252"/>
                      </a:lnTo>
                      <a:lnTo>
                        <a:pt x="1" y="249"/>
                      </a:lnTo>
                      <a:lnTo>
                        <a:pt x="2" y="246"/>
                      </a:lnTo>
                      <a:lnTo>
                        <a:pt x="3" y="244"/>
                      </a:lnTo>
                      <a:lnTo>
                        <a:pt x="5" y="242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940440" y="2028600"/>
                  <a:ext cx="104760" cy="612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26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930720" y="2039760"/>
                  <a:ext cx="123840" cy="6120"/>
                </a:xfrm>
                <a:custGeom>
                  <a:avLst/>
                  <a:gdLst/>
                  <a:ahLst/>
                  <a:rect l="l" t="t" r="r" b="b"/>
                  <a:pathLst>
                    <a:path w="156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50" y="0"/>
                      </a:lnTo>
                      <a:lnTo>
                        <a:pt x="156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21360" y="2050920"/>
                  <a:ext cx="142920" cy="4320"/>
                </a:xfrm>
                <a:custGeom>
                  <a:avLst/>
                  <a:gdLst/>
                  <a:ahLst/>
                  <a:rect l="l" t="t" r="r" b="b"/>
                  <a:pathLst>
                    <a:path w="180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73" y="0"/>
                      </a:lnTo>
                      <a:lnTo>
                        <a:pt x="18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933960" y="1992240"/>
                  <a:ext cx="117360" cy="42480"/>
                </a:xfrm>
                <a:custGeom>
                  <a:avLst/>
                  <a:gdLst/>
                  <a:ahLst/>
                  <a:rect l="l" t="t" r="r" b="b"/>
                  <a:pathLst>
                    <a:path w="150" h="52">
                      <a:moveTo>
                        <a:pt x="0" y="51"/>
                      </a:moveTo>
                      <a:lnTo>
                        <a:pt x="14" y="37"/>
                      </a:lnTo>
                      <a:lnTo>
                        <a:pt x="137" y="37"/>
                      </a:lnTo>
                      <a:lnTo>
                        <a:pt x="150" y="52"/>
                      </a:lnTo>
                      <a:lnTo>
                        <a:pt x="0" y="51"/>
                      </a:lnTo>
                      <a:close/>
                      <a:moveTo>
                        <a:pt x="53" y="0"/>
                      </a:moveTo>
                      <a:lnTo>
                        <a:pt x="53" y="7"/>
                      </a:lnTo>
                      <a:lnTo>
                        <a:pt x="11" y="7"/>
                      </a:lnTo>
                      <a:lnTo>
                        <a:pt x="11" y="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957720" y="1876320"/>
                  <a:ext cx="69840" cy="107640"/>
                </a:xfrm>
                <a:custGeom>
                  <a:avLst/>
                  <a:gdLst/>
                  <a:ahLst/>
                  <a:rect l="l" t="t" r="r" b="b"/>
                  <a:pathLst>
                    <a:path w="86" h="135">
                      <a:moveTo>
                        <a:pt x="86" y="0"/>
                      </a:moveTo>
                      <a:lnTo>
                        <a:pt x="86" y="93"/>
                      </a:lnTo>
                      <a:lnTo>
                        <a:pt x="0" y="93"/>
                      </a:lnTo>
                      <a:lnTo>
                        <a:pt x="0" y="0"/>
                      </a:lnTo>
                      <a:lnTo>
                        <a:pt x="86" y="0"/>
                      </a:lnTo>
                      <a:close/>
                      <a:moveTo>
                        <a:pt x="86" y="117"/>
                      </a:moveTo>
                      <a:lnTo>
                        <a:pt x="0" y="117"/>
                      </a:lnTo>
                      <a:lnTo>
                        <a:pt x="0" y="135"/>
                      </a:lnTo>
                      <a:lnTo>
                        <a:pt x="86" y="135"/>
                      </a:lnTo>
                      <a:lnTo>
                        <a:pt x="86" y="11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913440" y="185904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0" h="259">
                      <a:moveTo>
                        <a:pt x="5" y="242"/>
                      </a:moveTo>
                      <a:lnTo>
                        <a:pt x="25" y="220"/>
                      </a:lnTo>
                      <a:lnTo>
                        <a:pt x="25" y="158"/>
                      </a:lnTo>
                      <a:lnTo>
                        <a:pt x="57" y="158"/>
                      </a:lnTo>
                      <a:lnTo>
                        <a:pt x="57" y="140"/>
                      </a:lnTo>
                      <a:lnTo>
                        <a:pt x="40" y="140"/>
                      </a:lnTo>
                      <a:lnTo>
                        <a:pt x="40" y="134"/>
                      </a:lnTo>
                      <a:lnTo>
                        <a:pt x="40" y="0"/>
                      </a:lnTo>
                      <a:lnTo>
                        <a:pt x="100" y="0"/>
                      </a:lnTo>
                      <a:lnTo>
                        <a:pt x="160" y="0"/>
                      </a:lnTo>
                      <a:lnTo>
                        <a:pt x="160" y="133"/>
                      </a:lnTo>
                      <a:lnTo>
                        <a:pt x="160" y="140"/>
                      </a:lnTo>
                      <a:lnTo>
                        <a:pt x="143" y="140"/>
                      </a:lnTo>
                      <a:lnTo>
                        <a:pt x="143" y="158"/>
                      </a:lnTo>
                      <a:lnTo>
                        <a:pt x="175" y="158"/>
                      </a:lnTo>
                      <a:lnTo>
                        <a:pt x="175" y="221"/>
                      </a:lnTo>
                      <a:lnTo>
                        <a:pt x="194" y="242"/>
                      </a:lnTo>
                      <a:lnTo>
                        <a:pt x="196" y="244"/>
                      </a:lnTo>
                      <a:lnTo>
                        <a:pt x="198" y="246"/>
                      </a:lnTo>
                      <a:lnTo>
                        <a:pt x="199" y="249"/>
                      </a:lnTo>
                      <a:lnTo>
                        <a:pt x="200" y="252"/>
                      </a:lnTo>
                      <a:lnTo>
                        <a:pt x="200" y="254"/>
                      </a:lnTo>
                      <a:lnTo>
                        <a:pt x="199" y="256"/>
                      </a:lnTo>
                      <a:lnTo>
                        <a:pt x="199" y="257"/>
                      </a:lnTo>
                      <a:lnTo>
                        <a:pt x="198" y="257"/>
                      </a:lnTo>
                      <a:lnTo>
                        <a:pt x="197" y="259"/>
                      </a:lnTo>
                      <a:lnTo>
                        <a:pt x="195" y="259"/>
                      </a:lnTo>
                      <a:lnTo>
                        <a:pt x="194" y="259"/>
                      </a:lnTo>
                      <a:lnTo>
                        <a:pt x="100" y="259"/>
                      </a:lnTo>
                      <a:lnTo>
                        <a:pt x="6" y="259"/>
                      </a:lnTo>
                      <a:lnTo>
                        <a:pt x="4" y="259"/>
                      </a:lnTo>
                      <a:lnTo>
                        <a:pt x="3" y="259"/>
                      </a:lnTo>
                      <a:lnTo>
                        <a:pt x="2" y="257"/>
                      </a:lnTo>
                      <a:lnTo>
                        <a:pt x="1" y="257"/>
                      </a:lnTo>
                      <a:lnTo>
                        <a:pt x="0" y="256"/>
                      </a:lnTo>
                      <a:lnTo>
                        <a:pt x="0" y="254"/>
                      </a:lnTo>
                      <a:lnTo>
                        <a:pt x="0" y="252"/>
                      </a:lnTo>
                      <a:lnTo>
                        <a:pt x="1" y="249"/>
                      </a:lnTo>
                      <a:lnTo>
                        <a:pt x="2" y="246"/>
                      </a:lnTo>
                      <a:lnTo>
                        <a:pt x="3" y="244"/>
                      </a:lnTo>
                      <a:lnTo>
                        <a:pt x="5" y="24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940440" y="2028600"/>
                  <a:ext cx="104760" cy="612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26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930720" y="2039760"/>
                  <a:ext cx="123840" cy="6120"/>
                </a:xfrm>
                <a:custGeom>
                  <a:avLst/>
                  <a:gdLst/>
                  <a:ahLst/>
                  <a:rect l="l" t="t" r="r" b="b"/>
                  <a:pathLst>
                    <a:path w="156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50" y="0"/>
                      </a:lnTo>
                      <a:lnTo>
                        <a:pt x="156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921360" y="2050920"/>
                  <a:ext cx="142920" cy="4320"/>
                </a:xfrm>
                <a:custGeom>
                  <a:avLst/>
                  <a:gdLst/>
                  <a:ahLst/>
                  <a:rect l="l" t="t" r="r" b="b"/>
                  <a:pathLst>
                    <a:path w="180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73" y="0"/>
                      </a:lnTo>
                      <a:lnTo>
                        <a:pt x="18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933960" y="2022480"/>
                  <a:ext cx="117360" cy="12240"/>
                </a:xfrm>
                <a:custGeom>
                  <a:avLst/>
                  <a:gdLst/>
                  <a:ahLst/>
                  <a:rect l="l" t="t" r="r" b="b"/>
                  <a:pathLst>
                    <a:path w="150" h="15">
                      <a:moveTo>
                        <a:pt x="0" y="14"/>
                      </a:moveTo>
                      <a:lnTo>
                        <a:pt x="14" y="0"/>
                      </a:lnTo>
                      <a:lnTo>
                        <a:pt x="137" y="0"/>
                      </a:lnTo>
                      <a:lnTo>
                        <a:pt x="150" y="1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941880" y="1992240"/>
                  <a:ext cx="33480" cy="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957720" y="1876320"/>
                  <a:ext cx="69840" cy="74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957720" y="1969920"/>
                  <a:ext cx="69840" cy="14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7072200" y="1860480"/>
                <a:ext cx="158760" cy="204480"/>
                <a:chOff x="7072200" y="1860480"/>
                <a:chExt cx="158760" cy="2044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707220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0" h="259">
                      <a:moveTo>
                        <a:pt x="6" y="243"/>
                      </a:moveTo>
                      <a:lnTo>
                        <a:pt x="26" y="220"/>
                      </a:lnTo>
                      <a:lnTo>
                        <a:pt x="26" y="158"/>
                      </a:lnTo>
                      <a:lnTo>
                        <a:pt x="57" y="158"/>
                      </a:lnTo>
                      <a:lnTo>
                        <a:pt x="57" y="140"/>
                      </a:lnTo>
                      <a:lnTo>
                        <a:pt x="40" y="140"/>
                      </a:lnTo>
                      <a:lnTo>
                        <a:pt x="40" y="134"/>
                      </a:lnTo>
                      <a:lnTo>
                        <a:pt x="40" y="0"/>
                      </a:lnTo>
                      <a:lnTo>
                        <a:pt x="100" y="0"/>
                      </a:lnTo>
                      <a:lnTo>
                        <a:pt x="161" y="0"/>
                      </a:lnTo>
                      <a:lnTo>
                        <a:pt x="161" y="133"/>
                      </a:lnTo>
                      <a:lnTo>
                        <a:pt x="161" y="140"/>
                      </a:lnTo>
                      <a:lnTo>
                        <a:pt x="144" y="140"/>
                      </a:lnTo>
                      <a:lnTo>
                        <a:pt x="144" y="158"/>
                      </a:lnTo>
                      <a:lnTo>
                        <a:pt x="175" y="158"/>
                      </a:lnTo>
                      <a:lnTo>
                        <a:pt x="175" y="222"/>
                      </a:lnTo>
                      <a:lnTo>
                        <a:pt x="194" y="243"/>
                      </a:lnTo>
                      <a:lnTo>
                        <a:pt x="196" y="244"/>
                      </a:lnTo>
                      <a:lnTo>
                        <a:pt x="198" y="247"/>
                      </a:lnTo>
                      <a:lnTo>
                        <a:pt x="199" y="250"/>
                      </a:lnTo>
                      <a:lnTo>
                        <a:pt x="200" y="254"/>
                      </a:lnTo>
                      <a:lnTo>
                        <a:pt x="200" y="255"/>
                      </a:lnTo>
                      <a:lnTo>
                        <a:pt x="199" y="257"/>
                      </a:lnTo>
                      <a:lnTo>
                        <a:pt x="199" y="258"/>
                      </a:lnTo>
                      <a:lnTo>
                        <a:pt x="198" y="258"/>
                      </a:lnTo>
                      <a:lnTo>
                        <a:pt x="197" y="259"/>
                      </a:lnTo>
                      <a:lnTo>
                        <a:pt x="195" y="259"/>
                      </a:lnTo>
                      <a:lnTo>
                        <a:pt x="194" y="259"/>
                      </a:lnTo>
                      <a:lnTo>
                        <a:pt x="100" y="259"/>
                      </a:lnTo>
                      <a:lnTo>
                        <a:pt x="7" y="259"/>
                      </a:lnTo>
                      <a:lnTo>
                        <a:pt x="5" y="259"/>
                      </a:lnTo>
                      <a:lnTo>
                        <a:pt x="4" y="259"/>
                      </a:lnTo>
                      <a:lnTo>
                        <a:pt x="2" y="258"/>
                      </a:lnTo>
                      <a:lnTo>
                        <a:pt x="1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1" y="250"/>
                      </a:lnTo>
                      <a:lnTo>
                        <a:pt x="2" y="247"/>
                      </a:lnTo>
                      <a:lnTo>
                        <a:pt x="4" y="244"/>
                      </a:lnTo>
                      <a:lnTo>
                        <a:pt x="6" y="243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099200" y="2030040"/>
                  <a:ext cx="104760" cy="576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27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089480" y="2040840"/>
                  <a:ext cx="123840" cy="6120"/>
                </a:xfrm>
                <a:custGeom>
                  <a:avLst/>
                  <a:gdLst/>
                  <a:ahLst/>
                  <a:rect l="l" t="t" r="r" b="b"/>
                  <a:pathLst>
                    <a:path w="155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49" y="0"/>
                      </a:lnTo>
                      <a:lnTo>
                        <a:pt x="155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080120" y="2050560"/>
                  <a:ext cx="142560" cy="6120"/>
                </a:xfrm>
                <a:custGeom>
                  <a:avLst/>
                  <a:gdLst/>
                  <a:ahLst/>
                  <a:rect l="l" t="t" r="r" b="b"/>
                  <a:pathLst>
                    <a:path w="180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73" y="0"/>
                      </a:lnTo>
                      <a:lnTo>
                        <a:pt x="18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7092720" y="1993320"/>
                  <a:ext cx="119160" cy="42480"/>
                </a:xfrm>
                <a:custGeom>
                  <a:avLst/>
                  <a:gdLst/>
                  <a:ahLst/>
                  <a:rect l="l" t="t" r="r" b="b"/>
                  <a:pathLst>
                    <a:path w="149" h="53">
                      <a:moveTo>
                        <a:pt x="0" y="51"/>
                      </a:moveTo>
                      <a:lnTo>
                        <a:pt x="13" y="37"/>
                      </a:lnTo>
                      <a:lnTo>
                        <a:pt x="136" y="37"/>
                      </a:lnTo>
                      <a:lnTo>
                        <a:pt x="149" y="53"/>
                      </a:lnTo>
                      <a:lnTo>
                        <a:pt x="0" y="51"/>
                      </a:lnTo>
                      <a:close/>
                      <a:moveTo>
                        <a:pt x="52" y="0"/>
                      </a:moveTo>
                      <a:lnTo>
                        <a:pt x="52" y="8"/>
                      </a:lnTo>
                      <a:lnTo>
                        <a:pt x="9" y="8"/>
                      </a:lnTo>
                      <a:lnTo>
                        <a:pt x="9" y="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117920" y="1877400"/>
                  <a:ext cx="68400" cy="106200"/>
                </a:xfrm>
                <a:custGeom>
                  <a:avLst/>
                  <a:gdLst/>
                  <a:ahLst/>
                  <a:rect l="l" t="t" r="r" b="b"/>
                  <a:pathLst>
                    <a:path w="87" h="135">
                      <a:moveTo>
                        <a:pt x="87" y="0"/>
                      </a:moveTo>
                      <a:lnTo>
                        <a:pt x="87" y="93"/>
                      </a:lnTo>
                      <a:lnTo>
                        <a:pt x="0" y="93"/>
                      </a:lnTo>
                      <a:lnTo>
                        <a:pt x="0" y="0"/>
                      </a:lnTo>
                      <a:lnTo>
                        <a:pt x="87" y="0"/>
                      </a:lnTo>
                      <a:close/>
                      <a:moveTo>
                        <a:pt x="87" y="117"/>
                      </a:moveTo>
                      <a:lnTo>
                        <a:pt x="0" y="117"/>
                      </a:lnTo>
                      <a:lnTo>
                        <a:pt x="0" y="135"/>
                      </a:lnTo>
                      <a:lnTo>
                        <a:pt x="87" y="135"/>
                      </a:lnTo>
                      <a:lnTo>
                        <a:pt x="87" y="11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07220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0" h="259">
                      <a:moveTo>
                        <a:pt x="6" y="243"/>
                      </a:moveTo>
                      <a:lnTo>
                        <a:pt x="26" y="220"/>
                      </a:lnTo>
                      <a:lnTo>
                        <a:pt x="26" y="158"/>
                      </a:lnTo>
                      <a:lnTo>
                        <a:pt x="57" y="158"/>
                      </a:lnTo>
                      <a:lnTo>
                        <a:pt x="57" y="140"/>
                      </a:lnTo>
                      <a:lnTo>
                        <a:pt x="40" y="140"/>
                      </a:lnTo>
                      <a:lnTo>
                        <a:pt x="40" y="134"/>
                      </a:lnTo>
                      <a:lnTo>
                        <a:pt x="40" y="0"/>
                      </a:lnTo>
                      <a:lnTo>
                        <a:pt x="100" y="0"/>
                      </a:lnTo>
                      <a:lnTo>
                        <a:pt x="161" y="0"/>
                      </a:lnTo>
                      <a:lnTo>
                        <a:pt x="161" y="133"/>
                      </a:lnTo>
                      <a:lnTo>
                        <a:pt x="161" y="140"/>
                      </a:lnTo>
                      <a:lnTo>
                        <a:pt x="144" y="140"/>
                      </a:lnTo>
                      <a:lnTo>
                        <a:pt x="144" y="158"/>
                      </a:lnTo>
                      <a:lnTo>
                        <a:pt x="175" y="158"/>
                      </a:lnTo>
                      <a:lnTo>
                        <a:pt x="175" y="222"/>
                      </a:lnTo>
                      <a:lnTo>
                        <a:pt x="194" y="243"/>
                      </a:lnTo>
                      <a:lnTo>
                        <a:pt x="196" y="244"/>
                      </a:lnTo>
                      <a:lnTo>
                        <a:pt x="198" y="247"/>
                      </a:lnTo>
                      <a:lnTo>
                        <a:pt x="199" y="250"/>
                      </a:lnTo>
                      <a:lnTo>
                        <a:pt x="200" y="254"/>
                      </a:lnTo>
                      <a:lnTo>
                        <a:pt x="200" y="255"/>
                      </a:lnTo>
                      <a:lnTo>
                        <a:pt x="199" y="257"/>
                      </a:lnTo>
                      <a:lnTo>
                        <a:pt x="199" y="258"/>
                      </a:lnTo>
                      <a:lnTo>
                        <a:pt x="198" y="258"/>
                      </a:lnTo>
                      <a:lnTo>
                        <a:pt x="197" y="259"/>
                      </a:lnTo>
                      <a:lnTo>
                        <a:pt x="195" y="259"/>
                      </a:lnTo>
                      <a:lnTo>
                        <a:pt x="194" y="259"/>
                      </a:lnTo>
                      <a:lnTo>
                        <a:pt x="100" y="259"/>
                      </a:lnTo>
                      <a:lnTo>
                        <a:pt x="7" y="259"/>
                      </a:lnTo>
                      <a:lnTo>
                        <a:pt x="5" y="259"/>
                      </a:lnTo>
                      <a:lnTo>
                        <a:pt x="4" y="259"/>
                      </a:lnTo>
                      <a:lnTo>
                        <a:pt x="2" y="258"/>
                      </a:lnTo>
                      <a:lnTo>
                        <a:pt x="1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1" y="250"/>
                      </a:lnTo>
                      <a:lnTo>
                        <a:pt x="2" y="247"/>
                      </a:lnTo>
                      <a:lnTo>
                        <a:pt x="4" y="244"/>
                      </a:lnTo>
                      <a:lnTo>
                        <a:pt x="6" y="243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099200" y="2030040"/>
                  <a:ext cx="104760" cy="576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27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089480" y="2040840"/>
                  <a:ext cx="123840" cy="6120"/>
                </a:xfrm>
                <a:custGeom>
                  <a:avLst/>
                  <a:gdLst/>
                  <a:ahLst/>
                  <a:rect l="l" t="t" r="r" b="b"/>
                  <a:pathLst>
                    <a:path w="155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49" y="0"/>
                      </a:lnTo>
                      <a:lnTo>
                        <a:pt x="155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080120" y="2050560"/>
                  <a:ext cx="142560" cy="6120"/>
                </a:xfrm>
                <a:custGeom>
                  <a:avLst/>
                  <a:gdLst/>
                  <a:ahLst/>
                  <a:rect l="l" t="t" r="r" b="b"/>
                  <a:pathLst>
                    <a:path w="180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73" y="0"/>
                      </a:lnTo>
                      <a:lnTo>
                        <a:pt x="18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092720" y="2023560"/>
                  <a:ext cx="119160" cy="12240"/>
                </a:xfrm>
                <a:custGeom>
                  <a:avLst/>
                  <a:gdLst/>
                  <a:ahLst/>
                  <a:rect l="l" t="t" r="r" b="b"/>
                  <a:pathLst>
                    <a:path w="149" h="16">
                      <a:moveTo>
                        <a:pt x="0" y="14"/>
                      </a:moveTo>
                      <a:lnTo>
                        <a:pt x="13" y="0"/>
                      </a:lnTo>
                      <a:lnTo>
                        <a:pt x="136" y="0"/>
                      </a:lnTo>
                      <a:lnTo>
                        <a:pt x="149" y="1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100640" y="1993320"/>
                  <a:ext cx="33480" cy="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117920" y="1877400"/>
                  <a:ext cx="68400" cy="74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117920" y="1969560"/>
                  <a:ext cx="68400" cy="14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7219800" y="1860480"/>
                <a:ext cx="158760" cy="204480"/>
                <a:chOff x="7219800" y="1860480"/>
                <a:chExt cx="158760" cy="2044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721980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1" h="259">
                      <a:moveTo>
                        <a:pt x="6" y="243"/>
                      </a:moveTo>
                      <a:lnTo>
                        <a:pt x="27" y="220"/>
                      </a:lnTo>
                      <a:lnTo>
                        <a:pt x="27" y="158"/>
                      </a:lnTo>
                      <a:lnTo>
                        <a:pt x="58" y="158"/>
                      </a:lnTo>
                      <a:lnTo>
                        <a:pt x="58" y="140"/>
                      </a:lnTo>
                      <a:lnTo>
                        <a:pt x="41" y="140"/>
                      </a:lnTo>
                      <a:lnTo>
                        <a:pt x="41" y="134"/>
                      </a:lnTo>
                      <a:lnTo>
                        <a:pt x="41" y="0"/>
                      </a:lnTo>
                      <a:lnTo>
                        <a:pt x="100" y="0"/>
                      </a:lnTo>
                      <a:lnTo>
                        <a:pt x="162" y="0"/>
                      </a:lnTo>
                      <a:lnTo>
                        <a:pt x="162" y="133"/>
                      </a:lnTo>
                      <a:lnTo>
                        <a:pt x="162" y="140"/>
                      </a:lnTo>
                      <a:lnTo>
                        <a:pt x="144" y="140"/>
                      </a:lnTo>
                      <a:lnTo>
                        <a:pt x="144" y="158"/>
                      </a:lnTo>
                      <a:lnTo>
                        <a:pt x="176" y="158"/>
                      </a:lnTo>
                      <a:lnTo>
                        <a:pt x="176" y="222"/>
                      </a:lnTo>
                      <a:lnTo>
                        <a:pt x="195" y="243"/>
                      </a:lnTo>
                      <a:lnTo>
                        <a:pt x="197" y="244"/>
                      </a:lnTo>
                      <a:lnTo>
                        <a:pt x="199" y="247"/>
                      </a:lnTo>
                      <a:lnTo>
                        <a:pt x="200" y="250"/>
                      </a:lnTo>
                      <a:lnTo>
                        <a:pt x="201" y="254"/>
                      </a:lnTo>
                      <a:lnTo>
                        <a:pt x="201" y="255"/>
                      </a:lnTo>
                      <a:lnTo>
                        <a:pt x="200" y="257"/>
                      </a:lnTo>
                      <a:lnTo>
                        <a:pt x="200" y="258"/>
                      </a:lnTo>
                      <a:lnTo>
                        <a:pt x="199" y="258"/>
                      </a:lnTo>
                      <a:lnTo>
                        <a:pt x="198" y="259"/>
                      </a:lnTo>
                      <a:lnTo>
                        <a:pt x="196" y="259"/>
                      </a:lnTo>
                      <a:lnTo>
                        <a:pt x="195" y="259"/>
                      </a:lnTo>
                      <a:lnTo>
                        <a:pt x="100" y="259"/>
                      </a:lnTo>
                      <a:lnTo>
                        <a:pt x="7" y="259"/>
                      </a:lnTo>
                      <a:lnTo>
                        <a:pt x="5" y="259"/>
                      </a:lnTo>
                      <a:lnTo>
                        <a:pt x="4" y="259"/>
                      </a:lnTo>
                      <a:lnTo>
                        <a:pt x="2" y="258"/>
                      </a:lnTo>
                      <a:lnTo>
                        <a:pt x="1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1" y="250"/>
                      </a:lnTo>
                      <a:lnTo>
                        <a:pt x="2" y="247"/>
                      </a:lnTo>
                      <a:lnTo>
                        <a:pt x="4" y="244"/>
                      </a:lnTo>
                      <a:lnTo>
                        <a:pt x="6" y="243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7246800" y="2030040"/>
                  <a:ext cx="104760" cy="576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27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238880" y="2040840"/>
                  <a:ext cx="122040" cy="6120"/>
                </a:xfrm>
                <a:custGeom>
                  <a:avLst/>
                  <a:gdLst/>
                  <a:ahLst/>
                  <a:rect l="l" t="t" r="r" b="b"/>
                  <a:pathLst>
                    <a:path w="156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50" y="0"/>
                      </a:lnTo>
                      <a:lnTo>
                        <a:pt x="156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227720" y="2050560"/>
                  <a:ext cx="142920" cy="6120"/>
                </a:xfrm>
                <a:custGeom>
                  <a:avLst/>
                  <a:gdLst/>
                  <a:ahLst/>
                  <a:rect l="l" t="t" r="r" b="b"/>
                  <a:pathLst>
                    <a:path w="181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74" y="0"/>
                      </a:lnTo>
                      <a:lnTo>
                        <a:pt x="18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240320" y="1993320"/>
                  <a:ext cx="119160" cy="42480"/>
                </a:xfrm>
                <a:custGeom>
                  <a:avLst/>
                  <a:gdLst/>
                  <a:ahLst/>
                  <a:rect l="l" t="t" r="r" b="b"/>
                  <a:pathLst>
                    <a:path w="149" h="53">
                      <a:moveTo>
                        <a:pt x="0" y="51"/>
                      </a:moveTo>
                      <a:lnTo>
                        <a:pt x="13" y="37"/>
                      </a:lnTo>
                      <a:lnTo>
                        <a:pt x="136" y="37"/>
                      </a:lnTo>
                      <a:lnTo>
                        <a:pt x="149" y="53"/>
                      </a:lnTo>
                      <a:lnTo>
                        <a:pt x="0" y="51"/>
                      </a:lnTo>
                      <a:close/>
                      <a:moveTo>
                        <a:pt x="52" y="0"/>
                      </a:moveTo>
                      <a:lnTo>
                        <a:pt x="52" y="8"/>
                      </a:lnTo>
                      <a:lnTo>
                        <a:pt x="9" y="8"/>
                      </a:lnTo>
                      <a:lnTo>
                        <a:pt x="9" y="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265880" y="1877400"/>
                  <a:ext cx="68040" cy="106200"/>
                </a:xfrm>
                <a:custGeom>
                  <a:avLst/>
                  <a:gdLst/>
                  <a:ahLst/>
                  <a:rect l="l" t="t" r="r" b="b"/>
                  <a:pathLst>
                    <a:path w="86" h="135">
                      <a:moveTo>
                        <a:pt x="86" y="0"/>
                      </a:moveTo>
                      <a:lnTo>
                        <a:pt x="86" y="93"/>
                      </a:lnTo>
                      <a:lnTo>
                        <a:pt x="0" y="93"/>
                      </a:lnTo>
                      <a:lnTo>
                        <a:pt x="0" y="0"/>
                      </a:lnTo>
                      <a:lnTo>
                        <a:pt x="86" y="0"/>
                      </a:lnTo>
                      <a:close/>
                      <a:moveTo>
                        <a:pt x="86" y="117"/>
                      </a:moveTo>
                      <a:lnTo>
                        <a:pt x="0" y="117"/>
                      </a:lnTo>
                      <a:lnTo>
                        <a:pt x="0" y="135"/>
                      </a:lnTo>
                      <a:lnTo>
                        <a:pt x="86" y="135"/>
                      </a:lnTo>
                      <a:lnTo>
                        <a:pt x="86" y="117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219800" y="1860480"/>
                  <a:ext cx="158760" cy="204480"/>
                </a:xfrm>
                <a:custGeom>
                  <a:avLst/>
                  <a:gdLst/>
                  <a:ahLst/>
                  <a:rect l="l" t="t" r="r" b="b"/>
                  <a:pathLst>
                    <a:path w="201" h="259">
                      <a:moveTo>
                        <a:pt x="6" y="243"/>
                      </a:moveTo>
                      <a:lnTo>
                        <a:pt x="27" y="220"/>
                      </a:lnTo>
                      <a:lnTo>
                        <a:pt x="27" y="158"/>
                      </a:lnTo>
                      <a:lnTo>
                        <a:pt x="58" y="158"/>
                      </a:lnTo>
                      <a:lnTo>
                        <a:pt x="58" y="140"/>
                      </a:lnTo>
                      <a:lnTo>
                        <a:pt x="41" y="140"/>
                      </a:lnTo>
                      <a:lnTo>
                        <a:pt x="41" y="134"/>
                      </a:lnTo>
                      <a:lnTo>
                        <a:pt x="41" y="0"/>
                      </a:lnTo>
                      <a:lnTo>
                        <a:pt x="100" y="0"/>
                      </a:lnTo>
                      <a:lnTo>
                        <a:pt x="162" y="0"/>
                      </a:lnTo>
                      <a:lnTo>
                        <a:pt x="162" y="133"/>
                      </a:lnTo>
                      <a:lnTo>
                        <a:pt x="162" y="140"/>
                      </a:lnTo>
                      <a:lnTo>
                        <a:pt x="144" y="140"/>
                      </a:lnTo>
                      <a:lnTo>
                        <a:pt x="144" y="158"/>
                      </a:lnTo>
                      <a:lnTo>
                        <a:pt x="176" y="158"/>
                      </a:lnTo>
                      <a:lnTo>
                        <a:pt x="176" y="222"/>
                      </a:lnTo>
                      <a:lnTo>
                        <a:pt x="195" y="243"/>
                      </a:lnTo>
                      <a:lnTo>
                        <a:pt x="197" y="244"/>
                      </a:lnTo>
                      <a:lnTo>
                        <a:pt x="199" y="247"/>
                      </a:lnTo>
                      <a:lnTo>
                        <a:pt x="200" y="250"/>
                      </a:lnTo>
                      <a:lnTo>
                        <a:pt x="201" y="254"/>
                      </a:lnTo>
                      <a:lnTo>
                        <a:pt x="201" y="255"/>
                      </a:lnTo>
                      <a:lnTo>
                        <a:pt x="200" y="257"/>
                      </a:lnTo>
                      <a:lnTo>
                        <a:pt x="200" y="258"/>
                      </a:lnTo>
                      <a:lnTo>
                        <a:pt x="199" y="258"/>
                      </a:lnTo>
                      <a:lnTo>
                        <a:pt x="198" y="259"/>
                      </a:lnTo>
                      <a:lnTo>
                        <a:pt x="196" y="259"/>
                      </a:lnTo>
                      <a:lnTo>
                        <a:pt x="195" y="259"/>
                      </a:lnTo>
                      <a:lnTo>
                        <a:pt x="100" y="259"/>
                      </a:lnTo>
                      <a:lnTo>
                        <a:pt x="7" y="259"/>
                      </a:lnTo>
                      <a:lnTo>
                        <a:pt x="5" y="259"/>
                      </a:lnTo>
                      <a:lnTo>
                        <a:pt x="4" y="259"/>
                      </a:lnTo>
                      <a:lnTo>
                        <a:pt x="2" y="258"/>
                      </a:lnTo>
                      <a:lnTo>
                        <a:pt x="1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1" y="250"/>
                      </a:lnTo>
                      <a:lnTo>
                        <a:pt x="2" y="247"/>
                      </a:lnTo>
                      <a:lnTo>
                        <a:pt x="4" y="244"/>
                      </a:lnTo>
                      <a:lnTo>
                        <a:pt x="6" y="243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246800" y="2030040"/>
                  <a:ext cx="104760" cy="5760"/>
                </a:xfrm>
                <a:custGeom>
                  <a:avLst/>
                  <a:gdLst/>
                  <a:ahLst/>
                  <a:rect l="l" t="t" r="r" b="b"/>
                  <a:pathLst>
                    <a:path w="133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27" y="0"/>
                      </a:lnTo>
                      <a:lnTo>
                        <a:pt x="13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238880" y="2040840"/>
                  <a:ext cx="122040" cy="6120"/>
                </a:xfrm>
                <a:custGeom>
                  <a:avLst/>
                  <a:gdLst/>
                  <a:ahLst/>
                  <a:rect l="l" t="t" r="r" b="b"/>
                  <a:pathLst>
                    <a:path w="156" h="7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50" y="0"/>
                      </a:lnTo>
                      <a:lnTo>
                        <a:pt x="156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227720" y="2050560"/>
                  <a:ext cx="142920" cy="6120"/>
                </a:xfrm>
                <a:custGeom>
                  <a:avLst/>
                  <a:gdLst/>
                  <a:ahLst/>
                  <a:rect l="l" t="t" r="r" b="b"/>
                  <a:pathLst>
                    <a:path w="181" h="7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74" y="0"/>
                      </a:lnTo>
                      <a:lnTo>
                        <a:pt x="18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240320" y="2023560"/>
                  <a:ext cx="119160" cy="12240"/>
                </a:xfrm>
                <a:custGeom>
                  <a:avLst/>
                  <a:gdLst/>
                  <a:ahLst/>
                  <a:rect l="l" t="t" r="r" b="b"/>
                  <a:pathLst>
                    <a:path w="149" h="16">
                      <a:moveTo>
                        <a:pt x="0" y="14"/>
                      </a:moveTo>
                      <a:lnTo>
                        <a:pt x="13" y="0"/>
                      </a:lnTo>
                      <a:lnTo>
                        <a:pt x="136" y="0"/>
                      </a:lnTo>
                      <a:lnTo>
                        <a:pt x="149" y="1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248240" y="1993320"/>
                  <a:ext cx="33480" cy="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265880" y="1877400"/>
                  <a:ext cx="68040" cy="74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265880" y="1969560"/>
                  <a:ext cx="68040" cy="14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"/>
            <p:cNvGrpSpPr/>
            <p:nvPr/>
          </p:nvGrpSpPr>
          <p:grpSpPr>
            <a:xfrm>
              <a:off x="7819920" y="1955880"/>
              <a:ext cx="277560" cy="240840"/>
              <a:chOff x="7819920" y="1955880"/>
              <a:chExt cx="277560" cy="240840"/>
            </a:xfrm>
          </p:grpSpPr>
          <p:sp>
            <p:nvSpPr>
              <p:cNvPr id="463" name=""/>
              <p:cNvSpPr/>
              <p:nvPr/>
            </p:nvSpPr>
            <p:spPr>
              <a:xfrm>
                <a:off x="7899120" y="2036520"/>
                <a:ext cx="198360" cy="160200"/>
              </a:xfrm>
              <a:custGeom>
                <a:avLst/>
                <a:gdLst/>
                <a:ahLst/>
                <a:rect l="l" t="t" r="r" b="b"/>
                <a:pathLst>
                  <a:path w="250" h="203">
                    <a:moveTo>
                      <a:pt x="124" y="203"/>
                    </a:moveTo>
                    <a:lnTo>
                      <a:pt x="139" y="203"/>
                    </a:lnTo>
                    <a:lnTo>
                      <a:pt x="150" y="202"/>
                    </a:lnTo>
                    <a:lnTo>
                      <a:pt x="161" y="201"/>
                    </a:lnTo>
                    <a:lnTo>
                      <a:pt x="170" y="199"/>
                    </a:lnTo>
                    <a:lnTo>
                      <a:pt x="181" y="196"/>
                    </a:lnTo>
                    <a:lnTo>
                      <a:pt x="188" y="193"/>
                    </a:lnTo>
                    <a:lnTo>
                      <a:pt x="192" y="191"/>
                    </a:lnTo>
                    <a:lnTo>
                      <a:pt x="197" y="187"/>
                    </a:lnTo>
                    <a:lnTo>
                      <a:pt x="203" y="193"/>
                    </a:lnTo>
                    <a:lnTo>
                      <a:pt x="209" y="198"/>
                    </a:lnTo>
                    <a:lnTo>
                      <a:pt x="214" y="201"/>
                    </a:lnTo>
                    <a:lnTo>
                      <a:pt x="221" y="202"/>
                    </a:lnTo>
                    <a:lnTo>
                      <a:pt x="228" y="202"/>
                    </a:lnTo>
                    <a:lnTo>
                      <a:pt x="235" y="201"/>
                    </a:lnTo>
                    <a:lnTo>
                      <a:pt x="239" y="198"/>
                    </a:lnTo>
                    <a:lnTo>
                      <a:pt x="245" y="194"/>
                    </a:lnTo>
                    <a:lnTo>
                      <a:pt x="248" y="191"/>
                    </a:lnTo>
                    <a:lnTo>
                      <a:pt x="250" y="185"/>
                    </a:lnTo>
                    <a:lnTo>
                      <a:pt x="250" y="181"/>
                    </a:lnTo>
                    <a:lnTo>
                      <a:pt x="250" y="175"/>
                    </a:lnTo>
                    <a:lnTo>
                      <a:pt x="248" y="171"/>
                    </a:lnTo>
                    <a:lnTo>
                      <a:pt x="244" y="165"/>
                    </a:lnTo>
                    <a:lnTo>
                      <a:pt x="239" y="162"/>
                    </a:lnTo>
                    <a:lnTo>
                      <a:pt x="235" y="158"/>
                    </a:lnTo>
                    <a:lnTo>
                      <a:pt x="235" y="100"/>
                    </a:lnTo>
                    <a:lnTo>
                      <a:pt x="235" y="54"/>
                    </a:lnTo>
                    <a:lnTo>
                      <a:pt x="235" y="49"/>
                    </a:lnTo>
                    <a:lnTo>
                      <a:pt x="234" y="43"/>
                    </a:lnTo>
                    <a:lnTo>
                      <a:pt x="231" y="39"/>
                    </a:lnTo>
                    <a:lnTo>
                      <a:pt x="229" y="34"/>
                    </a:lnTo>
                    <a:lnTo>
                      <a:pt x="225" y="28"/>
                    </a:lnTo>
                    <a:lnTo>
                      <a:pt x="221" y="23"/>
                    </a:lnTo>
                    <a:lnTo>
                      <a:pt x="216" y="20"/>
                    </a:lnTo>
                    <a:lnTo>
                      <a:pt x="210" y="16"/>
                    </a:lnTo>
                    <a:lnTo>
                      <a:pt x="204" y="13"/>
                    </a:lnTo>
                    <a:lnTo>
                      <a:pt x="195" y="9"/>
                    </a:lnTo>
                    <a:lnTo>
                      <a:pt x="186" y="6"/>
                    </a:lnTo>
                    <a:lnTo>
                      <a:pt x="176" y="4"/>
                    </a:lnTo>
                    <a:lnTo>
                      <a:pt x="165" y="3"/>
                    </a:lnTo>
                    <a:lnTo>
                      <a:pt x="153" y="2"/>
                    </a:lnTo>
                    <a:lnTo>
                      <a:pt x="139" y="0"/>
                    </a:lnTo>
                    <a:lnTo>
                      <a:pt x="126" y="0"/>
                    </a:lnTo>
                    <a:lnTo>
                      <a:pt x="111" y="0"/>
                    </a:lnTo>
                    <a:lnTo>
                      <a:pt x="98" y="2"/>
                    </a:lnTo>
                    <a:lnTo>
                      <a:pt x="85" y="3"/>
                    </a:lnTo>
                    <a:lnTo>
                      <a:pt x="75" y="4"/>
                    </a:lnTo>
                    <a:lnTo>
                      <a:pt x="65" y="6"/>
                    </a:lnTo>
                    <a:lnTo>
                      <a:pt x="56" y="9"/>
                    </a:lnTo>
                    <a:lnTo>
                      <a:pt x="47" y="13"/>
                    </a:lnTo>
                    <a:lnTo>
                      <a:pt x="40" y="16"/>
                    </a:lnTo>
                    <a:lnTo>
                      <a:pt x="34" y="20"/>
                    </a:lnTo>
                    <a:lnTo>
                      <a:pt x="29" y="23"/>
                    </a:lnTo>
                    <a:lnTo>
                      <a:pt x="25" y="28"/>
                    </a:lnTo>
                    <a:lnTo>
                      <a:pt x="22" y="34"/>
                    </a:lnTo>
                    <a:lnTo>
                      <a:pt x="19" y="39"/>
                    </a:lnTo>
                    <a:lnTo>
                      <a:pt x="17" y="43"/>
                    </a:lnTo>
                    <a:lnTo>
                      <a:pt x="15" y="49"/>
                    </a:lnTo>
                    <a:lnTo>
                      <a:pt x="15" y="54"/>
                    </a:lnTo>
                    <a:lnTo>
                      <a:pt x="15" y="103"/>
                    </a:lnTo>
                    <a:lnTo>
                      <a:pt x="15" y="158"/>
                    </a:lnTo>
                    <a:lnTo>
                      <a:pt x="11" y="162"/>
                    </a:lnTo>
                    <a:lnTo>
                      <a:pt x="7" y="165"/>
                    </a:lnTo>
                    <a:lnTo>
                      <a:pt x="3" y="171"/>
                    </a:lnTo>
                    <a:lnTo>
                      <a:pt x="0" y="175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3" y="191"/>
                    </a:lnTo>
                    <a:lnTo>
                      <a:pt x="5" y="194"/>
                    </a:lnTo>
                    <a:lnTo>
                      <a:pt x="10" y="198"/>
                    </a:lnTo>
                    <a:lnTo>
                      <a:pt x="15" y="201"/>
                    </a:lnTo>
                    <a:lnTo>
                      <a:pt x="23" y="202"/>
                    </a:lnTo>
                    <a:lnTo>
                      <a:pt x="29" y="202"/>
                    </a:lnTo>
                    <a:lnTo>
                      <a:pt x="36" y="201"/>
                    </a:lnTo>
                    <a:lnTo>
                      <a:pt x="42" y="198"/>
                    </a:lnTo>
                    <a:lnTo>
                      <a:pt x="48" y="193"/>
                    </a:lnTo>
                    <a:lnTo>
                      <a:pt x="55" y="187"/>
                    </a:lnTo>
                    <a:lnTo>
                      <a:pt x="58" y="191"/>
                    </a:lnTo>
                    <a:lnTo>
                      <a:pt x="64" y="193"/>
                    </a:lnTo>
                    <a:lnTo>
                      <a:pt x="71" y="196"/>
                    </a:lnTo>
                    <a:lnTo>
                      <a:pt x="79" y="199"/>
                    </a:lnTo>
                    <a:lnTo>
                      <a:pt x="88" y="201"/>
                    </a:lnTo>
                    <a:lnTo>
                      <a:pt x="98" y="202"/>
                    </a:lnTo>
                    <a:lnTo>
                      <a:pt x="110" y="203"/>
                    </a:lnTo>
                    <a:lnTo>
                      <a:pt x="124" y="20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941960" y="2068200"/>
                <a:ext cx="114480" cy="115560"/>
              </a:xfrm>
              <a:custGeom>
                <a:avLst/>
                <a:gdLst/>
                <a:ahLst/>
                <a:rect l="l" t="t" r="r" b="b"/>
                <a:pathLst>
                  <a:path w="143" h="146">
                    <a:moveTo>
                      <a:pt x="143" y="146"/>
                    </a:moveTo>
                    <a:lnTo>
                      <a:pt x="143" y="141"/>
                    </a:lnTo>
                    <a:lnTo>
                      <a:pt x="143" y="129"/>
                    </a:lnTo>
                    <a:lnTo>
                      <a:pt x="143" y="113"/>
                    </a:lnTo>
                    <a:lnTo>
                      <a:pt x="143" y="92"/>
                    </a:lnTo>
                    <a:lnTo>
                      <a:pt x="143" y="71"/>
                    </a:lnTo>
                    <a:lnTo>
                      <a:pt x="143" y="52"/>
                    </a:lnTo>
                    <a:lnTo>
                      <a:pt x="143" y="36"/>
                    </a:lnTo>
                    <a:lnTo>
                      <a:pt x="143" y="26"/>
                    </a:lnTo>
                    <a:lnTo>
                      <a:pt x="142" y="23"/>
                    </a:lnTo>
                    <a:lnTo>
                      <a:pt x="140" y="20"/>
                    </a:lnTo>
                    <a:lnTo>
                      <a:pt x="139" y="17"/>
                    </a:lnTo>
                    <a:lnTo>
                      <a:pt x="136" y="14"/>
                    </a:lnTo>
                    <a:lnTo>
                      <a:pt x="128" y="10"/>
                    </a:lnTo>
                    <a:lnTo>
                      <a:pt x="117" y="7"/>
                    </a:lnTo>
                    <a:lnTo>
                      <a:pt x="106" y="3"/>
                    </a:lnTo>
                    <a:lnTo>
                      <a:pt x="94" y="1"/>
                    </a:lnTo>
                    <a:lnTo>
                      <a:pt x="83" y="0"/>
                    </a:lnTo>
                    <a:lnTo>
                      <a:pt x="71" y="0"/>
                    </a:lnTo>
                    <a:lnTo>
                      <a:pt x="59" y="0"/>
                    </a:lnTo>
                    <a:lnTo>
                      <a:pt x="48" y="1"/>
                    </a:lnTo>
                    <a:lnTo>
                      <a:pt x="35" y="3"/>
                    </a:lnTo>
                    <a:lnTo>
                      <a:pt x="24" y="7"/>
                    </a:lnTo>
                    <a:lnTo>
                      <a:pt x="15" y="10"/>
                    </a:lnTo>
                    <a:lnTo>
                      <a:pt x="6" y="14"/>
                    </a:lnTo>
                    <a:lnTo>
                      <a:pt x="3" y="17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0" y="52"/>
                    </a:lnTo>
                    <a:lnTo>
                      <a:pt x="0" y="71"/>
                    </a:lnTo>
                    <a:lnTo>
                      <a:pt x="0" y="92"/>
                    </a:lnTo>
                    <a:lnTo>
                      <a:pt x="0" y="113"/>
                    </a:lnTo>
                    <a:lnTo>
                      <a:pt x="0" y="129"/>
                    </a:lnTo>
                    <a:lnTo>
                      <a:pt x="0" y="141"/>
                    </a:lnTo>
                    <a:lnTo>
                      <a:pt x="0" y="146"/>
                    </a:lnTo>
                    <a:lnTo>
                      <a:pt x="143" y="14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819920" y="1955880"/>
                <a:ext cx="198360" cy="161640"/>
              </a:xfrm>
              <a:custGeom>
                <a:avLst/>
                <a:gdLst/>
                <a:ahLst/>
                <a:rect l="l" t="t" r="r" b="b"/>
                <a:pathLst>
                  <a:path w="250" h="203">
                    <a:moveTo>
                      <a:pt x="124" y="203"/>
                    </a:moveTo>
                    <a:lnTo>
                      <a:pt x="139" y="203"/>
                    </a:lnTo>
                    <a:lnTo>
                      <a:pt x="151" y="202"/>
                    </a:lnTo>
                    <a:lnTo>
                      <a:pt x="162" y="201"/>
                    </a:lnTo>
                    <a:lnTo>
                      <a:pt x="171" y="199"/>
                    </a:lnTo>
                    <a:lnTo>
                      <a:pt x="181" y="196"/>
                    </a:lnTo>
                    <a:lnTo>
                      <a:pt x="188" y="193"/>
                    </a:lnTo>
                    <a:lnTo>
                      <a:pt x="192" y="191"/>
                    </a:lnTo>
                    <a:lnTo>
                      <a:pt x="197" y="187"/>
                    </a:lnTo>
                    <a:lnTo>
                      <a:pt x="203" y="193"/>
                    </a:lnTo>
                    <a:lnTo>
                      <a:pt x="209" y="198"/>
                    </a:lnTo>
                    <a:lnTo>
                      <a:pt x="214" y="201"/>
                    </a:lnTo>
                    <a:lnTo>
                      <a:pt x="221" y="202"/>
                    </a:lnTo>
                    <a:lnTo>
                      <a:pt x="228" y="202"/>
                    </a:lnTo>
                    <a:lnTo>
                      <a:pt x="235" y="201"/>
                    </a:lnTo>
                    <a:lnTo>
                      <a:pt x="239" y="198"/>
                    </a:lnTo>
                    <a:lnTo>
                      <a:pt x="245" y="194"/>
                    </a:lnTo>
                    <a:lnTo>
                      <a:pt x="248" y="191"/>
                    </a:lnTo>
                    <a:lnTo>
                      <a:pt x="250" y="185"/>
                    </a:lnTo>
                    <a:lnTo>
                      <a:pt x="250" y="181"/>
                    </a:lnTo>
                    <a:lnTo>
                      <a:pt x="250" y="175"/>
                    </a:lnTo>
                    <a:lnTo>
                      <a:pt x="248" y="171"/>
                    </a:lnTo>
                    <a:lnTo>
                      <a:pt x="244" y="165"/>
                    </a:lnTo>
                    <a:lnTo>
                      <a:pt x="239" y="162"/>
                    </a:lnTo>
                    <a:lnTo>
                      <a:pt x="235" y="158"/>
                    </a:lnTo>
                    <a:lnTo>
                      <a:pt x="235" y="100"/>
                    </a:lnTo>
                    <a:lnTo>
                      <a:pt x="235" y="54"/>
                    </a:lnTo>
                    <a:lnTo>
                      <a:pt x="235" y="49"/>
                    </a:lnTo>
                    <a:lnTo>
                      <a:pt x="234" y="43"/>
                    </a:lnTo>
                    <a:lnTo>
                      <a:pt x="231" y="39"/>
                    </a:lnTo>
                    <a:lnTo>
                      <a:pt x="229" y="34"/>
                    </a:lnTo>
                    <a:lnTo>
                      <a:pt x="225" y="29"/>
                    </a:lnTo>
                    <a:lnTo>
                      <a:pt x="221" y="24"/>
                    </a:lnTo>
                    <a:lnTo>
                      <a:pt x="216" y="21"/>
                    </a:lnTo>
                    <a:lnTo>
                      <a:pt x="210" y="17"/>
                    </a:lnTo>
                    <a:lnTo>
                      <a:pt x="204" y="14"/>
                    </a:lnTo>
                    <a:lnTo>
                      <a:pt x="195" y="10"/>
                    </a:lnTo>
                    <a:lnTo>
                      <a:pt x="186" y="6"/>
                    </a:lnTo>
                    <a:lnTo>
                      <a:pt x="176" y="4"/>
                    </a:lnTo>
                    <a:lnTo>
                      <a:pt x="166" y="3"/>
                    </a:lnTo>
                    <a:lnTo>
                      <a:pt x="154" y="2"/>
                    </a:lnTo>
                    <a:lnTo>
                      <a:pt x="139" y="0"/>
                    </a:lnTo>
                    <a:lnTo>
                      <a:pt x="126" y="0"/>
                    </a:lnTo>
                    <a:lnTo>
                      <a:pt x="111" y="0"/>
                    </a:lnTo>
                    <a:lnTo>
                      <a:pt x="98" y="2"/>
                    </a:lnTo>
                    <a:lnTo>
                      <a:pt x="85" y="3"/>
                    </a:lnTo>
                    <a:lnTo>
                      <a:pt x="75" y="4"/>
                    </a:lnTo>
                    <a:lnTo>
                      <a:pt x="65" y="6"/>
                    </a:lnTo>
                    <a:lnTo>
                      <a:pt x="56" y="10"/>
                    </a:lnTo>
                    <a:lnTo>
                      <a:pt x="48" y="14"/>
                    </a:lnTo>
                    <a:lnTo>
                      <a:pt x="41" y="17"/>
                    </a:lnTo>
                    <a:lnTo>
                      <a:pt x="35" y="21"/>
                    </a:lnTo>
                    <a:lnTo>
                      <a:pt x="30" y="24"/>
                    </a:lnTo>
                    <a:lnTo>
                      <a:pt x="26" y="29"/>
                    </a:lnTo>
                    <a:lnTo>
                      <a:pt x="22" y="34"/>
                    </a:lnTo>
                    <a:lnTo>
                      <a:pt x="19" y="39"/>
                    </a:lnTo>
                    <a:lnTo>
                      <a:pt x="17" y="43"/>
                    </a:lnTo>
                    <a:lnTo>
                      <a:pt x="15" y="49"/>
                    </a:lnTo>
                    <a:lnTo>
                      <a:pt x="15" y="54"/>
                    </a:lnTo>
                    <a:lnTo>
                      <a:pt x="15" y="103"/>
                    </a:lnTo>
                    <a:lnTo>
                      <a:pt x="15" y="158"/>
                    </a:lnTo>
                    <a:lnTo>
                      <a:pt x="11" y="162"/>
                    </a:lnTo>
                    <a:lnTo>
                      <a:pt x="7" y="165"/>
                    </a:lnTo>
                    <a:lnTo>
                      <a:pt x="3" y="171"/>
                    </a:lnTo>
                    <a:lnTo>
                      <a:pt x="0" y="175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3" y="191"/>
                    </a:lnTo>
                    <a:lnTo>
                      <a:pt x="5" y="194"/>
                    </a:lnTo>
                    <a:lnTo>
                      <a:pt x="10" y="198"/>
                    </a:lnTo>
                    <a:lnTo>
                      <a:pt x="15" y="201"/>
                    </a:lnTo>
                    <a:lnTo>
                      <a:pt x="23" y="202"/>
                    </a:lnTo>
                    <a:lnTo>
                      <a:pt x="30" y="202"/>
                    </a:lnTo>
                    <a:lnTo>
                      <a:pt x="37" y="201"/>
                    </a:lnTo>
                    <a:lnTo>
                      <a:pt x="43" y="198"/>
                    </a:lnTo>
                    <a:lnTo>
                      <a:pt x="49" y="193"/>
                    </a:lnTo>
                    <a:lnTo>
                      <a:pt x="55" y="187"/>
                    </a:lnTo>
                    <a:lnTo>
                      <a:pt x="58" y="191"/>
                    </a:lnTo>
                    <a:lnTo>
                      <a:pt x="64" y="193"/>
                    </a:lnTo>
                    <a:lnTo>
                      <a:pt x="71" y="196"/>
                    </a:lnTo>
                    <a:lnTo>
                      <a:pt x="79" y="199"/>
                    </a:lnTo>
                    <a:lnTo>
                      <a:pt x="88" y="201"/>
                    </a:lnTo>
                    <a:lnTo>
                      <a:pt x="98" y="202"/>
                    </a:lnTo>
                    <a:lnTo>
                      <a:pt x="110" y="203"/>
                    </a:lnTo>
                    <a:lnTo>
                      <a:pt x="124" y="20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862760" y="1987560"/>
                <a:ext cx="112680" cy="115200"/>
              </a:xfrm>
              <a:custGeom>
                <a:avLst/>
                <a:gdLst/>
                <a:ahLst/>
                <a:rect l="l" t="t" r="r" b="b"/>
                <a:pathLst>
                  <a:path w="143" h="146">
                    <a:moveTo>
                      <a:pt x="143" y="146"/>
                    </a:moveTo>
                    <a:lnTo>
                      <a:pt x="143" y="141"/>
                    </a:lnTo>
                    <a:lnTo>
                      <a:pt x="143" y="129"/>
                    </a:lnTo>
                    <a:lnTo>
                      <a:pt x="143" y="113"/>
                    </a:lnTo>
                    <a:lnTo>
                      <a:pt x="143" y="93"/>
                    </a:lnTo>
                    <a:lnTo>
                      <a:pt x="143" y="71"/>
                    </a:lnTo>
                    <a:lnTo>
                      <a:pt x="143" y="52"/>
                    </a:lnTo>
                    <a:lnTo>
                      <a:pt x="143" y="36"/>
                    </a:lnTo>
                    <a:lnTo>
                      <a:pt x="143" y="26"/>
                    </a:lnTo>
                    <a:lnTo>
                      <a:pt x="142" y="23"/>
                    </a:lnTo>
                    <a:lnTo>
                      <a:pt x="140" y="20"/>
                    </a:lnTo>
                    <a:lnTo>
                      <a:pt x="139" y="17"/>
                    </a:lnTo>
                    <a:lnTo>
                      <a:pt x="136" y="14"/>
                    </a:lnTo>
                    <a:lnTo>
                      <a:pt x="128" y="10"/>
                    </a:lnTo>
                    <a:lnTo>
                      <a:pt x="118" y="7"/>
                    </a:lnTo>
                    <a:lnTo>
                      <a:pt x="107" y="3"/>
                    </a:lnTo>
                    <a:lnTo>
                      <a:pt x="94" y="1"/>
                    </a:lnTo>
                    <a:lnTo>
                      <a:pt x="83" y="0"/>
                    </a:lnTo>
                    <a:lnTo>
                      <a:pt x="71" y="0"/>
                    </a:lnTo>
                    <a:lnTo>
                      <a:pt x="59" y="0"/>
                    </a:lnTo>
                    <a:lnTo>
                      <a:pt x="48" y="1"/>
                    </a:lnTo>
                    <a:lnTo>
                      <a:pt x="35" y="3"/>
                    </a:lnTo>
                    <a:lnTo>
                      <a:pt x="24" y="7"/>
                    </a:lnTo>
                    <a:lnTo>
                      <a:pt x="15" y="10"/>
                    </a:lnTo>
                    <a:lnTo>
                      <a:pt x="6" y="14"/>
                    </a:lnTo>
                    <a:lnTo>
                      <a:pt x="3" y="17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0" y="52"/>
                    </a:lnTo>
                    <a:lnTo>
                      <a:pt x="0" y="71"/>
                    </a:lnTo>
                    <a:lnTo>
                      <a:pt x="0" y="93"/>
                    </a:lnTo>
                    <a:lnTo>
                      <a:pt x="0" y="113"/>
                    </a:lnTo>
                    <a:lnTo>
                      <a:pt x="0" y="129"/>
                    </a:lnTo>
                    <a:lnTo>
                      <a:pt x="0" y="141"/>
                    </a:lnTo>
                    <a:lnTo>
                      <a:pt x="0" y="146"/>
                    </a:lnTo>
                    <a:lnTo>
                      <a:pt x="143" y="14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819920" y="1955880"/>
                <a:ext cx="198360" cy="161640"/>
              </a:xfrm>
              <a:custGeom>
                <a:avLst/>
                <a:gdLst/>
                <a:ahLst/>
                <a:rect l="l" t="t" r="r" b="b"/>
                <a:pathLst>
                  <a:path w="250" h="203">
                    <a:moveTo>
                      <a:pt x="124" y="203"/>
                    </a:moveTo>
                    <a:lnTo>
                      <a:pt x="139" y="203"/>
                    </a:lnTo>
                    <a:lnTo>
                      <a:pt x="151" y="202"/>
                    </a:lnTo>
                    <a:lnTo>
                      <a:pt x="162" y="201"/>
                    </a:lnTo>
                    <a:lnTo>
                      <a:pt x="171" y="199"/>
                    </a:lnTo>
                    <a:lnTo>
                      <a:pt x="181" y="196"/>
                    </a:lnTo>
                    <a:lnTo>
                      <a:pt x="188" y="193"/>
                    </a:lnTo>
                    <a:lnTo>
                      <a:pt x="192" y="191"/>
                    </a:lnTo>
                    <a:lnTo>
                      <a:pt x="197" y="187"/>
                    </a:lnTo>
                    <a:lnTo>
                      <a:pt x="203" y="193"/>
                    </a:lnTo>
                    <a:lnTo>
                      <a:pt x="209" y="198"/>
                    </a:lnTo>
                    <a:lnTo>
                      <a:pt x="214" y="201"/>
                    </a:lnTo>
                    <a:lnTo>
                      <a:pt x="221" y="202"/>
                    </a:lnTo>
                    <a:lnTo>
                      <a:pt x="228" y="202"/>
                    </a:lnTo>
                    <a:lnTo>
                      <a:pt x="235" y="201"/>
                    </a:lnTo>
                    <a:lnTo>
                      <a:pt x="239" y="198"/>
                    </a:lnTo>
                    <a:lnTo>
                      <a:pt x="245" y="194"/>
                    </a:lnTo>
                    <a:lnTo>
                      <a:pt x="248" y="191"/>
                    </a:lnTo>
                    <a:lnTo>
                      <a:pt x="250" y="185"/>
                    </a:lnTo>
                    <a:lnTo>
                      <a:pt x="250" y="181"/>
                    </a:lnTo>
                    <a:lnTo>
                      <a:pt x="250" y="175"/>
                    </a:lnTo>
                    <a:lnTo>
                      <a:pt x="248" y="171"/>
                    </a:lnTo>
                    <a:lnTo>
                      <a:pt x="244" y="165"/>
                    </a:lnTo>
                    <a:lnTo>
                      <a:pt x="239" y="162"/>
                    </a:lnTo>
                    <a:lnTo>
                      <a:pt x="235" y="158"/>
                    </a:lnTo>
                    <a:lnTo>
                      <a:pt x="235" y="100"/>
                    </a:lnTo>
                    <a:lnTo>
                      <a:pt x="235" y="54"/>
                    </a:lnTo>
                    <a:lnTo>
                      <a:pt x="235" y="49"/>
                    </a:lnTo>
                    <a:lnTo>
                      <a:pt x="234" y="43"/>
                    </a:lnTo>
                    <a:lnTo>
                      <a:pt x="231" y="39"/>
                    </a:lnTo>
                    <a:lnTo>
                      <a:pt x="229" y="34"/>
                    </a:lnTo>
                    <a:lnTo>
                      <a:pt x="225" y="29"/>
                    </a:lnTo>
                    <a:lnTo>
                      <a:pt x="221" y="24"/>
                    </a:lnTo>
                    <a:lnTo>
                      <a:pt x="216" y="21"/>
                    </a:lnTo>
                    <a:lnTo>
                      <a:pt x="210" y="17"/>
                    </a:lnTo>
                    <a:lnTo>
                      <a:pt x="204" y="14"/>
                    </a:lnTo>
                    <a:lnTo>
                      <a:pt x="195" y="10"/>
                    </a:lnTo>
                    <a:lnTo>
                      <a:pt x="186" y="6"/>
                    </a:lnTo>
                    <a:lnTo>
                      <a:pt x="176" y="4"/>
                    </a:lnTo>
                    <a:lnTo>
                      <a:pt x="166" y="3"/>
                    </a:lnTo>
                    <a:lnTo>
                      <a:pt x="154" y="2"/>
                    </a:lnTo>
                    <a:lnTo>
                      <a:pt x="139" y="0"/>
                    </a:lnTo>
                    <a:lnTo>
                      <a:pt x="126" y="0"/>
                    </a:lnTo>
                    <a:lnTo>
                      <a:pt x="111" y="0"/>
                    </a:lnTo>
                    <a:lnTo>
                      <a:pt x="98" y="2"/>
                    </a:lnTo>
                    <a:lnTo>
                      <a:pt x="85" y="3"/>
                    </a:lnTo>
                    <a:lnTo>
                      <a:pt x="75" y="4"/>
                    </a:lnTo>
                    <a:lnTo>
                      <a:pt x="65" y="6"/>
                    </a:lnTo>
                    <a:lnTo>
                      <a:pt x="56" y="10"/>
                    </a:lnTo>
                    <a:lnTo>
                      <a:pt x="48" y="14"/>
                    </a:lnTo>
                    <a:lnTo>
                      <a:pt x="41" y="17"/>
                    </a:lnTo>
                    <a:lnTo>
                      <a:pt x="35" y="21"/>
                    </a:lnTo>
                    <a:lnTo>
                      <a:pt x="30" y="24"/>
                    </a:lnTo>
                    <a:lnTo>
                      <a:pt x="26" y="29"/>
                    </a:lnTo>
                    <a:lnTo>
                      <a:pt x="22" y="34"/>
                    </a:lnTo>
                    <a:lnTo>
                      <a:pt x="19" y="39"/>
                    </a:lnTo>
                    <a:lnTo>
                      <a:pt x="17" y="43"/>
                    </a:lnTo>
                    <a:lnTo>
                      <a:pt x="15" y="49"/>
                    </a:lnTo>
                    <a:lnTo>
                      <a:pt x="15" y="54"/>
                    </a:lnTo>
                    <a:lnTo>
                      <a:pt x="15" y="103"/>
                    </a:lnTo>
                    <a:lnTo>
                      <a:pt x="15" y="158"/>
                    </a:lnTo>
                    <a:lnTo>
                      <a:pt x="11" y="162"/>
                    </a:lnTo>
                    <a:lnTo>
                      <a:pt x="7" y="165"/>
                    </a:lnTo>
                    <a:lnTo>
                      <a:pt x="3" y="171"/>
                    </a:lnTo>
                    <a:lnTo>
                      <a:pt x="0" y="175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3" y="191"/>
                    </a:lnTo>
                    <a:lnTo>
                      <a:pt x="5" y="194"/>
                    </a:lnTo>
                    <a:lnTo>
                      <a:pt x="10" y="198"/>
                    </a:lnTo>
                    <a:lnTo>
                      <a:pt x="15" y="201"/>
                    </a:lnTo>
                    <a:lnTo>
                      <a:pt x="23" y="202"/>
                    </a:lnTo>
                    <a:lnTo>
                      <a:pt x="30" y="202"/>
                    </a:lnTo>
                    <a:lnTo>
                      <a:pt x="37" y="201"/>
                    </a:lnTo>
                    <a:lnTo>
                      <a:pt x="43" y="198"/>
                    </a:lnTo>
                    <a:lnTo>
                      <a:pt x="49" y="193"/>
                    </a:lnTo>
                    <a:lnTo>
                      <a:pt x="55" y="187"/>
                    </a:lnTo>
                    <a:lnTo>
                      <a:pt x="58" y="191"/>
                    </a:lnTo>
                    <a:lnTo>
                      <a:pt x="64" y="193"/>
                    </a:lnTo>
                    <a:lnTo>
                      <a:pt x="71" y="196"/>
                    </a:lnTo>
                    <a:lnTo>
                      <a:pt x="79" y="199"/>
                    </a:lnTo>
                    <a:lnTo>
                      <a:pt x="88" y="201"/>
                    </a:lnTo>
                    <a:lnTo>
                      <a:pt x="98" y="202"/>
                    </a:lnTo>
                    <a:lnTo>
                      <a:pt x="110" y="203"/>
                    </a:lnTo>
                    <a:lnTo>
                      <a:pt x="124" y="203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862760" y="1987560"/>
                <a:ext cx="112680" cy="115200"/>
              </a:xfrm>
              <a:custGeom>
                <a:avLst/>
                <a:gdLst/>
                <a:ahLst/>
                <a:rect l="l" t="t" r="r" b="b"/>
                <a:pathLst>
                  <a:path w="143" h="146">
                    <a:moveTo>
                      <a:pt x="143" y="146"/>
                    </a:moveTo>
                    <a:lnTo>
                      <a:pt x="143" y="141"/>
                    </a:lnTo>
                    <a:lnTo>
                      <a:pt x="143" y="129"/>
                    </a:lnTo>
                    <a:lnTo>
                      <a:pt x="143" y="113"/>
                    </a:lnTo>
                    <a:lnTo>
                      <a:pt x="143" y="93"/>
                    </a:lnTo>
                    <a:lnTo>
                      <a:pt x="143" y="71"/>
                    </a:lnTo>
                    <a:lnTo>
                      <a:pt x="143" y="52"/>
                    </a:lnTo>
                    <a:lnTo>
                      <a:pt x="143" y="36"/>
                    </a:lnTo>
                    <a:lnTo>
                      <a:pt x="143" y="26"/>
                    </a:lnTo>
                    <a:lnTo>
                      <a:pt x="142" y="23"/>
                    </a:lnTo>
                    <a:lnTo>
                      <a:pt x="140" y="20"/>
                    </a:lnTo>
                    <a:lnTo>
                      <a:pt x="139" y="17"/>
                    </a:lnTo>
                    <a:lnTo>
                      <a:pt x="136" y="14"/>
                    </a:lnTo>
                    <a:lnTo>
                      <a:pt x="128" y="10"/>
                    </a:lnTo>
                    <a:lnTo>
                      <a:pt x="118" y="7"/>
                    </a:lnTo>
                    <a:lnTo>
                      <a:pt x="107" y="3"/>
                    </a:lnTo>
                    <a:lnTo>
                      <a:pt x="94" y="1"/>
                    </a:lnTo>
                    <a:lnTo>
                      <a:pt x="83" y="0"/>
                    </a:lnTo>
                    <a:lnTo>
                      <a:pt x="71" y="0"/>
                    </a:lnTo>
                    <a:lnTo>
                      <a:pt x="59" y="0"/>
                    </a:lnTo>
                    <a:lnTo>
                      <a:pt x="48" y="1"/>
                    </a:lnTo>
                    <a:lnTo>
                      <a:pt x="35" y="3"/>
                    </a:lnTo>
                    <a:lnTo>
                      <a:pt x="24" y="7"/>
                    </a:lnTo>
                    <a:lnTo>
                      <a:pt x="15" y="10"/>
                    </a:lnTo>
                    <a:lnTo>
                      <a:pt x="6" y="14"/>
                    </a:lnTo>
                    <a:lnTo>
                      <a:pt x="3" y="17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0" y="52"/>
                    </a:lnTo>
                    <a:lnTo>
                      <a:pt x="0" y="71"/>
                    </a:lnTo>
                    <a:lnTo>
                      <a:pt x="0" y="93"/>
                    </a:lnTo>
                    <a:lnTo>
                      <a:pt x="0" y="113"/>
                    </a:lnTo>
                    <a:lnTo>
                      <a:pt x="0" y="129"/>
                    </a:lnTo>
                    <a:lnTo>
                      <a:pt x="0" y="141"/>
                    </a:lnTo>
                    <a:lnTo>
                      <a:pt x="0" y="14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7807320" y="1811160"/>
              <a:ext cx="223920" cy="189000"/>
              <a:chOff x="7807320" y="1811160"/>
              <a:chExt cx="223920" cy="189000"/>
            </a:xfrm>
          </p:grpSpPr>
          <p:sp>
            <p:nvSpPr>
              <p:cNvPr id="470" name=""/>
              <p:cNvSpPr/>
              <p:nvPr/>
            </p:nvSpPr>
            <p:spPr>
              <a:xfrm>
                <a:off x="7842240" y="1811160"/>
                <a:ext cx="155520" cy="125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07320" y="1942920"/>
                <a:ext cx="223920" cy="41400"/>
              </a:xfrm>
              <a:custGeom>
                <a:avLst/>
                <a:gdLst/>
                <a:ahLst/>
                <a:rect l="l" t="t" r="r" b="b"/>
                <a:pathLst>
                  <a:path w="283" h="54">
                    <a:moveTo>
                      <a:pt x="44" y="0"/>
                    </a:moveTo>
                    <a:lnTo>
                      <a:pt x="0" y="54"/>
                    </a:lnTo>
                    <a:lnTo>
                      <a:pt x="283" y="54"/>
                    </a:lnTo>
                    <a:lnTo>
                      <a:pt x="240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807320" y="1984320"/>
                <a:ext cx="223920" cy="15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50160" y="1823760"/>
                <a:ext cx="139680" cy="98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837560" y="1947600"/>
                <a:ext cx="163440" cy="5040"/>
              </a:xfrm>
              <a:custGeom>
                <a:avLst/>
                <a:gdLst/>
                <a:ahLst/>
                <a:rect l="l" t="t" r="r" b="b"/>
                <a:pathLst>
                  <a:path w="207" h="6">
                    <a:moveTo>
                      <a:pt x="6" y="0"/>
                    </a:moveTo>
                    <a:lnTo>
                      <a:pt x="0" y="6"/>
                    </a:lnTo>
                    <a:lnTo>
                      <a:pt x="207" y="6"/>
                    </a:lnTo>
                    <a:lnTo>
                      <a:pt x="20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867800" y="1971360"/>
                <a:ext cx="102960" cy="5040"/>
              </a:xfrm>
              <a:custGeom>
                <a:avLst/>
                <a:gdLst/>
                <a:ahLst/>
                <a:rect l="l" t="t" r="r" b="b"/>
                <a:pathLst>
                  <a:path w="129" h="6">
                    <a:moveTo>
                      <a:pt x="4" y="0"/>
                    </a:moveTo>
                    <a:lnTo>
                      <a:pt x="0" y="6"/>
                    </a:lnTo>
                    <a:lnTo>
                      <a:pt x="129" y="6"/>
                    </a:lnTo>
                    <a:lnTo>
                      <a:pt x="12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831080" y="1955520"/>
                <a:ext cx="176400" cy="5040"/>
              </a:xfrm>
              <a:custGeom>
                <a:avLst/>
                <a:gdLst/>
                <a:ahLst/>
                <a:rect l="l" t="t" r="r" b="b"/>
                <a:pathLst>
                  <a:path w="222" h="6">
                    <a:moveTo>
                      <a:pt x="6" y="0"/>
                    </a:moveTo>
                    <a:lnTo>
                      <a:pt x="0" y="6"/>
                    </a:lnTo>
                    <a:lnTo>
                      <a:pt x="222" y="6"/>
                    </a:lnTo>
                    <a:lnTo>
                      <a:pt x="21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26400" y="1962000"/>
                <a:ext cx="187560" cy="6480"/>
              </a:xfrm>
              <a:custGeom>
                <a:avLst/>
                <a:gdLst/>
                <a:ahLst/>
                <a:rect l="l" t="t" r="r" b="b"/>
                <a:pathLst>
                  <a:path w="236" h="7">
                    <a:moveTo>
                      <a:pt x="6" y="0"/>
                    </a:moveTo>
                    <a:lnTo>
                      <a:pt x="0" y="7"/>
                    </a:lnTo>
                    <a:lnTo>
                      <a:pt x="236" y="7"/>
                    </a:lnTo>
                    <a:lnTo>
                      <a:pt x="23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7496280" y="1852560"/>
              <a:ext cx="257040" cy="104760"/>
              <a:chOff x="7496280" y="1852560"/>
              <a:chExt cx="257040" cy="104760"/>
            </a:xfrm>
          </p:grpSpPr>
          <p:sp>
            <p:nvSpPr>
              <p:cNvPr id="479" name=""/>
              <p:cNvSpPr/>
              <p:nvPr/>
            </p:nvSpPr>
            <p:spPr>
              <a:xfrm>
                <a:off x="7496280" y="1903320"/>
                <a:ext cx="154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48560" y="185256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132" h="132">
                    <a:moveTo>
                      <a:pt x="0" y="132"/>
                    </a:moveTo>
                    <a:lnTo>
                      <a:pt x="132" y="66"/>
                    </a:lnTo>
                    <a:lnTo>
                      <a:pt x="0" y="0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7486560" y="1965240"/>
              <a:ext cx="252360" cy="104760"/>
              <a:chOff x="7486560" y="1965240"/>
              <a:chExt cx="252360" cy="104760"/>
            </a:xfrm>
          </p:grpSpPr>
          <p:sp>
            <p:nvSpPr>
              <p:cNvPr id="482" name=""/>
              <p:cNvSpPr/>
              <p:nvPr/>
            </p:nvSpPr>
            <p:spPr>
              <a:xfrm flipH="1">
                <a:off x="7591320" y="2017440"/>
                <a:ext cx="1476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486560" y="1965240"/>
                <a:ext cx="106200" cy="104760"/>
              </a:xfrm>
              <a:custGeom>
                <a:avLst/>
                <a:gdLst/>
                <a:ahLst/>
                <a:rect l="l" t="t" r="r" b="b"/>
                <a:pathLst>
                  <a:path w="132" h="132">
                    <a:moveTo>
                      <a:pt x="132" y="0"/>
                    </a:moveTo>
                    <a:lnTo>
                      <a:pt x="0" y="66"/>
                    </a:lnTo>
                    <a:lnTo>
                      <a:pt x="132" y="132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6219720" y="1276200"/>
              <a:ext cx="1838520" cy="38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19440" y="1332000"/>
              <a:ext cx="1542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Individual Training St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20520" y="1469880"/>
              <a:ext cx="96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rom any lo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22600" y="1147680"/>
              <a:ext cx="19080" cy="1586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561960" y="558720"/>
            <a:ext cx="790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57200" y="108576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M specifies a simple model for identifying and tracking of training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re (if applic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ccess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tion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simulation assessment data must limit itself to the above general data elements in order for a SCORM compliant LMS to track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training simulation (defined as a single SCO) can have multiple training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 can be used to determine sequencing and navigation (i.e. launching of other simul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61960" y="558720"/>
            <a:ext cx="790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44520" y="208080"/>
            <a:ext cx="470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Civil Support Team Trainer –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88920" y="0"/>
            <a:ext cx="91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561960" y="558720"/>
            <a:ext cx="790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anslating Interactions into Training Tasks and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19000" y="1050840"/>
            <a:ext cx="729792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data model should be agreed upon that outlines how simulation events 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 into tasks, and how tasks roll up into 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would facilitate the development of assessment models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training obj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buSzPct val="10283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se models could be stored dynamically and could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ified as the curriculum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buSzPct val="10283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rovides a public interface for a variety of assessmen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buSzPct val="10283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buSzPct val="10283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buSzPct val="10283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61960" y="3882960"/>
            <a:ext cx="790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mmunicating the results of the assessment through SC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19000" y="4384800"/>
            <a:ext cx="7842240" cy="16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RM should be extended to provide a communication API external to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wser. This would be comprised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buSzPct val="102837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tandard java applet for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buSzPct val="102837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definition for a standard messaging protocol for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buSzPct val="102837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ative library (.dll/.so) that communicates with the Java Applet as 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on for developers to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448080" y="4248000"/>
            <a:ext cx="5502240" cy="190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6189840"/>
            <a:ext cx="9144000" cy="668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0"/>
            <a:ext cx="152280" cy="62485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e6e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57320" y="0"/>
            <a:ext cx="0" cy="6186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39680" y="6186600"/>
            <a:ext cx="8861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2190600" y="-360"/>
            <a:ext cx="0" cy="461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9680" y="264960"/>
            <a:ext cx="8842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66680" y="4597200"/>
            <a:ext cx="2035080" cy="15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013200" y="3041640"/>
            <a:ext cx="64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INEERING &amp; COMPUTER SIMULATIONS, I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71360" y="285840"/>
            <a:ext cx="3276720" cy="5867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897440" y="1260360"/>
            <a:ext cx="2744640" cy="151776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324000" y="2475000"/>
            <a:ext cx="2943000" cy="15667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317520" y="722160"/>
            <a:ext cx="2962080" cy="15606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 rot="10800000">
            <a:off x="8992800" y="-1800"/>
            <a:ext cx="150840" cy="61722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988480" y="57960"/>
            <a:ext cx="0" cy="614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4"/>
          <a:stretch/>
        </p:blipFill>
        <p:spPr>
          <a:xfrm>
            <a:off x="314280" y="4260960"/>
            <a:ext cx="2954520" cy="15778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5"/>
          <a:stretch/>
        </p:blipFill>
        <p:spPr>
          <a:xfrm>
            <a:off x="1123920" y="5116680"/>
            <a:ext cx="1182600" cy="7984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831480" y="5451480"/>
            <a:ext cx="47815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ineering &amp; Computer Simulations, Inc. • 3501 Quadrangle Blvd. Suite 2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lando, FL 328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bsite: http://www.ecsorl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514680" y="4324320"/>
            <a:ext cx="5295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4148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ent Smi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is Dubu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4148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ce President/CT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Manager, Advanced Learning Environ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4148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ne:  (407) 823-9991 x30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ne:  (407) 823-9991x3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4148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Mail:  brents@ecsorl.co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Mail:  chrisd@ecsorl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4148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x:  (407) 823-829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x:  (407) 823-8299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553080" y="440064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81480" y="4343400"/>
            <a:ext cx="1600200" cy="1065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6600" y="492120"/>
            <a:ext cx="790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CS Backgrou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63600" y="307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759040" y="4844880"/>
            <a:ext cx="1488960" cy="1117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rcRect l="0" t="0" r="5550" b="10426"/>
          <a:stretch/>
        </p:blipFill>
        <p:spPr>
          <a:xfrm>
            <a:off x="2787480" y="3962520"/>
            <a:ext cx="1403640" cy="968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59" name=""/>
          <p:cNvGrpSpPr/>
          <p:nvPr/>
        </p:nvGrpSpPr>
        <p:grpSpPr>
          <a:xfrm>
            <a:off x="3868560" y="4021200"/>
            <a:ext cx="1631880" cy="1611000"/>
            <a:chOff x="3868560" y="4021200"/>
            <a:chExt cx="1631880" cy="1611000"/>
          </a:xfrm>
        </p:grpSpPr>
        <p:sp>
          <p:nvSpPr>
            <p:cNvPr id="60" name=""/>
            <p:cNvSpPr/>
            <p:nvPr/>
          </p:nvSpPr>
          <p:spPr>
            <a:xfrm>
              <a:off x="3868560" y="4021200"/>
              <a:ext cx="1630440" cy="161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130" y="19550"/>
                  </a:moveTo>
                  <a:arcTo wR="10800" hR="10800" stAng="3247072" swAng="4308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130" y="19550"/>
                  </a:moveTo>
                  <a:arcTo wR="10800" hR="10800" stAng="3247072" swAng="4308523"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9640" y="4021200"/>
              <a:ext cx="1630080" cy="161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0" y="0"/>
                  </a:moveTo>
                  <a:arcTo wR="10800" hR="10800" stAng="-5403289" swAng="43128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0" y="0"/>
                  </a:moveTo>
                  <a:arcTo wR="10800" hR="10800" stAng="-5403289" swAng="4312842"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68560" y="4021200"/>
              <a:ext cx="1631880" cy="160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61" y="7431"/>
                  </a:moveTo>
                  <a:arcTo wR="10800" hR="10800" stAng="-1090447" swAng="43375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61" y="7431"/>
                  </a:moveTo>
                  <a:arcTo wR="10800" hR="10800" stAng="-1090447" swAng="4337519"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68560" y="4022640"/>
              <a:ext cx="1631880" cy="160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463" y="19546"/>
                  </a:moveTo>
                  <a:arcTo wR="10800" hR="10800" stAng="7555594" swAng="4333824"/>
                  <a:lnTo>
                    <a:pt x="10800" y="10800"/>
                  </a:lnTo>
                  <a:close/>
                </a:path>
                <a:path fill="none" w="21600" h="21600">
                  <a:moveTo>
                    <a:pt x="4463" y="19546"/>
                  </a:moveTo>
                  <a:arcTo wR="10800" hR="10800" stAng="7555594" swAng="4333824"/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69280" y="4021200"/>
              <a:ext cx="1630080" cy="161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8" y="7434"/>
                  </a:moveTo>
                  <a:arcTo wR="10800" hR="10800" stAng="-9710581" swAng="4307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538" y="7434"/>
                  </a:moveTo>
                  <a:arcTo wR="10800" hR="10800" stAng="-9710581" swAng="4307292"/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676440" y="4400640"/>
            <a:ext cx="2085840" cy="1565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85880" y="925560"/>
            <a:ext cx="777240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CS has been building 3D simulations for DoD and Aviation Industries since 1997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CS developed a framework for the US Army that allows them to incorporate these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mulations into an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Advanced Distributed Learning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(ADL) Environmen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framework was developed through the Joint ADL Co-La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Using this technology, ADL simulations, tools and courseware are being developed to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rain and teach the National Guard Bureau’s Civil Support Teams for WMD, Comb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Medics at the AMEDD Center &amp; School at Fort Sam Houston and the Capitol Pol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t the Federal Law Enforcement Training Center (FLETC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Naval Education and Training Comman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is funding the development of tools and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apabilities for the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Open Source, Delta3D game engin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 These tools focus on track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tudent interactions inside the engine, translating these events into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levant assessmen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and communicating this to a SCORM conformant LM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089160"/>
            <a:ext cx="9144000" cy="3768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61960" y="558720"/>
            <a:ext cx="790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ting Simulations with SC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19000" y="1222200"/>
            <a:ext cx="6634440" cy="21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’s a Simul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ld include realistic 3D environments, characters and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ld also be any interactive application (i.e., software simul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are simulations being us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ivered in the classroom, on the web, Embedded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rtification and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61960" y="558720"/>
            <a:ext cx="790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o would use Simulations with SC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19000" y="1222200"/>
            <a:ext cx="6634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ili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po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ployee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-12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er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0" y="2717640"/>
            <a:ext cx="9144000" cy="414036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3913200" y="1130400"/>
            <a:ext cx="4906800" cy="2960640"/>
            <a:chOff x="3913200" y="1130400"/>
            <a:chExt cx="4906800" cy="2960640"/>
          </a:xfrm>
        </p:grpSpPr>
        <p:pic>
          <p:nvPicPr>
            <p:cNvPr id="74" name="" descr=""/>
            <p:cNvPicPr/>
            <p:nvPr/>
          </p:nvPicPr>
          <p:blipFill>
            <a:blip r:embed="rId10"/>
            <a:stretch/>
          </p:blipFill>
          <p:spPr>
            <a:xfrm>
              <a:off x="6437160" y="1130400"/>
              <a:ext cx="2382840" cy="29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11"/>
            <a:srcRect l="0" t="11993" r="0" b="30461"/>
            <a:stretch/>
          </p:blipFill>
          <p:spPr>
            <a:xfrm>
              <a:off x="4560840" y="1194120"/>
              <a:ext cx="1905120" cy="822240"/>
            </a:xfrm>
            <a:prstGeom prst="rect">
              <a:avLst/>
            </a:prstGeom>
            <a:ln w="63360">
              <a:solidFill>
                <a:srgbClr val="000000"/>
              </a:solidFill>
              <a:miter/>
            </a:ln>
          </p:spPr>
        </p:pic>
        <p:pic>
          <p:nvPicPr>
            <p:cNvPr id="76" name="" descr=""/>
            <p:cNvPicPr/>
            <p:nvPr/>
          </p:nvPicPr>
          <p:blipFill>
            <a:blip r:embed="rId12"/>
            <a:stretch/>
          </p:blipFill>
          <p:spPr>
            <a:xfrm>
              <a:off x="3913200" y="2095560"/>
              <a:ext cx="2575080" cy="1932120"/>
            </a:xfrm>
            <a:prstGeom prst="rect">
              <a:avLst/>
            </a:prstGeom>
            <a:ln w="63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61960" y="558720"/>
            <a:ext cx="790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9000" y="1111320"/>
            <a:ext cx="6634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are we really talking abou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unching a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cking “student/user” inter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lating interactions into training tasks and 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essing for successful completion of tasks and 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ng the results of this assessment through SC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84160" y="3029040"/>
            <a:ext cx="7513200" cy="3426840"/>
            <a:chOff x="884160" y="3029040"/>
            <a:chExt cx="7513200" cy="3426840"/>
          </a:xfrm>
        </p:grpSpPr>
        <p:grpSp>
          <p:nvGrpSpPr>
            <p:cNvPr id="80" name=""/>
            <p:cNvGrpSpPr/>
            <p:nvPr/>
          </p:nvGrpSpPr>
          <p:grpSpPr>
            <a:xfrm>
              <a:off x="884160" y="5895000"/>
              <a:ext cx="7494480" cy="560880"/>
              <a:chOff x="884160" y="5895000"/>
              <a:chExt cx="7494480" cy="560880"/>
            </a:xfrm>
          </p:grpSpPr>
          <p:pic>
            <p:nvPicPr>
              <p:cNvPr id="8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160" y="5895000"/>
                <a:ext cx="7494480" cy="560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" name=""/>
            <p:cNvGrpSpPr/>
            <p:nvPr/>
          </p:nvGrpSpPr>
          <p:grpSpPr>
            <a:xfrm>
              <a:off x="1005480" y="5316480"/>
              <a:ext cx="7369200" cy="581400"/>
              <a:chOff x="1005480" y="5316480"/>
              <a:chExt cx="7369200" cy="581400"/>
            </a:xfrm>
          </p:grpSpPr>
          <p:pic>
            <p:nvPicPr>
              <p:cNvPr id="8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480" y="5316480"/>
                <a:ext cx="7369200" cy="581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4" name=""/>
            <p:cNvGrpSpPr/>
            <p:nvPr/>
          </p:nvGrpSpPr>
          <p:grpSpPr>
            <a:xfrm>
              <a:off x="1335960" y="4746600"/>
              <a:ext cx="7061400" cy="598320"/>
              <a:chOff x="1335960" y="4746600"/>
              <a:chExt cx="7061400" cy="598320"/>
            </a:xfrm>
          </p:grpSpPr>
          <p:pic>
            <p:nvPicPr>
              <p:cNvPr id="8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335960" y="4746600"/>
                <a:ext cx="7061400" cy="598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"/>
            <p:cNvGrpSpPr/>
            <p:nvPr/>
          </p:nvGrpSpPr>
          <p:grpSpPr>
            <a:xfrm>
              <a:off x="1546200" y="4171680"/>
              <a:ext cx="6816960" cy="598320"/>
              <a:chOff x="1546200" y="4171680"/>
              <a:chExt cx="6816960" cy="598320"/>
            </a:xfrm>
          </p:grpSpPr>
          <p:pic>
            <p:nvPicPr>
              <p:cNvPr id="8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46200" y="4171680"/>
                <a:ext cx="6816960" cy="598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" name=""/>
            <p:cNvGrpSpPr/>
            <p:nvPr/>
          </p:nvGrpSpPr>
          <p:grpSpPr>
            <a:xfrm>
              <a:off x="1667880" y="3596760"/>
              <a:ext cx="6692760" cy="598320"/>
              <a:chOff x="1667880" y="3596760"/>
              <a:chExt cx="6692760" cy="598320"/>
            </a:xfrm>
          </p:grpSpPr>
          <p:pic>
            <p:nvPicPr>
              <p:cNvPr id="8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667880" y="3596760"/>
                <a:ext cx="6692760" cy="598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" name=""/>
            <p:cNvGrpSpPr/>
            <p:nvPr/>
          </p:nvGrpSpPr>
          <p:grpSpPr>
            <a:xfrm>
              <a:off x="2000880" y="3029040"/>
              <a:ext cx="6328800" cy="585720"/>
              <a:chOff x="2000880" y="3029040"/>
              <a:chExt cx="6328800" cy="585720"/>
            </a:xfrm>
          </p:grpSpPr>
          <p:pic>
            <p:nvPicPr>
              <p:cNvPr id="9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000880" y="3029040"/>
                <a:ext cx="6328800" cy="585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92" name="" descr=""/>
          <p:cNvPicPr/>
          <p:nvPr/>
        </p:nvPicPr>
        <p:blipFill>
          <a:blip r:embed="rId13"/>
          <a:stretch/>
        </p:blipFill>
        <p:spPr>
          <a:xfrm>
            <a:off x="7068960" y="5283360"/>
            <a:ext cx="1506600" cy="1130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4"/>
          <a:stretch/>
        </p:blipFill>
        <p:spPr>
          <a:xfrm>
            <a:off x="7077240" y="3051000"/>
            <a:ext cx="1492200" cy="113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5"/>
          <a:stretch/>
        </p:blipFill>
        <p:spPr>
          <a:xfrm>
            <a:off x="7070760" y="4179960"/>
            <a:ext cx="15048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61960" y="558720"/>
            <a:ext cx="790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unching an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19000" y="1222200"/>
            <a:ext cx="663444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ardless of your definition of a simulation, we need a method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unching an application outside of the web-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aging and Deployment should follow the “spirit” of SC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llation and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 / Policy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297160" y="2817720"/>
            <a:ext cx="42861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696960"/>
            <a:ext cx="82296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t the definition of a SCO, the training simulation must have a web-page “front-en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-page will contain link to launch the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ion may run in a separate “player”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initial launch, all application executables, data, and pre-requisites are downloaded and cached locally on user’s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allation must be as seamless as possible for the user (similar to a java appl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ce downloaded, simulation assets remain cached on local machine for quick launching on subsequent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assets remain hidden from user when offline (if desi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updates itself automatically when new version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628560"/>
            <a:ext cx="822960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ility to pre-install the application via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es user from large initial download (hundreds of M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s are still updated from the web (new ver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break with strict SCORM/LMS web-based philosophy, but may be more practical over slower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technologies that facilitate above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Web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loads and manages Java applications and resources into a cache managed by the Java 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run native code from within Java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-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soft Click-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 of .Net Framework 2.0 and Visual Studio 2005 (Nov. ’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loads and manages C# &amp; VB.Net applications and resources into local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run native code from within C#/VB.Net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61960" y="558720"/>
            <a:ext cx="790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acking Student/Use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9000" y="1222200"/>
            <a:ext cx="773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RM deals with Objectives, and is not able to track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need to capture events and turn them into relevant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does assessment take pla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the simulation?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the LMS?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a separate “assessment module” ?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21:06Z</dcterms:created>
  <dc:creator>Brent</dc:creator>
  <dc:description/>
  <dc:language>en-US</dc:language>
  <cp:lastModifiedBy>Preferred Customer</cp:lastModifiedBy>
  <dcterms:modified xsi:type="dcterms:W3CDTF">2006-02-03T14:48:03Z</dcterms:modified>
  <cp:revision>153</cp:revision>
  <dc:subject/>
  <dc:title>Slide 1</dc:title>
</cp:coreProperties>
</file>