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6909-F828-48A7-A52F-E03AB4B29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6898-9A38-4E0A-AC3D-CA24910E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0EED-8F6A-4E5D-8F76-EB0B3E99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ADEA-292A-4C8A-8BBA-CFBC1E85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B8CF-3A15-47F0-9AB7-FB231255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BA58-7FDA-4F21-A556-FB76A466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8A90-D944-4A4C-8AA5-0C3FE76C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88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AE36-4F85-4B25-AC2C-11603E8D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4F61-9BF4-41C7-8BD2-6B821A89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A22A-C936-465F-AA28-5E72D177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0E07-4D97-4C26-A3C3-9748C71BC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F57D-EEF0-4976-8C0A-C9AB3A933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390600" cy="54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3c3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12920" y="135000"/>
            <a:ext cx="8731080" cy="274680"/>
          </a:xfrm>
          <a:prstGeom prst="rect">
            <a:avLst/>
          </a:prstGeom>
          <a:gradFill rotWithShape="0">
            <a:gsLst>
              <a:gs pos="0">
                <a:srgbClr val="6b89bc"/>
              </a:gs>
              <a:gs pos="100000">
                <a:srgbClr val="0b3d9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09680" y="135000"/>
            <a:ext cx="137880" cy="141120"/>
          </a:xfrm>
          <a:prstGeom prst="rect">
            <a:avLst/>
          </a:prstGeom>
          <a:solidFill>
            <a:srgbClr val="b3c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47560" y="0"/>
            <a:ext cx="139680" cy="138240"/>
          </a:xfrm>
          <a:prstGeom prst="rect">
            <a:avLst/>
          </a:prstGeom>
          <a:solidFill>
            <a:srgbClr val="b3c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47560" y="135000"/>
            <a:ext cx="139680" cy="141120"/>
          </a:xfrm>
          <a:prstGeom prst="rect">
            <a:avLst/>
          </a:prstGeom>
          <a:solidFill>
            <a:srgbClr val="6b8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74680" y="274680"/>
            <a:ext cx="136440" cy="138240"/>
          </a:xfrm>
          <a:prstGeom prst="rect">
            <a:avLst/>
          </a:prstGeom>
          <a:solidFill>
            <a:srgbClr val="b3c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1760" y="136440"/>
            <a:ext cx="141120" cy="138240"/>
          </a:xfrm>
          <a:prstGeom prst="rect">
            <a:avLst/>
          </a:prstGeom>
          <a:solidFill>
            <a:srgbClr val="0b3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09680" y="271440"/>
            <a:ext cx="137880" cy="138240"/>
          </a:xfrm>
          <a:prstGeom prst="rect">
            <a:avLst/>
          </a:prstGeom>
          <a:solidFill>
            <a:srgbClr val="6b8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74680" y="409680"/>
            <a:ext cx="136440" cy="136440"/>
          </a:xfrm>
          <a:prstGeom prst="rect">
            <a:avLst/>
          </a:prstGeom>
          <a:solidFill>
            <a:srgbClr val="6b8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d91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751"/>
              </a:spcBef>
              <a:spcAft>
                <a:spcPts val="751"/>
              </a:spcAft>
              <a:buClr>
                <a:srgbClr val="0b3d9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spcBef>
                <a:spcPts val="751"/>
              </a:spcBef>
              <a:spcAft>
                <a:spcPts val="751"/>
              </a:spcAft>
              <a:buClr>
                <a:srgbClr val="305ba2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2480" indent="-169920">
              <a:spcBef>
                <a:spcPts val="751"/>
              </a:spcBef>
              <a:spcAft>
                <a:spcPts val="751"/>
              </a:spcAft>
              <a:buClr>
                <a:srgbClr val="0b3d91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35080" indent="-168120">
              <a:spcBef>
                <a:spcPts val="751"/>
              </a:spcBef>
              <a:spcAft>
                <a:spcPts val="751"/>
              </a:spcAft>
              <a:buClr>
                <a:srgbClr val="0b3d91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65120" indent="-115920">
              <a:spcBef>
                <a:spcPts val="751"/>
              </a:spcBef>
              <a:spcAft>
                <a:spcPts val="751"/>
              </a:spcAft>
              <a:buClr>
                <a:srgbClr val="0b3d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65120" indent="-11592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65120" indent="-11592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6172200" y="6553080"/>
            <a:ext cx="259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b89bc"/>
                </a:solidFill>
                <a:latin typeface="Arial"/>
              </a:rPr>
              <a:t>03.02.2006                     </a:t>
            </a:r>
            <a:fld id="{E0E90F85-CF74-4B4D-9029-3559CBB76241}" type="slidenum">
              <a:rPr b="0" lang="en-US" sz="1000" spc="-1" strike="noStrike">
                <a:solidFill>
                  <a:srgbClr val="6b89b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482760" y="6421320"/>
            <a:ext cx="8226360" cy="74880"/>
          </a:xfrm>
          <a:prstGeom prst="rect">
            <a:avLst/>
          </a:prstGeom>
          <a:gradFill rotWithShape="0">
            <a:gsLst>
              <a:gs pos="0">
                <a:srgbClr val="0b3d91"/>
              </a:gs>
              <a:gs pos="50000">
                <a:srgbClr val="6b89bc"/>
              </a:gs>
              <a:gs pos="100000">
                <a:srgbClr val="0b3d9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62600" y="6553080"/>
            <a:ext cx="264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b89bc"/>
                </a:solidFill>
                <a:latin typeface="Verdana"/>
              </a:rPr>
              <a:t>©</a:t>
            </a:r>
            <a:r>
              <a:rPr b="1" lang="en-US" sz="1400" spc="-1" strike="noStrike">
                <a:solidFill>
                  <a:srgbClr val="6b89bc"/>
                </a:solidFill>
                <a:latin typeface="Arial"/>
              </a:rPr>
              <a:t> Intelligent Automation,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2"/>
          <a:stretch/>
        </p:blipFill>
        <p:spPr>
          <a:xfrm>
            <a:off x="4191120" y="6324480"/>
            <a:ext cx="990360" cy="3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3c3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0" y="1066680"/>
            <a:ext cx="2209680" cy="2742840"/>
            <a:chOff x="0" y="1066680"/>
            <a:chExt cx="2209680" cy="2742840"/>
          </a:xfrm>
        </p:grpSpPr>
        <p:sp>
          <p:nvSpPr>
            <p:cNvPr id="53" name=""/>
            <p:cNvSpPr/>
            <p:nvPr/>
          </p:nvSpPr>
          <p:spPr>
            <a:xfrm>
              <a:off x="441720" y="3252600"/>
              <a:ext cx="443880" cy="556920"/>
            </a:xfrm>
            <a:prstGeom prst="rect">
              <a:avLst/>
            </a:prstGeom>
            <a:solidFill>
              <a:srgbClr val="6b89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22640" y="1608480"/>
              <a:ext cx="442800" cy="558360"/>
            </a:xfrm>
            <a:prstGeom prst="rect">
              <a:avLst/>
            </a:prstGeom>
            <a:solidFill>
              <a:srgbClr val="b3c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58240" y="1066680"/>
              <a:ext cx="451440" cy="551520"/>
            </a:xfrm>
            <a:prstGeom prst="rect">
              <a:avLst/>
            </a:prstGeom>
            <a:solidFill>
              <a:srgbClr val="b3c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79840" y="3252600"/>
              <a:ext cx="450000" cy="556920"/>
            </a:xfrm>
            <a:prstGeom prst="rect">
              <a:avLst/>
            </a:prstGeom>
            <a:solidFill>
              <a:srgbClr val="0b3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758240" y="1608480"/>
              <a:ext cx="451440" cy="558360"/>
            </a:xfrm>
            <a:prstGeom prst="rect">
              <a:avLst/>
            </a:prstGeom>
            <a:solidFill>
              <a:srgbClr val="6b89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79840" y="2158920"/>
              <a:ext cx="450000" cy="550080"/>
            </a:xfrm>
            <a:prstGeom prst="rect">
              <a:avLst/>
            </a:prstGeom>
            <a:solidFill>
              <a:srgbClr val="b3c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2158920"/>
              <a:ext cx="448920" cy="550080"/>
            </a:xfrm>
            <a:prstGeom prst="rect">
              <a:avLst/>
            </a:prstGeom>
            <a:solidFill>
              <a:srgbClr val="0b3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22640" y="2158920"/>
              <a:ext cx="442800" cy="550080"/>
            </a:xfrm>
            <a:prstGeom prst="rect">
              <a:avLst/>
            </a:prstGeom>
            <a:solidFill>
              <a:srgbClr val="6b89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720" y="2701080"/>
              <a:ext cx="443880" cy="559800"/>
            </a:xfrm>
            <a:prstGeom prst="rect">
              <a:avLst/>
            </a:prstGeom>
            <a:solidFill>
              <a:srgbClr val="b3c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79840" y="2701080"/>
              <a:ext cx="450000" cy="559800"/>
            </a:xfrm>
            <a:prstGeom prst="rect">
              <a:avLst/>
            </a:prstGeom>
            <a:solidFill>
              <a:srgbClr val="6b89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7565-7F82-4850-8F30-C2F1DDCF9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06800" y="1562040"/>
            <a:ext cx="558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50920" y="1785600"/>
            <a:ext cx="550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84960" y="6497640"/>
            <a:ext cx="143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b89bc"/>
                </a:solidFill>
                <a:latin typeface="Arial"/>
              </a:rPr>
              <a:t>  </a:t>
            </a:r>
            <a:fld id="{D64BDC9C-C497-41C6-AA3F-C61E55097F81}" type="slidenum">
              <a:rPr b="0" lang="en-US" sz="1000" spc="-1" strike="noStrike">
                <a:solidFill>
                  <a:srgbClr val="6b89b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45360"/>
            <a:ext cx="8226360" cy="74520"/>
          </a:xfrm>
          <a:prstGeom prst="rect">
            <a:avLst/>
          </a:prstGeom>
          <a:gradFill rotWithShape="0">
            <a:gsLst>
              <a:gs pos="0">
                <a:srgbClr val="0b3d91"/>
              </a:gs>
              <a:gs pos="50000">
                <a:srgbClr val="6b89bc"/>
              </a:gs>
              <a:gs pos="100000">
                <a:srgbClr val="0b3d9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4800" y="6477120"/>
            <a:ext cx="246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b89bc"/>
                </a:solidFill>
                <a:latin typeface="Arial"/>
              </a:rPr>
              <a:t>Intelligent Automation,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165560" y="6248520"/>
            <a:ext cx="990720" cy="3175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0" algn="ctr"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2560" algn="ctr">
              <a:spcBef>
                <a:spcPts val="400"/>
              </a:spcBef>
              <a:buClr>
                <a:srgbClr val="0b3d91"/>
              </a:buClr>
              <a:buSzPct val="7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966960" algn="ctr">
              <a:spcBef>
                <a:spcPts val="349"/>
              </a:spcBef>
              <a:buClr>
                <a:srgbClr val="0b3d91"/>
              </a:buClr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249200" algn="ctr">
              <a:spcBef>
                <a:spcPts val="300"/>
              </a:spcBef>
              <a:buClr>
                <a:srgbClr val="0b3d9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2492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2492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haynes@i-a-i.com" TargetMode="External"/><Relationship Id="rId2" Type="http://schemas.openxmlformats.org/officeDocument/2006/relationships/hyperlink" Target="mailto:obukai@i-a-i.com" TargetMode="External"/><Relationship Id="rId3" Type="http://schemas.openxmlformats.org/officeDocument/2006/relationships/hyperlink" Target="http://www.sisostds.org/" TargetMode="External"/><Relationship Id="rId4" Type="http://schemas.openxmlformats.org/officeDocument/2006/relationships/hyperlink" Target="http://ieeeltsc.org/" TargetMode="External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Position paper regarding interfacing SCORM and simulation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981080" y="1752120"/>
            <a:ext cx="60962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. Jacqueline Haynes </a:t>
            </a:r>
            <a:r>
              <a:rPr b="0" lang="en-US" sz="1400" spc="-1" strike="noStrike" u="sng">
                <a:solidFill>
                  <a:srgbClr val="0b3d91"/>
                </a:solidFill>
                <a:uFillTx/>
                <a:latin typeface="Arial"/>
                <a:hlinkClick r:id="rId1"/>
              </a:rPr>
              <a:t>jhaynes@i-a-i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r. Ohad Bukai </a:t>
            </a:r>
            <a:r>
              <a:rPr b="0" lang="en-US" sz="1400" spc="-1" strike="noStrike" u="sng">
                <a:solidFill>
                  <a:srgbClr val="0b3d91"/>
                </a:solidFill>
                <a:uFillTx/>
                <a:latin typeface="Arial"/>
                <a:hlinkClick r:id="rId2"/>
              </a:rPr>
              <a:t>obukai@i-a-i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telligent Automation,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400 Calhoun Drive, Suite 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ckville, MD 208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3300"/>
                </a:solidFill>
                <a:uFillTx/>
                <a:latin typeface="Arial"/>
              </a:rPr>
              <a:t>http://www.i-a-i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sentation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Simulation Interoperability Standards Organizatio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ndards Activity Committee (</a:t>
            </a:r>
            <a:r>
              <a:rPr b="0" lang="en-US" sz="1100" spc="-1" strike="noStrike" u="sng">
                <a:solidFill>
                  <a:srgbClr val="0b3d91"/>
                </a:solidFill>
                <a:uFillTx/>
                <a:latin typeface="Arial"/>
                <a:ea typeface="ＭＳ Ｐゴシック"/>
                <a:hlinkClick r:id="rId3"/>
              </a:rPr>
              <a:t>SISO SA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Learning Technology Standards Committee (</a:t>
            </a:r>
            <a:r>
              <a:rPr b="0" lang="en-US" sz="1100" spc="-1" strike="noStrike" u="sng">
                <a:solidFill>
                  <a:srgbClr val="0b3d91"/>
                </a:solidFill>
                <a:uFillTx/>
                <a:latin typeface="Arial"/>
                <a:ea typeface="ＭＳ Ｐゴシック"/>
                <a:hlinkClick r:id="rId4"/>
              </a:rPr>
              <a:t>LTS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,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/02/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5638680"/>
            <a:ext cx="8458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 information contained herein, except as identified below, is proprietary to Intelligent Automation, Inc. and may not be disclosed to third parties without the written permission of Intelligent Autom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d91"/>
                </a:solidFill>
                <a:latin typeface="Arial"/>
              </a:rPr>
              <a:t>Questions to be addressed:</a:t>
            </a: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233360" indent="-266400">
              <a:spcBef>
                <a:spcPts val="400"/>
              </a:spcBef>
              <a:buClr>
                <a:srgbClr val="0b3d9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required for a simulation experience ,delivered over SCORM platform, to provide a pedagogically effective training experienc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33360" indent="-266400">
              <a:spcBef>
                <a:spcPts val="400"/>
              </a:spcBef>
              <a:buClr>
                <a:srgbClr val="0b3d9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technical solution will provide a flexible portable platform to deliver that experien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33360" indent="-266400">
              <a:spcBef>
                <a:spcPts val="400"/>
              </a:spcBef>
              <a:buClr>
                <a:srgbClr val="0b3d9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can we manage or formalize the involvement of the “human in the loop” without compromising the similarity / repeatability of simulation experie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33360" indent="-266400">
              <a:spcBef>
                <a:spcPts val="400"/>
              </a:spcBef>
              <a:buClr>
                <a:srgbClr val="0b3d9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can SCORM evolve / be used to enable team collaboration through simulation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d91"/>
                </a:solidFill>
                <a:latin typeface="Arial"/>
              </a:rPr>
              <a:t>The proposed simulation experience</a:t>
            </a:r>
            <a:r>
              <a:rPr b="1" lang="en-US" sz="2800" spc="-1" strike="noStrike">
                <a:solidFill>
                  <a:srgbClr val="0b3d91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51"/>
              </a:spcBef>
              <a:spcAft>
                <a:spcPts val="751"/>
              </a:spcAft>
              <a:buClr>
                <a:srgbClr val="0b3d9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’s are the building blocks of simulation experience. Every new SCO represent a new competency, knowledge, or complexity, instructionally distinct stage in the intera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51"/>
              </a:spcBef>
              <a:spcAft>
                <a:spcPts val="751"/>
              </a:spcAft>
              <a:buClr>
                <a:srgbClr val="0b3d9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rol over a simulation progress should be done in two leve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level events and entities should be managed by the simulation without interference or control from SCORM /LMS. Instructionally meaningful stages should be encapsulated in a SCO and scripted according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The simulation experience should be persistent across SCOS. A solution should overcome page flipping and any requirement to unload and reload the simul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d91"/>
                </a:solidFill>
                <a:latin typeface="Arial"/>
              </a:rPr>
              <a:t>Technical solution </a:t>
            </a: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b3d9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server simulation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b3d9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or stand alone client side executab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b3d9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or thin clients and downloaded client co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b3d9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wser client plug-in to implement a common link between browser and simulation client. Plug-in should suppor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b3d9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rience of persistency across SCO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b3d9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of loading, starting stopping of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b3d9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way to increment simulation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b3d91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based API to control the plug-in through standard tags in the HTML pag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648320" y="1371600"/>
          <a:ext cx="4038480" cy="49338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49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9" name=""/>
          <p:cNvGrpSpPr/>
          <p:nvPr/>
        </p:nvGrpSpPr>
        <p:grpSpPr>
          <a:xfrm>
            <a:off x="4758120" y="1954080"/>
            <a:ext cx="3647880" cy="2001240"/>
            <a:chOff x="4758120" y="1954080"/>
            <a:chExt cx="3647880" cy="2001240"/>
          </a:xfrm>
        </p:grpSpPr>
        <p:sp>
          <p:nvSpPr>
            <p:cNvPr id="120" name=""/>
            <p:cNvSpPr/>
            <p:nvPr/>
          </p:nvSpPr>
          <p:spPr>
            <a:xfrm>
              <a:off x="4758120" y="1954080"/>
              <a:ext cx="1647360" cy="200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ver mach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10920" y="2307240"/>
              <a:ext cx="941400" cy="47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mulati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29000" y="3248640"/>
              <a:ext cx="941400" cy="35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994080" y="1954080"/>
              <a:ext cx="1411920" cy="200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ent mach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347240" y="3013920"/>
              <a:ext cx="94140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ug - 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47240" y="2307240"/>
              <a:ext cx="941400" cy="46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mul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7240" y="3484800"/>
              <a:ext cx="941400" cy="35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row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7818120" y="3367080"/>
              <a:ext cx="360" cy="11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7818120" y="2777760"/>
              <a:ext cx="360" cy="23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121" idx="3"/>
              <a:endCxn id="125" idx="1"/>
            </p:cNvCxnSpPr>
            <p:nvPr/>
          </p:nvCxnSpPr>
          <p:spPr>
            <a:xfrm flipV="1">
              <a:off x="6052680" y="2541600"/>
              <a:ext cx="1295280" cy="1080"/>
            </a:xfrm>
            <a:prstGeom prst="bentConnector3">
              <a:avLst>
                <a:gd name="adj1" fmla="val 49986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0" name=""/>
            <p:cNvCxnSpPr>
              <a:stCxn id="122" idx="3"/>
              <a:endCxn id="126" idx="1"/>
            </p:cNvCxnSpPr>
            <p:nvPr/>
          </p:nvCxnSpPr>
          <p:spPr>
            <a:xfrm>
              <a:off x="6170040" y="3424680"/>
              <a:ext cx="1177560" cy="237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d91"/>
                </a:solidFill>
                <a:latin typeface="Arial"/>
              </a:rPr>
              <a:t>Conflicting controllers issues</a:t>
            </a: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51"/>
              </a:spcBef>
              <a:spcAft>
                <a:spcPts val="751"/>
              </a:spcAft>
              <a:buClr>
                <a:srgbClr val="0b3d9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time external entities as human in the loop coach and other “players” in a distributed simulation can affect the simulation experience and compete with the scripted static flow stored in the SCORM metada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51"/>
              </a:spcBef>
              <a:spcAft>
                <a:spcPts val="751"/>
              </a:spcAft>
              <a:buClr>
                <a:srgbClr val="0b3d9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an have adverse affect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51"/>
              </a:spcBef>
              <a:spcAft>
                <a:spcPts val="751"/>
              </a:spcAft>
              <a:buClr>
                <a:srgbClr val="0b3d9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“intruders” can be unsynchronized with the instructional goals designed in the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51"/>
              </a:spcBef>
              <a:spcAft>
                <a:spcPts val="751"/>
              </a:spcAft>
              <a:buClr>
                <a:srgbClr val="0b3d9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onflicts with the repeatability of the same experience across different students, and may interfere with uniform reporting and assess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We propose a formal “Task grid” as an “agreement” regarding responsibility allocation between static script (SCORM), and dynamic intervention (distributed simulation / human in the loop)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d91"/>
                </a:solidFill>
                <a:latin typeface="Arial"/>
              </a:rPr>
              <a:t>Team environment issues</a:t>
            </a: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751"/>
              </a:spcBef>
              <a:spcAft>
                <a:spcPts val="751"/>
              </a:spcAft>
              <a:buClr>
                <a:srgbClr val="0b3d9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introduction of simulation, SCORM  has to address learning interactions that involves te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751"/>
              </a:spcBef>
              <a:spcAft>
                <a:spcPts val="751"/>
              </a:spcAft>
              <a:buClr>
                <a:srgbClr val="0b3d9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RM will have to provide infrastructure to manage teams, team activities, and scheduling of intera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751"/>
              </a:spcBef>
              <a:spcAft>
                <a:spcPts val="751"/>
              </a:spcAft>
              <a:buClr>
                <a:srgbClr val="0b3d9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ion of team oriented grading concepts to SC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751"/>
              </a:spcBef>
              <a:spcAft>
                <a:spcPts val="751"/>
              </a:spcAft>
              <a:buClr>
                <a:srgbClr val="0b3d9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hering and scheduling – unlike stand alone SCORM interaction, for teams, learning on demand requires a facility to gather participants at a dedicated tim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d91"/>
                </a:solidFill>
                <a:latin typeface="Arial"/>
              </a:rPr>
              <a:t>Integrating simulation with instruction</a:t>
            </a:r>
            <a:endParaRPr b="1" lang="en-US" sz="2800" spc="-1" strike="noStrike">
              <a:solidFill>
                <a:srgbClr val="0b3d9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675"/>
              </a:spcBef>
              <a:spcAft>
                <a:spcPts val="675"/>
              </a:spcAft>
              <a:buClr>
                <a:srgbClr val="0b3d9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of SCORM and simulation should allow synchronization of the simulation with other type of instruction to enrich the experie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20:50:46Z</dcterms:created>
  <dc:creator>IAI</dc:creator>
  <dc:description/>
  <dc:language>en-US</dc:language>
  <cp:lastModifiedBy>Administrator</cp:lastModifiedBy>
  <dcterms:modified xsi:type="dcterms:W3CDTF">2006-02-01T18:25:12Z</dcterms:modified>
  <cp:revision>4</cp:revision>
  <dc:subject/>
  <dc:title>Position paper regarding interfacing scorm and simulation </dc:title>
</cp:coreProperties>
</file>